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7.wmf" ContentType="image/x-wmf"/>
  <Override PartName="/ppt/media/image1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4.jpeg" ContentType="image/jpeg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3.jpeg" ContentType="image/jpeg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78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79.wmf" ContentType="image/x-wmf"/>
  <Override PartName="/ppt/media/image28.wmf" ContentType="image/x-wmf"/>
  <Override PartName="/ppt/media/image93.wmf" ContentType="image/x-wmf"/>
  <Override PartName="/ppt/media/image14.wmf" ContentType="image/x-wmf"/>
  <Override PartName="/ppt/media/image92.wmf" ContentType="image/x-wmf"/>
  <Override PartName="/ppt/media/image27.wmf" ContentType="image/x-wmf"/>
  <Override PartName="/ppt/media/image91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7.wmf" ContentType="image/x-wmf"/>
  <Override PartName="/ppt/media/image82.wmf" ContentType="image/x-wmf"/>
  <Override PartName="/ppt/media/image16.wmf" ContentType="image/x-wmf"/>
  <Override PartName="/ppt/media/image81.wmf" ContentType="image/x-wmf"/>
  <Override PartName="/ppt/media/image15.wmf" ContentType="image/x-wmf"/>
  <Override PartName="/ppt/media/image80.wmf" ContentType="image/x-wmf"/>
  <Override PartName="/ppt/media/image25.wmf" ContentType="image/x-wmf"/>
  <Override PartName="/ppt/media/image9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1F2-94F1-432E-992B-AA5FD27C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EC1-8E63-4EEF-9445-981D7B5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3B4-6CD2-4D78-B39F-4BB29BD3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D11-8E50-41A0-8CC2-0B4420BB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0E5-A077-46D3-BD09-38D55096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756-B645-4269-BA62-0AF4837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72E-AB47-4666-8ECF-6FF51400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23C-11EF-44E6-8DA8-75B5C604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BF5-9634-4E88-9B66-9741BE32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1AD-F5C3-4168-A67A-50C8C9E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556-9827-4A01-9312-EDA05B2F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8A1-663B-467A-95F8-E5BE249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B222-1706-4A2C-BF4A-0835CFF0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6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1.wmf"/><Relationship Id="rId4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7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89.wmf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7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99.wmf"/><Relationship Id="rId4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3.wmf"/><Relationship Id="rId4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wmf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295280" y="243828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1.2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函数的极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7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8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533520" y="609480"/>
            <a:ext cx="822960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当  无限接近  ，即     （  可以不等于  ）时，函数    无限接近于一个确定的常数  ，那么  就叫作函数    当       时的极限，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当      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2592360" y="695160"/>
          <a:ext cx="3556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695160"/>
                    <a:ext cx="3556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6076800" y="1933560"/>
          <a:ext cx="14018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6800" y="1933560"/>
                    <a:ext cx="1401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7"/>
          <p:cNvGraphicFramePr/>
          <p:nvPr/>
        </p:nvGraphicFramePr>
        <p:xfrm>
          <a:off x="4146480" y="552600"/>
          <a:ext cx="42552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6480" y="552600"/>
                    <a:ext cx="4255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8"/>
          <p:cNvGraphicFramePr/>
          <p:nvPr/>
        </p:nvGraphicFramePr>
        <p:xfrm>
          <a:off x="5029200" y="590400"/>
          <a:ext cx="1052640" cy="5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590400"/>
                    <a:ext cx="10526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9"/>
          <p:cNvGraphicFramePr/>
          <p:nvPr/>
        </p:nvGraphicFramePr>
        <p:xfrm>
          <a:off x="6143760" y="685800"/>
          <a:ext cx="3553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43760" y="685800"/>
                    <a:ext cx="355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0"/>
          <p:cNvGraphicFramePr/>
          <p:nvPr/>
        </p:nvGraphicFramePr>
        <p:xfrm>
          <a:off x="7934400" y="542880"/>
          <a:ext cx="425520" cy="59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34400" y="542880"/>
                    <a:ext cx="425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11"/>
          <p:cNvGraphicFramePr/>
          <p:nvPr/>
        </p:nvGraphicFramePr>
        <p:xfrm>
          <a:off x="1828800" y="1028880"/>
          <a:ext cx="685800" cy="40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1028880"/>
                    <a:ext cx="685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2"/>
          <p:cNvGraphicFramePr/>
          <p:nvPr/>
        </p:nvGraphicFramePr>
        <p:xfrm>
          <a:off x="6095880" y="1047600"/>
          <a:ext cx="314280" cy="33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1047600"/>
                    <a:ext cx="31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3"/>
          <p:cNvGraphicFramePr/>
          <p:nvPr/>
        </p:nvGraphicFramePr>
        <p:xfrm>
          <a:off x="7353360" y="1047600"/>
          <a:ext cx="314280" cy="338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0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53360" y="1047600"/>
                    <a:ext cx="31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4"/>
          <p:cNvGraphicFramePr/>
          <p:nvPr/>
        </p:nvGraphicFramePr>
        <p:xfrm>
          <a:off x="1209600" y="1390680"/>
          <a:ext cx="685800" cy="40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09600" y="1390680"/>
                    <a:ext cx="685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6"/>
          <p:cNvGraphicFramePr/>
          <p:nvPr/>
        </p:nvGraphicFramePr>
        <p:xfrm>
          <a:off x="2190600" y="1324080"/>
          <a:ext cx="1052640" cy="525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90600" y="1324080"/>
                    <a:ext cx="10526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7"/>
          <p:cNvGraphicFramePr/>
          <p:nvPr/>
        </p:nvGraphicFramePr>
        <p:xfrm>
          <a:off x="2590920" y="1924200"/>
          <a:ext cx="1676160" cy="577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6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1924200"/>
                    <a:ext cx="16761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8"/>
          <p:cNvGraphicFramePr/>
          <p:nvPr/>
        </p:nvGraphicFramePr>
        <p:xfrm>
          <a:off x="4848120" y="1857240"/>
          <a:ext cx="1052640" cy="525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8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848120" y="1857240"/>
                    <a:ext cx="10526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9"/>
          <p:cNvSpPr/>
          <p:nvPr/>
        </p:nvSpPr>
        <p:spPr>
          <a:xfrm>
            <a:off x="533520" y="3581280"/>
            <a:ext cx="8229600" cy="1937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对于任意给定的正数  总存在一个正数  ，使得：当            时，             恒成立，则称为当     趋于   时，函数   以常数  为极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记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20"/>
          <p:cNvGraphicFramePr/>
          <p:nvPr/>
        </p:nvGraphicFramePr>
        <p:xfrm>
          <a:off x="7534440" y="3638520"/>
          <a:ext cx="306360" cy="387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1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34440" y="3638520"/>
                    <a:ext cx="306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21"/>
          <p:cNvGraphicFramePr/>
          <p:nvPr/>
        </p:nvGraphicFramePr>
        <p:xfrm>
          <a:off x="5076720" y="3705120"/>
          <a:ext cx="277920" cy="304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3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076720" y="3705120"/>
                    <a:ext cx="277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22"/>
          <p:cNvGraphicFramePr/>
          <p:nvPr/>
        </p:nvGraphicFramePr>
        <p:xfrm>
          <a:off x="4467240" y="4867200"/>
          <a:ext cx="2611440" cy="500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5" name="Object 2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467240" y="4867200"/>
                    <a:ext cx="2611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3"/>
          <p:cNvGraphicFramePr/>
          <p:nvPr/>
        </p:nvGraphicFramePr>
        <p:xfrm>
          <a:off x="1562040" y="4000680"/>
          <a:ext cx="1828800" cy="469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7" name="Object 2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562040" y="4000680"/>
                    <a:ext cx="1828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4"/>
          <p:cNvGraphicFramePr/>
          <p:nvPr/>
        </p:nvGraphicFramePr>
        <p:xfrm>
          <a:off x="3848040" y="4029120"/>
          <a:ext cx="2133720" cy="404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9" name="Object 2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848040" y="4029120"/>
                    <a:ext cx="21337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5"/>
          <p:cNvGraphicFramePr/>
          <p:nvPr/>
        </p:nvGraphicFramePr>
        <p:xfrm>
          <a:off x="8420040" y="4076640"/>
          <a:ext cx="277920" cy="304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1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420040" y="4076640"/>
                    <a:ext cx="277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26"/>
          <p:cNvGraphicFramePr/>
          <p:nvPr/>
        </p:nvGraphicFramePr>
        <p:xfrm>
          <a:off x="1295280" y="4295880"/>
          <a:ext cx="360360" cy="5000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3" name="Object 2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295280" y="4295880"/>
                    <a:ext cx="360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27"/>
          <p:cNvGraphicFramePr/>
          <p:nvPr/>
        </p:nvGraphicFramePr>
        <p:xfrm>
          <a:off x="2847960" y="4390920"/>
          <a:ext cx="617400" cy="363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5" name="Object 2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847960" y="4390920"/>
                    <a:ext cx="6174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28"/>
          <p:cNvGraphicFramePr/>
          <p:nvPr/>
        </p:nvGraphicFramePr>
        <p:xfrm>
          <a:off x="4305240" y="4371840"/>
          <a:ext cx="306360" cy="3319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7" name="Object 28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305240" y="4371840"/>
                    <a:ext cx="30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9"/>
          <p:cNvGraphicFramePr/>
          <p:nvPr/>
        </p:nvGraphicFramePr>
        <p:xfrm>
          <a:off x="2362320" y="4886280"/>
          <a:ext cx="1833480" cy="63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Object 29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362320" y="4886280"/>
                    <a:ext cx="1833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3"/>
          <p:cNvGrpSpPr/>
          <p:nvPr/>
        </p:nvGrpSpPr>
        <p:grpSpPr>
          <a:xfrm>
            <a:off x="914400" y="1523880"/>
            <a:ext cx="6781320" cy="3155760"/>
            <a:chOff x="914400" y="1523880"/>
            <a:chExt cx="6781320" cy="3155760"/>
          </a:xfrm>
        </p:grpSpPr>
        <p:sp>
          <p:nvSpPr>
            <p:cNvPr id="252" name="Text Box 4"/>
            <p:cNvSpPr/>
            <p:nvPr/>
          </p:nvSpPr>
          <p:spPr>
            <a:xfrm>
              <a:off x="914400" y="1542960"/>
              <a:ext cx="2819160" cy="459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例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4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求      的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3" name="Object 5"/>
            <p:cNvGraphicFramePr/>
            <p:nvPr/>
          </p:nvGraphicFramePr>
          <p:xfrm>
            <a:off x="1933200" y="1523880"/>
            <a:ext cx="838080" cy="5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3200" y="1523880"/>
                      <a:ext cx="83808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5" name="Text Box 6"/>
            <p:cNvSpPr/>
            <p:nvPr/>
          </p:nvSpPr>
          <p:spPr>
            <a:xfrm>
              <a:off x="914400" y="2838240"/>
              <a:ext cx="4876560" cy="459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例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求        和        的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6" name="Object 7"/>
            <p:cNvGraphicFramePr/>
            <p:nvPr/>
          </p:nvGraphicFramePr>
          <p:xfrm>
            <a:off x="1933200" y="2828880"/>
            <a:ext cx="1110960" cy="56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7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3200" y="2828880"/>
                      <a:ext cx="111096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8"/>
            <p:cNvGraphicFramePr/>
            <p:nvPr/>
          </p:nvGraphicFramePr>
          <p:xfrm>
            <a:off x="3495600" y="2838240"/>
            <a:ext cx="1161360" cy="568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9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5600" y="2838240"/>
                      <a:ext cx="116136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Text Box 9"/>
            <p:cNvSpPr/>
            <p:nvPr/>
          </p:nvSpPr>
          <p:spPr>
            <a:xfrm>
              <a:off x="990360" y="4057560"/>
              <a:ext cx="6705360" cy="459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例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考察极限      （  为常数）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Object 10"/>
            <p:cNvGraphicFramePr/>
            <p:nvPr/>
          </p:nvGraphicFramePr>
          <p:xfrm>
            <a:off x="2971440" y="4066920"/>
            <a:ext cx="801360" cy="59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2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71440" y="4066920"/>
                      <a:ext cx="80136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11"/>
            <p:cNvGraphicFramePr/>
            <p:nvPr/>
          </p:nvGraphicFramePr>
          <p:xfrm>
            <a:off x="4162320" y="4124160"/>
            <a:ext cx="309240" cy="361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4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62320" y="4124160"/>
                      <a:ext cx="30924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2"/>
            <p:cNvGraphicFramePr/>
            <p:nvPr/>
          </p:nvGraphicFramePr>
          <p:xfrm>
            <a:off x="6019560" y="4086000"/>
            <a:ext cx="750600" cy="593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6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19560" y="4086000"/>
                      <a:ext cx="7506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45720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4.3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左极限与右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685800" y="1019160"/>
            <a:ext cx="7696080" cy="1937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当  从  的左侧（      或         ）无限趋于  时，   无限接近于一个确定的常数  ，那么  称为函数    当      时的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左极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记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6"/>
          <p:cNvGraphicFramePr/>
          <p:nvPr/>
        </p:nvGraphicFramePr>
        <p:xfrm>
          <a:off x="2600280" y="1123920"/>
          <a:ext cx="27144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123920"/>
                    <a:ext cx="2714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7"/>
          <p:cNvGraphicFramePr/>
          <p:nvPr/>
        </p:nvGraphicFramePr>
        <p:xfrm>
          <a:off x="3200400" y="1000080"/>
          <a:ext cx="35388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000080"/>
                    <a:ext cx="3538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8"/>
          <p:cNvGraphicFramePr/>
          <p:nvPr/>
        </p:nvGraphicFramePr>
        <p:xfrm>
          <a:off x="4743360" y="990720"/>
          <a:ext cx="100512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43360" y="990720"/>
                    <a:ext cx="10051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9"/>
          <p:cNvGraphicFramePr/>
          <p:nvPr/>
        </p:nvGraphicFramePr>
        <p:xfrm>
          <a:off x="2438280" y="1438200"/>
          <a:ext cx="6876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438200"/>
                    <a:ext cx="687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"/>
          <p:cNvGraphicFramePr/>
          <p:nvPr/>
        </p:nvGraphicFramePr>
        <p:xfrm>
          <a:off x="6705720" y="1457280"/>
          <a:ext cx="32544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05720" y="1457280"/>
                    <a:ext cx="3254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1"/>
          <p:cNvGraphicFramePr/>
          <p:nvPr/>
        </p:nvGraphicFramePr>
        <p:xfrm>
          <a:off x="1600200" y="2314440"/>
          <a:ext cx="2171880" cy="84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2314440"/>
                    <a:ext cx="217188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3"/>
          <p:cNvGraphicFramePr/>
          <p:nvPr/>
        </p:nvGraphicFramePr>
        <p:xfrm>
          <a:off x="5981760" y="1038240"/>
          <a:ext cx="1466640" cy="488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81760" y="1038240"/>
                    <a:ext cx="14666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4"/>
          <p:cNvGraphicFramePr/>
          <p:nvPr/>
        </p:nvGraphicFramePr>
        <p:xfrm>
          <a:off x="1666800" y="1390680"/>
          <a:ext cx="354240" cy="48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5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66800" y="1390680"/>
                    <a:ext cx="3542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5"/>
          <p:cNvGraphicFramePr/>
          <p:nvPr/>
        </p:nvGraphicFramePr>
        <p:xfrm>
          <a:off x="7943760" y="1447920"/>
          <a:ext cx="325440" cy="352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43760" y="1447920"/>
                    <a:ext cx="3254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16"/>
          <p:cNvGraphicFramePr/>
          <p:nvPr/>
        </p:nvGraphicFramePr>
        <p:xfrm>
          <a:off x="1962000" y="1800360"/>
          <a:ext cx="68760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9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62000" y="1800360"/>
                    <a:ext cx="687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17"/>
          <p:cNvGraphicFramePr/>
          <p:nvPr/>
        </p:nvGraphicFramePr>
        <p:xfrm>
          <a:off x="2895480" y="1752480"/>
          <a:ext cx="978120" cy="489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1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95480" y="1752480"/>
                    <a:ext cx="978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8"/>
          <p:cNvGraphicFramePr/>
          <p:nvPr/>
        </p:nvGraphicFramePr>
        <p:xfrm>
          <a:off x="4029120" y="2314440"/>
          <a:ext cx="181908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3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29120" y="2314440"/>
                    <a:ext cx="1819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Text Box 20"/>
          <p:cNvSpPr/>
          <p:nvPr/>
        </p:nvSpPr>
        <p:spPr>
          <a:xfrm>
            <a:off x="533520" y="3581280"/>
            <a:ext cx="8229600" cy="3957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对于任意给定的正数  ，总存在一个正数  ，使得：当            时，           恒成立，则称  为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    的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左极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记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1"/>
          <p:cNvGraphicFramePr/>
          <p:nvPr/>
        </p:nvGraphicFramePr>
        <p:xfrm>
          <a:off x="7810560" y="3648240"/>
          <a:ext cx="306360" cy="387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6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810560" y="3648240"/>
                    <a:ext cx="306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2"/>
          <p:cNvGraphicFramePr/>
          <p:nvPr/>
        </p:nvGraphicFramePr>
        <p:xfrm>
          <a:off x="5076720" y="3705120"/>
          <a:ext cx="277920" cy="3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8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76720" y="3705120"/>
                    <a:ext cx="277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905120" y="4000680"/>
          <a:ext cx="1749240" cy="469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05120" y="4000680"/>
                    <a:ext cx="1749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5"/>
          <p:cNvGraphicFramePr/>
          <p:nvPr/>
        </p:nvGraphicFramePr>
        <p:xfrm>
          <a:off x="4219560" y="4019400"/>
          <a:ext cx="1752480" cy="405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2" name="Object 2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219560" y="4019400"/>
                    <a:ext cx="17524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27"/>
          <p:cNvGraphicFramePr/>
          <p:nvPr/>
        </p:nvGraphicFramePr>
        <p:xfrm>
          <a:off x="609480" y="4467240"/>
          <a:ext cx="998640" cy="500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04" name="Object 2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9480" y="4467240"/>
                    <a:ext cx="998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28"/>
          <p:cNvGraphicFramePr/>
          <p:nvPr/>
        </p:nvGraphicFramePr>
        <p:xfrm>
          <a:off x="1809720" y="4552920"/>
          <a:ext cx="685800" cy="4032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06" name="Object 2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809720" y="4552920"/>
                    <a:ext cx="6858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29"/>
          <p:cNvGraphicFramePr/>
          <p:nvPr/>
        </p:nvGraphicFramePr>
        <p:xfrm>
          <a:off x="7829640" y="4010040"/>
          <a:ext cx="306360" cy="331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08" name="Object 29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829640" y="4010040"/>
                    <a:ext cx="30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45"/>
          <p:cNvGraphicFramePr/>
          <p:nvPr/>
        </p:nvGraphicFramePr>
        <p:xfrm>
          <a:off x="1981080" y="5067360"/>
          <a:ext cx="2171880" cy="84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10" name="Object 45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067360"/>
                    <a:ext cx="21718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46"/>
          <p:cNvGraphicFramePr/>
          <p:nvPr/>
        </p:nvGraphicFramePr>
        <p:xfrm>
          <a:off x="4514760" y="5057640"/>
          <a:ext cx="1819440" cy="4874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12" name="Object 4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514760" y="5057640"/>
                    <a:ext cx="18194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5"/>
          <p:cNvSpPr/>
          <p:nvPr/>
        </p:nvSpPr>
        <p:spPr>
          <a:xfrm>
            <a:off x="685800" y="638280"/>
            <a:ext cx="7696080" cy="1937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当  从  的右侧（      或         ）无限趋于  时，   无限接近于一个确定的常数  ，那么  称为函数    当      时的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右极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记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2600280" y="743040"/>
          <a:ext cx="27144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743040"/>
                    <a:ext cx="2714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7"/>
          <p:cNvGraphicFramePr/>
          <p:nvPr/>
        </p:nvGraphicFramePr>
        <p:xfrm>
          <a:off x="3200400" y="619200"/>
          <a:ext cx="35388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619200"/>
                    <a:ext cx="3538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8"/>
          <p:cNvGraphicFramePr/>
          <p:nvPr/>
        </p:nvGraphicFramePr>
        <p:xfrm>
          <a:off x="4724280" y="609480"/>
          <a:ext cx="100512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609480"/>
                    <a:ext cx="10051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9"/>
          <p:cNvGraphicFramePr/>
          <p:nvPr/>
        </p:nvGraphicFramePr>
        <p:xfrm>
          <a:off x="2438280" y="1057320"/>
          <a:ext cx="6876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057320"/>
                    <a:ext cx="687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0"/>
          <p:cNvGraphicFramePr/>
          <p:nvPr/>
        </p:nvGraphicFramePr>
        <p:xfrm>
          <a:off x="6705720" y="1076400"/>
          <a:ext cx="32544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05720" y="1076400"/>
                    <a:ext cx="3254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11"/>
          <p:cNvGraphicFramePr/>
          <p:nvPr/>
        </p:nvGraphicFramePr>
        <p:xfrm>
          <a:off x="1562040" y="1943280"/>
          <a:ext cx="2171880" cy="84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62040" y="1943280"/>
                    <a:ext cx="21718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2"/>
          <p:cNvGraphicFramePr/>
          <p:nvPr/>
        </p:nvGraphicFramePr>
        <p:xfrm>
          <a:off x="5962680" y="657360"/>
          <a:ext cx="1467000" cy="488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62680" y="657360"/>
                    <a:ext cx="14670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3"/>
          <p:cNvGraphicFramePr/>
          <p:nvPr/>
        </p:nvGraphicFramePr>
        <p:xfrm>
          <a:off x="1666800" y="1009800"/>
          <a:ext cx="354240" cy="48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66800" y="1009800"/>
                    <a:ext cx="3542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4"/>
          <p:cNvGraphicFramePr/>
          <p:nvPr/>
        </p:nvGraphicFramePr>
        <p:xfrm>
          <a:off x="7943760" y="1066680"/>
          <a:ext cx="325440" cy="352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43760" y="1066680"/>
                    <a:ext cx="3254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5"/>
          <p:cNvGraphicFramePr/>
          <p:nvPr/>
        </p:nvGraphicFramePr>
        <p:xfrm>
          <a:off x="1962000" y="1419120"/>
          <a:ext cx="68760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4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62000" y="1419120"/>
                    <a:ext cx="687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6"/>
          <p:cNvGraphicFramePr/>
          <p:nvPr/>
        </p:nvGraphicFramePr>
        <p:xfrm>
          <a:off x="2895480" y="1371600"/>
          <a:ext cx="978120" cy="488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6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95480" y="1371600"/>
                    <a:ext cx="9781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7"/>
          <p:cNvGraphicFramePr/>
          <p:nvPr/>
        </p:nvGraphicFramePr>
        <p:xfrm>
          <a:off x="4025880" y="1905120"/>
          <a:ext cx="1846440" cy="487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8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25880" y="1905120"/>
                    <a:ext cx="184644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29"/>
          <p:cNvSpPr/>
          <p:nvPr/>
        </p:nvSpPr>
        <p:spPr>
          <a:xfrm>
            <a:off x="533520" y="3581280"/>
            <a:ext cx="8229600" cy="3957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对于任意给定的正数  ，总存在一个正数  ，使得：当            时，           恒成立，则称  为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    的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右极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记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30"/>
          <p:cNvGraphicFramePr/>
          <p:nvPr/>
        </p:nvGraphicFramePr>
        <p:xfrm>
          <a:off x="7810560" y="3648240"/>
          <a:ext cx="306360" cy="387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1" name="Object 3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810560" y="3648240"/>
                    <a:ext cx="306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1"/>
          <p:cNvGraphicFramePr/>
          <p:nvPr/>
        </p:nvGraphicFramePr>
        <p:xfrm>
          <a:off x="5076720" y="3705120"/>
          <a:ext cx="277920" cy="3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3" name="Object 3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76720" y="3705120"/>
                    <a:ext cx="277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32"/>
          <p:cNvGraphicFramePr/>
          <p:nvPr/>
        </p:nvGraphicFramePr>
        <p:xfrm>
          <a:off x="1906560" y="4000680"/>
          <a:ext cx="1749600" cy="469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5" name="Object 3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06560" y="4000680"/>
                    <a:ext cx="17496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3"/>
          <p:cNvGraphicFramePr/>
          <p:nvPr/>
        </p:nvGraphicFramePr>
        <p:xfrm>
          <a:off x="4219560" y="4019400"/>
          <a:ext cx="1752480" cy="405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47" name="Object 3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219560" y="4019400"/>
                    <a:ext cx="17524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34"/>
          <p:cNvGraphicFramePr/>
          <p:nvPr/>
        </p:nvGraphicFramePr>
        <p:xfrm>
          <a:off x="609480" y="4467240"/>
          <a:ext cx="998640" cy="500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49" name="Object 3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9480" y="4467240"/>
                    <a:ext cx="998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35"/>
          <p:cNvGraphicFramePr/>
          <p:nvPr/>
        </p:nvGraphicFramePr>
        <p:xfrm>
          <a:off x="1809720" y="4552920"/>
          <a:ext cx="685800" cy="4032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51" name="Object 3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809720" y="4552920"/>
                    <a:ext cx="6858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6"/>
          <p:cNvGraphicFramePr/>
          <p:nvPr/>
        </p:nvGraphicFramePr>
        <p:xfrm>
          <a:off x="7829640" y="4010040"/>
          <a:ext cx="306360" cy="331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53" name="Object 3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829640" y="4010040"/>
                    <a:ext cx="30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37"/>
          <p:cNvGraphicFramePr/>
          <p:nvPr/>
        </p:nvGraphicFramePr>
        <p:xfrm>
          <a:off x="1962000" y="5086440"/>
          <a:ext cx="2171880" cy="84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55" name="Object 3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62000" y="5086440"/>
                    <a:ext cx="21718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38"/>
          <p:cNvGraphicFramePr/>
          <p:nvPr/>
        </p:nvGraphicFramePr>
        <p:xfrm>
          <a:off x="4483080" y="5048280"/>
          <a:ext cx="1846440" cy="4874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57" name="Object 3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83080" y="5048280"/>
                    <a:ext cx="18464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4"/>
          <p:cNvGraphicFramePr/>
          <p:nvPr/>
        </p:nvGraphicFramePr>
        <p:xfrm>
          <a:off x="1082520" y="958680"/>
          <a:ext cx="6519960" cy="7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958680"/>
                    <a:ext cx="651996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5"/>
          <p:cNvSpPr/>
          <p:nvPr/>
        </p:nvSpPr>
        <p:spPr>
          <a:xfrm>
            <a:off x="762120" y="1828800"/>
            <a:ext cx="7467480" cy="1572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讨论函数             当     时的极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6"/>
          <p:cNvGraphicFramePr/>
          <p:nvPr/>
        </p:nvGraphicFramePr>
        <p:xfrm>
          <a:off x="2781360" y="2019240"/>
          <a:ext cx="2133720" cy="12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2019240"/>
                    <a:ext cx="213372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7"/>
          <p:cNvGraphicFramePr/>
          <p:nvPr/>
        </p:nvGraphicFramePr>
        <p:xfrm>
          <a:off x="5162400" y="2476440"/>
          <a:ext cx="74952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62400" y="2476440"/>
                    <a:ext cx="749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Text Box 9"/>
          <p:cNvSpPr/>
          <p:nvPr/>
        </p:nvSpPr>
        <p:spPr>
          <a:xfrm>
            <a:off x="685800" y="3809880"/>
            <a:ext cx="7467480" cy="1572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讨论函数               当     时的极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0"/>
          <p:cNvGraphicFramePr/>
          <p:nvPr/>
        </p:nvGraphicFramePr>
        <p:xfrm>
          <a:off x="2724120" y="4105440"/>
          <a:ext cx="2438280" cy="98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4120" y="4105440"/>
                    <a:ext cx="243828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1"/>
          <p:cNvGraphicFramePr/>
          <p:nvPr/>
        </p:nvGraphicFramePr>
        <p:xfrm>
          <a:off x="5432400" y="4467240"/>
          <a:ext cx="70488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2400" y="4467240"/>
                    <a:ext cx="704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776160" y="1440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极限发展历程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781200" y="281952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中国古代极限思想的萌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刘徽的“割圆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芝诺悖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阿基里斯到底能否追上乌龟，如何解如何解释芝诺悖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2097000" cy="27763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5791320" y="3654360"/>
            <a:ext cx="25146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838080" y="533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43000" y="13716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1219320" y="21319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函数极限的概念（当            两种情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函数的左、右极限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1"/>
          <p:cNvGraphicFramePr/>
          <p:nvPr/>
        </p:nvGraphicFramePr>
        <p:xfrm>
          <a:off x="4924440" y="2152800"/>
          <a:ext cx="1828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4440" y="2152800"/>
                    <a:ext cx="182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14"/>
          <p:cNvSpPr/>
          <p:nvPr/>
        </p:nvSpPr>
        <p:spPr>
          <a:xfrm>
            <a:off x="1219320" y="36576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219320" y="4474800"/>
            <a:ext cx="56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会根据自变量的变化趋势求函数的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会讨论函数的左、右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990720" y="11430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743200" y="4522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066680" y="198108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通过对函数极限的研究，培养学生的数、形转化能力，通过对引例的直观感知，揭示求出函数极限的一般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掌握函数极限概念的本质，体现从特殊到一般，从感性到理性的辩证唯物主义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训练学生的数学计算能力和培养耐心、细致的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利用函数的极限进一步培养学生的观察分析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76720" y="2057400"/>
            <a:ext cx="487656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正确理解三种变化方式的函数极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322800" y="3809880"/>
            <a:ext cx="490680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函数的变化趋势的讨论，并会应用它求函数的极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8380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4.1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当       时，函数    的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2133720" y="885960"/>
          <a:ext cx="106020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885960"/>
                    <a:ext cx="10602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7"/>
          <p:cNvSpPr/>
          <p:nvPr/>
        </p:nvSpPr>
        <p:spPr>
          <a:xfrm>
            <a:off x="914400" y="18288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考察当            时，函数                 的变化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8"/>
          <p:cNvGraphicFramePr/>
          <p:nvPr/>
        </p:nvGraphicFramePr>
        <p:xfrm>
          <a:off x="1905120" y="1905120"/>
          <a:ext cx="10602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905120"/>
                    <a:ext cx="10602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9"/>
          <p:cNvGraphicFramePr/>
          <p:nvPr/>
        </p:nvGraphicFramePr>
        <p:xfrm>
          <a:off x="4170240" y="1600200"/>
          <a:ext cx="137160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0240" y="1600200"/>
                    <a:ext cx="13716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AutoShape 11"/>
          <p:cNvSpPr/>
          <p:nvPr/>
        </p:nvSpPr>
        <p:spPr>
          <a:xfrm>
            <a:off x="685800" y="2514600"/>
            <a:ext cx="441972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1"/>
          <p:cNvGrpSpPr/>
          <p:nvPr/>
        </p:nvGrpSpPr>
        <p:grpSpPr>
          <a:xfrm>
            <a:off x="1152360" y="2895480"/>
            <a:ext cx="3254400" cy="3022560"/>
            <a:chOff x="1152360" y="2895480"/>
            <a:chExt cx="3254400" cy="3022560"/>
          </a:xfrm>
        </p:grpSpPr>
        <p:sp>
          <p:nvSpPr>
            <p:cNvPr id="79" name="Line 12"/>
            <p:cNvSpPr/>
            <p:nvPr/>
          </p:nvSpPr>
          <p:spPr>
            <a:xfrm>
              <a:off x="1152360" y="4533840"/>
              <a:ext cx="325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 flipV="1">
              <a:off x="2771640" y="2895480"/>
              <a:ext cx="0" cy="30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1523880" y="4724280"/>
              <a:ext cx="1143000" cy="11430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885" h="885">
                  <a:moveTo>
                    <a:pt x="0" y="0"/>
                  </a:moveTo>
                  <a:cubicBezTo>
                    <a:pt x="67" y="12"/>
                    <a:pt x="283" y="18"/>
                    <a:pt x="405" y="75"/>
                  </a:cubicBezTo>
                  <a:cubicBezTo>
                    <a:pt x="527" y="132"/>
                    <a:pt x="655" y="210"/>
                    <a:pt x="735" y="345"/>
                  </a:cubicBezTo>
                  <a:cubicBezTo>
                    <a:pt x="815" y="480"/>
                    <a:pt x="854" y="773"/>
                    <a:pt x="885" y="88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 rot="10800000">
              <a:off x="2895480" y="3276360"/>
              <a:ext cx="1144800" cy="114300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885" h="885">
                  <a:moveTo>
                    <a:pt x="0" y="0"/>
                  </a:moveTo>
                  <a:cubicBezTo>
                    <a:pt x="67" y="12"/>
                    <a:pt x="283" y="18"/>
                    <a:pt x="405" y="75"/>
                  </a:cubicBezTo>
                  <a:cubicBezTo>
                    <a:pt x="527" y="132"/>
                    <a:pt x="655" y="210"/>
                    <a:pt x="735" y="345"/>
                  </a:cubicBezTo>
                  <a:cubicBezTo>
                    <a:pt x="815" y="480"/>
                    <a:pt x="854" y="773"/>
                    <a:pt x="885" y="88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Object 16"/>
            <p:cNvGraphicFramePr/>
            <p:nvPr/>
          </p:nvGraphicFramePr>
          <p:xfrm>
            <a:off x="3941640" y="4587840"/>
            <a:ext cx="360360" cy="33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41640" y="4587840"/>
                      <a:ext cx="3603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Object 17"/>
            <p:cNvGraphicFramePr/>
            <p:nvPr/>
          </p:nvGraphicFramePr>
          <p:xfrm>
            <a:off x="2430360" y="3003480"/>
            <a:ext cx="284400" cy="33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6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30360" y="3003480"/>
                      <a:ext cx="284400" cy="3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18"/>
            <p:cNvGraphicFramePr/>
            <p:nvPr/>
          </p:nvGraphicFramePr>
          <p:xfrm>
            <a:off x="2438280" y="4495680"/>
            <a:ext cx="309600" cy="360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8" name="Object 1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38280" y="4495680"/>
                      <a:ext cx="309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19"/>
            <p:cNvGraphicFramePr/>
            <p:nvPr/>
          </p:nvGraphicFramePr>
          <p:xfrm>
            <a:off x="3352680" y="3200400"/>
            <a:ext cx="800280" cy="800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0" name="Object 1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52680" y="3200400"/>
                      <a:ext cx="800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1" name="Object 20"/>
          <p:cNvGraphicFramePr/>
          <p:nvPr/>
        </p:nvGraphicFramePr>
        <p:xfrm>
          <a:off x="4876920" y="4114800"/>
          <a:ext cx="3500280" cy="65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4114800"/>
                    <a:ext cx="35002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22"/>
          <p:cNvGraphicFramePr/>
          <p:nvPr/>
        </p:nvGraphicFramePr>
        <p:xfrm>
          <a:off x="4381560" y="809640"/>
          <a:ext cx="685800" cy="404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81560" y="809640"/>
                    <a:ext cx="6858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609480" y="838080"/>
            <a:ext cx="7772400" cy="230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当   的绝对值无限增大（即        ）时，函数     无限接近于一个确定的常数   ，那么   就叫作函数     当        时的极限，记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2590920" y="914400"/>
          <a:ext cx="3412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3412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7"/>
          <p:cNvGraphicFramePr/>
          <p:nvPr/>
        </p:nvGraphicFramePr>
        <p:xfrm>
          <a:off x="6053040" y="914400"/>
          <a:ext cx="119556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3040" y="914400"/>
                    <a:ext cx="11955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8"/>
          <p:cNvGraphicFramePr/>
          <p:nvPr/>
        </p:nvGraphicFramePr>
        <p:xfrm>
          <a:off x="1317600" y="1241280"/>
          <a:ext cx="76212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7600" y="1241280"/>
                    <a:ext cx="762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4654440" y="2208240"/>
          <a:ext cx="119556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54440" y="2208240"/>
                    <a:ext cx="11955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5769000" y="1197000"/>
          <a:ext cx="42228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69000" y="1197000"/>
                    <a:ext cx="422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1"/>
          <p:cNvGraphicFramePr/>
          <p:nvPr/>
        </p:nvGraphicFramePr>
        <p:xfrm>
          <a:off x="7107120" y="1174680"/>
          <a:ext cx="409680" cy="44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07120" y="1174680"/>
                    <a:ext cx="409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2"/>
          <p:cNvGraphicFramePr/>
          <p:nvPr/>
        </p:nvGraphicFramePr>
        <p:xfrm>
          <a:off x="1601640" y="1600200"/>
          <a:ext cx="762120" cy="44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1640" y="1600200"/>
                    <a:ext cx="762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3"/>
          <p:cNvGraphicFramePr/>
          <p:nvPr/>
        </p:nvGraphicFramePr>
        <p:xfrm>
          <a:off x="6149880" y="2144880"/>
          <a:ext cx="159696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49880" y="2144880"/>
                    <a:ext cx="1596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4"/>
          <p:cNvGraphicFramePr/>
          <p:nvPr/>
        </p:nvGraphicFramePr>
        <p:xfrm>
          <a:off x="2730600" y="1666800"/>
          <a:ext cx="1195200" cy="374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30600" y="1666800"/>
                    <a:ext cx="11952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5"/>
          <p:cNvGraphicFramePr/>
          <p:nvPr/>
        </p:nvGraphicFramePr>
        <p:xfrm>
          <a:off x="2209680" y="2133720"/>
          <a:ext cx="1833840" cy="617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2133720"/>
                    <a:ext cx="18338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6"/>
          <p:cNvSpPr/>
          <p:nvPr/>
        </p:nvSpPr>
        <p:spPr>
          <a:xfrm>
            <a:off x="3960720" y="21225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或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746680" y="2122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8"/>
          <p:cNvGrpSpPr/>
          <p:nvPr/>
        </p:nvGrpSpPr>
        <p:grpSpPr>
          <a:xfrm>
            <a:off x="609480" y="3352680"/>
            <a:ext cx="7696080" cy="1937880"/>
            <a:chOff x="609480" y="3352680"/>
            <a:chExt cx="7696080" cy="1937880"/>
          </a:xfrm>
        </p:grpSpPr>
        <p:sp>
          <p:nvSpPr>
            <p:cNvPr id="120" name="Text Box 18"/>
            <p:cNvSpPr/>
            <p:nvPr/>
          </p:nvSpPr>
          <p:spPr>
            <a:xfrm>
              <a:off x="609480" y="3352680"/>
              <a:ext cx="7696080" cy="19378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定义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如果对于任意给定的正数  ，总存在一个正数      使得当        时，           恒成立，则称当  趋于无穷大时，函数    以常数  为极限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记作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Object 19"/>
            <p:cNvGraphicFramePr/>
            <p:nvPr/>
          </p:nvGraphicFramePr>
          <p:xfrm>
            <a:off x="5153040" y="3429000"/>
            <a:ext cx="341280" cy="3744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2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153040" y="3429000"/>
                      <a:ext cx="3412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Object 20"/>
            <p:cNvGraphicFramePr/>
            <p:nvPr/>
          </p:nvGraphicFramePr>
          <p:xfrm>
            <a:off x="7848360" y="3400200"/>
            <a:ext cx="457200" cy="371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4" name="Object 2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848360" y="3400200"/>
                      <a:ext cx="4572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Object 21"/>
            <p:cNvGraphicFramePr/>
            <p:nvPr/>
          </p:nvGraphicFramePr>
          <p:xfrm>
            <a:off x="1724040" y="3790800"/>
            <a:ext cx="1066680" cy="426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6" name="Object 2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724040" y="3790800"/>
                      <a:ext cx="10666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Object 22"/>
            <p:cNvGraphicFramePr/>
            <p:nvPr/>
          </p:nvGraphicFramePr>
          <p:xfrm>
            <a:off x="3352680" y="3781440"/>
            <a:ext cx="1828800" cy="4222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8" name="Object 2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352680" y="3781440"/>
                      <a:ext cx="182880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Object 23"/>
            <p:cNvGraphicFramePr/>
            <p:nvPr/>
          </p:nvGraphicFramePr>
          <p:xfrm>
            <a:off x="7305480" y="3790800"/>
            <a:ext cx="341280" cy="3747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30" name="Object 23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305480" y="3790800"/>
                      <a:ext cx="3412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24"/>
            <p:cNvGraphicFramePr/>
            <p:nvPr/>
          </p:nvGraphicFramePr>
          <p:xfrm>
            <a:off x="1990440" y="4628880"/>
            <a:ext cx="1928880" cy="6508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32" name="Object 2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990440" y="4628880"/>
                      <a:ext cx="192888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25"/>
            <p:cNvGraphicFramePr/>
            <p:nvPr/>
          </p:nvGraphicFramePr>
          <p:xfrm>
            <a:off x="3085920" y="4114800"/>
            <a:ext cx="671400" cy="39672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4" name="Object 2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085920" y="4114800"/>
                      <a:ext cx="671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26"/>
            <p:cNvGraphicFramePr/>
            <p:nvPr/>
          </p:nvGraphicFramePr>
          <p:xfrm>
            <a:off x="4676760" y="4114800"/>
            <a:ext cx="353880" cy="3808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36" name="Object 26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676760" y="4114800"/>
                      <a:ext cx="353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27"/>
            <p:cNvGraphicFramePr/>
            <p:nvPr/>
          </p:nvGraphicFramePr>
          <p:xfrm>
            <a:off x="4219560" y="4628880"/>
            <a:ext cx="2846160" cy="4939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8" name="Object 27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4219560" y="4628880"/>
                      <a:ext cx="284616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" name="Text Box 30"/>
          <p:cNvSpPr/>
          <p:nvPr/>
        </p:nvSpPr>
        <p:spPr>
          <a:xfrm>
            <a:off x="685800" y="6019920"/>
            <a:ext cx="708660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定义中            的包含                             两种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31"/>
          <p:cNvGraphicFramePr/>
          <p:nvPr/>
        </p:nvGraphicFramePr>
        <p:xfrm>
          <a:off x="1695600" y="6105600"/>
          <a:ext cx="990360" cy="3110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1" name="Object 3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695600" y="6105600"/>
                    <a:ext cx="9903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2"/>
          <p:cNvGraphicFramePr/>
          <p:nvPr/>
        </p:nvGraphicFramePr>
        <p:xfrm>
          <a:off x="3638520" y="6086520"/>
          <a:ext cx="2406600" cy="395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43" name="Object 3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638520" y="6086520"/>
                    <a:ext cx="24066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838080" y="990720"/>
            <a:ext cx="281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下列极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1828800" y="1600200"/>
          <a:ext cx="472428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47242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9907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7"/>
          <p:cNvGraphicFramePr/>
          <p:nvPr/>
        </p:nvGraphicFramePr>
        <p:xfrm>
          <a:off x="1828800" y="2971800"/>
          <a:ext cx="5400720" cy="19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971800"/>
                    <a:ext cx="540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1295280" y="5181480"/>
          <a:ext cx="655344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65534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4.2 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当      时，函数    的极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4276800" y="819000"/>
          <a:ext cx="68580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76800" y="819000"/>
                    <a:ext cx="6858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2152800" y="781200"/>
          <a:ext cx="91440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2800" y="781200"/>
                    <a:ext cx="914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7"/>
          <p:cNvSpPr/>
          <p:nvPr/>
        </p:nvSpPr>
        <p:spPr>
          <a:xfrm>
            <a:off x="914400" y="144792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000" spc="-1" strike="noStrike">
                <a:solidFill>
                  <a:srgbClr val="cc0000"/>
                </a:solidFill>
                <a:latin typeface="楷体"/>
                <a:ea typeface="楷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函数            ，定义域为  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下面考察当      时，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数     的变化趋势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"/>
          <p:cNvGraphicFramePr/>
          <p:nvPr/>
        </p:nvGraphicFramePr>
        <p:xfrm>
          <a:off x="1276200" y="1943280"/>
          <a:ext cx="609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1943280"/>
                    <a:ext cx="609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9"/>
          <p:cNvGraphicFramePr/>
          <p:nvPr/>
        </p:nvGraphicFramePr>
        <p:xfrm>
          <a:off x="5000760" y="1476360"/>
          <a:ext cx="26964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760" y="1476360"/>
                    <a:ext cx="2696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0"/>
          <p:cNvGraphicFramePr/>
          <p:nvPr/>
        </p:nvGraphicFramePr>
        <p:xfrm>
          <a:off x="6800760" y="1486080"/>
          <a:ext cx="722520" cy="31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00760" y="1486080"/>
                    <a:ext cx="72252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1"/>
          <p:cNvGraphicFramePr/>
          <p:nvPr/>
        </p:nvGraphicFramePr>
        <p:xfrm>
          <a:off x="2171880" y="1314360"/>
          <a:ext cx="153504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71880" y="1314360"/>
                    <a:ext cx="15350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Group 36"/>
          <p:cNvGrpSpPr/>
          <p:nvPr/>
        </p:nvGrpSpPr>
        <p:grpSpPr>
          <a:xfrm>
            <a:off x="609480" y="2514600"/>
            <a:ext cx="5105520" cy="3403440"/>
            <a:chOff x="609480" y="2514600"/>
            <a:chExt cx="5105520" cy="3403440"/>
          </a:xfrm>
        </p:grpSpPr>
        <p:sp>
          <p:nvSpPr>
            <p:cNvPr id="169" name="AutoShape 14"/>
            <p:cNvSpPr/>
            <p:nvPr/>
          </p:nvSpPr>
          <p:spPr>
            <a:xfrm>
              <a:off x="609480" y="2514600"/>
              <a:ext cx="510552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990360" y="4419360"/>
              <a:ext cx="39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 flipV="1">
              <a:off x="1981080" y="2819160"/>
              <a:ext cx="0" cy="221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 flipV="1">
              <a:off x="1198440" y="3106080"/>
              <a:ext cx="3436920" cy="1107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1984320" y="3705120"/>
              <a:ext cx="785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2770200" y="3705120"/>
              <a:ext cx="0" cy="68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 flipV="1">
              <a:off x="1984320" y="3220920"/>
              <a:ext cx="2225520" cy="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4225680" y="3195360"/>
              <a:ext cx="1800" cy="119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1984320" y="3503520"/>
              <a:ext cx="137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3359160" y="3535200"/>
              <a:ext cx="0" cy="850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 flipV="1">
              <a:off x="2857320" y="3514320"/>
              <a:ext cx="474840" cy="15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 flipH="1">
              <a:off x="3390840" y="3342960"/>
              <a:ext cx="47304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>
              <a:off x="2884320" y="4555800"/>
              <a:ext cx="392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3457440" y="4555800"/>
              <a:ext cx="6206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3" name="Object 28"/>
            <p:cNvGraphicFramePr/>
            <p:nvPr/>
          </p:nvGraphicFramePr>
          <p:xfrm>
            <a:off x="4614840" y="4441680"/>
            <a:ext cx="217440" cy="239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4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14840" y="4441680"/>
                      <a:ext cx="217440" cy="23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Object 29"/>
            <p:cNvGraphicFramePr/>
            <p:nvPr/>
          </p:nvGraphicFramePr>
          <p:xfrm>
            <a:off x="1676160" y="2895480"/>
            <a:ext cx="239760" cy="282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6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676160" y="2895480"/>
                      <a:ext cx="239760" cy="28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Object 30"/>
            <p:cNvGraphicFramePr/>
            <p:nvPr/>
          </p:nvGraphicFramePr>
          <p:xfrm>
            <a:off x="1706400" y="4381200"/>
            <a:ext cx="262080" cy="302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8" name="Object 3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06400" y="4381200"/>
                      <a:ext cx="2620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1"/>
            <p:cNvGraphicFramePr/>
            <p:nvPr/>
          </p:nvGraphicFramePr>
          <p:xfrm>
            <a:off x="2654280" y="4420800"/>
            <a:ext cx="218880" cy="239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0" name="Object 3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54280" y="4420800"/>
                      <a:ext cx="218880" cy="23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32"/>
            <p:cNvGraphicFramePr/>
            <p:nvPr/>
          </p:nvGraphicFramePr>
          <p:xfrm>
            <a:off x="3276360" y="4397040"/>
            <a:ext cx="196920" cy="304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92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76360" y="4397040"/>
                      <a:ext cx="1969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Object 33"/>
            <p:cNvGraphicFramePr/>
            <p:nvPr/>
          </p:nvGraphicFramePr>
          <p:xfrm>
            <a:off x="4127400" y="4446360"/>
            <a:ext cx="218880" cy="239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94" name="Object 3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127400" y="4446360"/>
                      <a:ext cx="218880" cy="23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34"/>
            <p:cNvGraphicFramePr/>
            <p:nvPr/>
          </p:nvGraphicFramePr>
          <p:xfrm>
            <a:off x="4349520" y="2992320"/>
            <a:ext cx="1133640" cy="674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96" name="Object 3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349520" y="2992320"/>
                      <a:ext cx="1133640" cy="67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35"/>
            <p:cNvGraphicFramePr/>
            <p:nvPr/>
          </p:nvGraphicFramePr>
          <p:xfrm>
            <a:off x="1714320" y="3314520"/>
            <a:ext cx="219240" cy="2822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98" name="Object 3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714320" y="3314520"/>
                      <a:ext cx="219240" cy="28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9" name="Object 37"/>
          <p:cNvGraphicFramePr/>
          <p:nvPr/>
        </p:nvGraphicFramePr>
        <p:xfrm>
          <a:off x="4876920" y="4800600"/>
          <a:ext cx="3276360" cy="639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0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76920" y="4800600"/>
                    <a:ext cx="3276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9T14:15:25Z</dcterms:modified>
  <cp:revision>1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