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F67-A177-4440-B06B-24532A1F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8D6-2151-403D-A48A-9F08317A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FBE-2C7F-474D-8B23-B986AAFF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7A3-5D82-49F9-A0A2-EEBD3C90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79A-ECDA-411C-8721-45DE08CF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0D8-1FE6-49FB-A163-EEC49B36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4C2-0E40-4E10-86DB-372A0D3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688-DC65-4F12-8A30-9644848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8C3-63F7-41CD-85E5-A03B02C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C8A-B4E5-45F4-A127-F0C5633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D15-C258-4B58-B443-BB0CD19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ABB-94C8-4209-8007-575E743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FA8-752C-44B1-A898-86843F84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wmf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143000" y="25146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"/>
                <a:ea typeface="楷体"/>
              </a:rPr>
              <a:t>1.3 </a:t>
            </a: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无穷小与无穷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4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1"/>
          <p:cNvGrpSpPr/>
          <p:nvPr/>
        </p:nvGrpSpPr>
        <p:grpSpPr>
          <a:xfrm>
            <a:off x="638280" y="961920"/>
            <a:ext cx="7848360" cy="2298960"/>
            <a:chOff x="638280" y="961920"/>
            <a:chExt cx="7848360" cy="2298960"/>
          </a:xfrm>
        </p:grpSpPr>
        <p:sp>
          <p:nvSpPr>
            <p:cNvPr id="115" name="Text Box 4"/>
            <p:cNvSpPr/>
            <p:nvPr/>
          </p:nvSpPr>
          <p:spPr>
            <a:xfrm>
              <a:off x="638280" y="961920"/>
              <a:ext cx="7848360" cy="2128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无穷大与无穷小的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在同一自变量的变化过程中，如果    为无穷大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则    是无穷小；反之，如果    为无穷小且       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则    为无穷大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Object 5"/>
            <p:cNvGraphicFramePr/>
            <p:nvPr/>
          </p:nvGraphicFramePr>
          <p:xfrm>
            <a:off x="5952960" y="1590840"/>
            <a:ext cx="609840" cy="36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590840"/>
                      <a:ext cx="6098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6"/>
            <p:cNvGraphicFramePr/>
            <p:nvPr/>
          </p:nvGraphicFramePr>
          <p:xfrm>
            <a:off x="4743360" y="2124000"/>
            <a:ext cx="609840" cy="36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3360" y="2124000"/>
                      <a:ext cx="60984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Object 7"/>
            <p:cNvGraphicFramePr/>
            <p:nvPr/>
          </p:nvGraphicFramePr>
          <p:xfrm>
            <a:off x="1028880" y="1866960"/>
            <a:ext cx="655560" cy="74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8880" y="1866960"/>
                      <a:ext cx="655560" cy="74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Object 8"/>
            <p:cNvGraphicFramePr/>
            <p:nvPr/>
          </p:nvGraphicFramePr>
          <p:xfrm>
            <a:off x="6858000" y="2143080"/>
            <a:ext cx="1015920" cy="36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3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8000" y="2143080"/>
                      <a:ext cx="101592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Object 9"/>
            <p:cNvGraphicFramePr/>
            <p:nvPr/>
          </p:nvGraphicFramePr>
          <p:xfrm>
            <a:off x="1038240" y="2514600"/>
            <a:ext cx="655560" cy="746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38240" y="2514600"/>
                      <a:ext cx="65556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Text Box 12"/>
          <p:cNvSpPr/>
          <p:nvPr/>
        </p:nvSpPr>
        <p:spPr>
          <a:xfrm>
            <a:off x="762120" y="4038480"/>
            <a:ext cx="304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2438280" y="3952800"/>
          <a:ext cx="978120" cy="65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3952800"/>
                    <a:ext cx="9781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4"/>
          <p:cNvSpPr/>
          <p:nvPr/>
        </p:nvSpPr>
        <p:spPr>
          <a:xfrm>
            <a:off x="4876920" y="4038480"/>
            <a:ext cx="35812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5"/>
          <p:cNvGraphicFramePr/>
          <p:nvPr/>
        </p:nvGraphicFramePr>
        <p:xfrm>
          <a:off x="6524640" y="4067280"/>
          <a:ext cx="17143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24640" y="4067280"/>
                    <a:ext cx="171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219320"/>
            <a:ext cx="35053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2581200" y="1104840"/>
          <a:ext cx="1658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1104840"/>
                    <a:ext cx="1658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6"/>
          <p:cNvSpPr/>
          <p:nvPr/>
        </p:nvSpPr>
        <p:spPr>
          <a:xfrm>
            <a:off x="1066680" y="3048120"/>
            <a:ext cx="6782040" cy="268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当                  时，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1447920" y="3095640"/>
          <a:ext cx="152388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095640"/>
                    <a:ext cx="15238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"/>
          <p:cNvGraphicFramePr/>
          <p:nvPr/>
        </p:nvGraphicFramePr>
        <p:xfrm>
          <a:off x="2057400" y="3505320"/>
          <a:ext cx="4502160" cy="20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505320"/>
                    <a:ext cx="450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62120" y="609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6.3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无穷小的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3"/>
          <p:cNvGrpSpPr/>
          <p:nvPr/>
        </p:nvGrpSpPr>
        <p:grpSpPr>
          <a:xfrm>
            <a:off x="914400" y="1371600"/>
            <a:ext cx="7391520" cy="4572000"/>
            <a:chOff x="914400" y="1371600"/>
            <a:chExt cx="7391520" cy="4572000"/>
          </a:xfrm>
        </p:grpSpPr>
        <p:sp>
          <p:nvSpPr>
            <p:cNvPr id="144" name="Text Box 5"/>
            <p:cNvSpPr/>
            <p:nvPr/>
          </p:nvSpPr>
          <p:spPr>
            <a:xfrm>
              <a:off x="914400" y="1371600"/>
              <a:ext cx="7391520" cy="4572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定义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设   与   是同一自变量的变化过程中的两个无穷小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若        ，则称   是比  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较高阶的无穷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若        ，则称   是比  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较低阶的无穷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若           ，则称   与   是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同阶无穷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特别地，当     时，即        时，称  与  是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等价无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小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，记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Object 6"/>
            <p:cNvGraphicFramePr/>
            <p:nvPr/>
          </p:nvGraphicFramePr>
          <p:xfrm>
            <a:off x="2209680" y="1447920"/>
            <a:ext cx="30492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1447920"/>
                      <a:ext cx="304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7"/>
            <p:cNvGraphicFramePr/>
            <p:nvPr/>
          </p:nvGraphicFramePr>
          <p:xfrm>
            <a:off x="2847960" y="1380960"/>
            <a:ext cx="28584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7960" y="1380960"/>
                      <a:ext cx="285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8"/>
            <p:cNvGraphicFramePr/>
            <p:nvPr/>
          </p:nvGraphicFramePr>
          <p:xfrm>
            <a:off x="1285920" y="1866960"/>
            <a:ext cx="2209680" cy="371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85920" y="1866960"/>
                      <a:ext cx="220968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Object 9"/>
            <p:cNvGraphicFramePr/>
            <p:nvPr/>
          </p:nvGraphicFramePr>
          <p:xfrm>
            <a:off x="1943280" y="2209680"/>
            <a:ext cx="939600" cy="633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43280" y="2209680"/>
                      <a:ext cx="939600" cy="63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Object 10"/>
            <p:cNvGraphicFramePr/>
            <p:nvPr/>
          </p:nvGraphicFramePr>
          <p:xfrm>
            <a:off x="3772080" y="2362320"/>
            <a:ext cx="30456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72080" y="2362320"/>
                      <a:ext cx="30456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1"/>
            <p:cNvGraphicFramePr/>
            <p:nvPr/>
          </p:nvGraphicFramePr>
          <p:xfrm>
            <a:off x="4648320" y="2295360"/>
            <a:ext cx="285480" cy="381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8320" y="2295360"/>
                      <a:ext cx="28548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2"/>
            <p:cNvGraphicFramePr/>
            <p:nvPr/>
          </p:nvGraphicFramePr>
          <p:xfrm>
            <a:off x="4114800" y="4191120"/>
            <a:ext cx="304920" cy="27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8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14800" y="4191120"/>
                      <a:ext cx="304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13"/>
            <p:cNvGraphicFramePr/>
            <p:nvPr/>
          </p:nvGraphicFramePr>
          <p:xfrm>
            <a:off x="3762360" y="3286080"/>
            <a:ext cx="304920" cy="279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0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62360" y="3286080"/>
                      <a:ext cx="304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14"/>
            <p:cNvGraphicFramePr/>
            <p:nvPr/>
          </p:nvGraphicFramePr>
          <p:xfrm>
            <a:off x="4762440" y="4124160"/>
            <a:ext cx="285840" cy="381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2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62440" y="4124160"/>
                      <a:ext cx="285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5"/>
            <p:cNvGraphicFramePr/>
            <p:nvPr/>
          </p:nvGraphicFramePr>
          <p:xfrm>
            <a:off x="4648320" y="3200400"/>
            <a:ext cx="285480" cy="380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4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648320" y="3200400"/>
                      <a:ext cx="2854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6"/>
            <p:cNvGraphicFramePr/>
            <p:nvPr/>
          </p:nvGraphicFramePr>
          <p:xfrm>
            <a:off x="1952640" y="3124080"/>
            <a:ext cx="998640" cy="633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6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52640" y="3124080"/>
                      <a:ext cx="998640" cy="63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7"/>
            <p:cNvGraphicFramePr/>
            <p:nvPr/>
          </p:nvGraphicFramePr>
          <p:xfrm>
            <a:off x="1952640" y="4038480"/>
            <a:ext cx="1343160" cy="633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68" name="Object 1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952640" y="4038480"/>
                      <a:ext cx="1343160" cy="63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18"/>
            <p:cNvGraphicFramePr/>
            <p:nvPr/>
          </p:nvGraphicFramePr>
          <p:xfrm>
            <a:off x="2819520" y="5095800"/>
            <a:ext cx="609480" cy="3049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0" name="Object 1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19520" y="5095800"/>
                      <a:ext cx="6094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Object 19"/>
            <p:cNvGraphicFramePr/>
            <p:nvPr/>
          </p:nvGraphicFramePr>
          <p:xfrm>
            <a:off x="4286160" y="4952880"/>
            <a:ext cx="903240" cy="633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2" name="Object 1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286160" y="4952880"/>
                      <a:ext cx="903240" cy="63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Object 20"/>
            <p:cNvGraphicFramePr/>
            <p:nvPr/>
          </p:nvGraphicFramePr>
          <p:xfrm>
            <a:off x="6019920" y="5105520"/>
            <a:ext cx="304560" cy="2793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4" name="Object 2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019920" y="5105520"/>
                      <a:ext cx="30456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21"/>
            <p:cNvGraphicFramePr/>
            <p:nvPr/>
          </p:nvGraphicFramePr>
          <p:xfrm>
            <a:off x="6534000" y="5038560"/>
            <a:ext cx="285840" cy="3812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76" name="Object 21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534000" y="5038560"/>
                      <a:ext cx="285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Object 22"/>
            <p:cNvGraphicFramePr/>
            <p:nvPr/>
          </p:nvGraphicFramePr>
          <p:xfrm>
            <a:off x="2013120" y="5499000"/>
            <a:ext cx="812520" cy="4064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78" name="Object 2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2013120" y="5499000"/>
                      <a:ext cx="8125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9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990720" y="1295280"/>
            <a:ext cx="7238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任何问题可以像无穷那样深深地触动人的情感，很少有别的观念能像无穷那样激励理智产生富有成果的思想，然而也没有任何其他的概念能像无穷那样加以阐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希尔伯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2159640" y="8380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因极限概念不清而引发的第二次数学危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1219320" y="198108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次数学危机是由牛顿的额“无穷小量”引起的，遭到贝克莱质问“无穷小作为一个量到底是不是零”，这是著名的贝克莱悖论，而危机的本质就是极限概念不清楚，极限理论不牢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0067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00080" y="6573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33640" y="16477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059200" y="2332440"/>
            <a:ext cx="234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掌握无穷小与无穷大的概念、性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了解函数极限与无穷小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知道无穷小与无穷大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理解无穷小的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62080" y="394344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422800" y="4694760"/>
            <a:ext cx="41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会用无穷大与无穷小的相关知识解决函数的极限计算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会进行无穷小的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295280" y="3196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启发、诱导，让学生明确无穷小与无穷大这两概念，培养学生分析、归纳、概括、论证等逻辑思维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无穷小与无穷大的探究过程中，向学生渗透运动、变化、对立统一的辩证唯物主义思想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训练学生严密的逻辑思维能力，培养学生严谨的学习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143000" y="1371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3200400" y="1981080"/>
            <a:ext cx="54100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无穷小与无穷大的概念及无穷小的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951440" y="3681360"/>
            <a:ext cx="18874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灵活运用无穷小、无穷大的有关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识求解函数的极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762120" y="609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6.1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3"/>
          <p:cNvGrpSpPr/>
          <p:nvPr/>
        </p:nvGrpSpPr>
        <p:grpSpPr>
          <a:xfrm>
            <a:off x="685800" y="1371600"/>
            <a:ext cx="7620120" cy="1818000"/>
            <a:chOff x="685800" y="1371600"/>
            <a:chExt cx="7620120" cy="1818000"/>
          </a:xfrm>
        </p:grpSpPr>
        <p:sp>
          <p:nvSpPr>
            <p:cNvPr id="68" name="Text Box 5"/>
            <p:cNvSpPr/>
            <p:nvPr/>
          </p:nvSpPr>
          <p:spPr>
            <a:xfrm>
              <a:off x="685800" y="1371600"/>
              <a:ext cx="7620120" cy="1818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定义</a:t>
              </a:r>
              <a:r>
                <a:rPr b="1" lang="en-US" sz="28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如果当     （或     ）时，函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极限为零，那么函数    叫作当     （或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时的</a:t>
              </a:r>
              <a:r>
                <a:rPr b="1" lang="zh-CN" sz="28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无穷小量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，简称</a:t>
              </a:r>
              <a:r>
                <a:rPr b="1" lang="zh-CN" sz="28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无穷小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" name="Object 6"/>
            <p:cNvGraphicFramePr/>
            <p:nvPr/>
          </p:nvGraphicFramePr>
          <p:xfrm>
            <a:off x="3086280" y="1400400"/>
            <a:ext cx="106668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86280" y="1400400"/>
                      <a:ext cx="10666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Object 7"/>
            <p:cNvGraphicFramePr/>
            <p:nvPr/>
          </p:nvGraphicFramePr>
          <p:xfrm>
            <a:off x="4667400" y="1524240"/>
            <a:ext cx="1036440" cy="32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67400" y="1524240"/>
                      <a:ext cx="10364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Object 8"/>
            <p:cNvGraphicFramePr/>
            <p:nvPr/>
          </p:nvGraphicFramePr>
          <p:xfrm>
            <a:off x="828720" y="2772000"/>
            <a:ext cx="1036440" cy="32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8720" y="2772000"/>
                      <a:ext cx="10364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Object 9"/>
            <p:cNvGraphicFramePr/>
            <p:nvPr/>
          </p:nvGraphicFramePr>
          <p:xfrm>
            <a:off x="6153120" y="2028960"/>
            <a:ext cx="1066680" cy="53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3120" y="2028960"/>
                      <a:ext cx="10666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Object 10"/>
            <p:cNvGraphicFramePr/>
            <p:nvPr/>
          </p:nvGraphicFramePr>
          <p:xfrm>
            <a:off x="7391520" y="1447920"/>
            <a:ext cx="799920" cy="47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91520" y="1447920"/>
                      <a:ext cx="79992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Object 12"/>
            <p:cNvGraphicFramePr/>
            <p:nvPr/>
          </p:nvGraphicFramePr>
          <p:xfrm>
            <a:off x="4334040" y="2086200"/>
            <a:ext cx="799920" cy="474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0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34040" y="2086200"/>
                      <a:ext cx="79992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Text Box 14"/>
          <p:cNvSpPr/>
          <p:nvPr/>
        </p:nvSpPr>
        <p:spPr>
          <a:xfrm>
            <a:off x="685800" y="3733920"/>
            <a:ext cx="7543800" cy="1789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无穷小是极限为零的变数，任何一个绝对值很小的常数都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无穷小，但常数中只有“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0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以看成无穷小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说一个函数是无穷小，必须指明自变量的变化趋势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90720" y="1143000"/>
            <a:ext cx="2819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无穷小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2209680"/>
            <a:ext cx="7391520" cy="1818000"/>
          </a:xfrm>
          <a:prstGeom prst="rect">
            <a:avLst/>
          </a:prstGeom>
          <a:solidFill>
            <a:srgbClr val="99cc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限个无穷小的代数和式无穷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界函数与无穷小的乘积是无穷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限个无穷小的乘积是无穷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990720" y="4800600"/>
            <a:ext cx="2895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2057400" y="4603680"/>
          <a:ext cx="16002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603680"/>
                    <a:ext cx="16002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609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6.2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无穷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5800" y="1371600"/>
            <a:ext cx="7620120" cy="181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如果当     （或     ）时，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绝对值无限增大，那么函数    叫作当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或     ）时的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无穷大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简称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无穷大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3086280" y="1400040"/>
          <a:ext cx="1066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1400040"/>
                    <a:ext cx="1066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8"/>
          <p:cNvGraphicFramePr/>
          <p:nvPr/>
        </p:nvGraphicFramePr>
        <p:xfrm>
          <a:off x="4667400" y="1523880"/>
          <a:ext cx="10364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7400" y="1523880"/>
                    <a:ext cx="10364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1447920" y="2787480"/>
          <a:ext cx="10364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787480"/>
                    <a:ext cx="10364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7162920" y="2013120"/>
          <a:ext cx="10666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2013120"/>
                    <a:ext cx="1066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7391520" y="1447920"/>
          <a:ext cx="799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1447920"/>
                    <a:ext cx="799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2"/>
          <p:cNvGraphicFramePr/>
          <p:nvPr/>
        </p:nvGraphicFramePr>
        <p:xfrm>
          <a:off x="5410080" y="2057400"/>
          <a:ext cx="800280" cy="47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057400"/>
                    <a:ext cx="800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13"/>
          <p:cNvSpPr/>
          <p:nvPr/>
        </p:nvSpPr>
        <p:spPr>
          <a:xfrm>
            <a:off x="762120" y="3429000"/>
            <a:ext cx="7924680" cy="2094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若在  的变化过程中，   是无穷大，称    的极限不存在，但为了便于叙述函数的这一变化特征，也称“函数的极限为无穷大”并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无穷大也是变量，任何一个绝对值很大的常数都不是无穷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说一个函数的无穷大，必须指明自变量的变化趋势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4"/>
          <p:cNvGraphicFramePr/>
          <p:nvPr/>
        </p:nvGraphicFramePr>
        <p:xfrm>
          <a:off x="2003400" y="3948120"/>
          <a:ext cx="27144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03400" y="3948120"/>
                    <a:ext cx="271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3875040" y="3930480"/>
          <a:ext cx="609480" cy="36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75040" y="3930480"/>
                    <a:ext cx="6094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6"/>
          <p:cNvGraphicFramePr/>
          <p:nvPr/>
        </p:nvGraphicFramePr>
        <p:xfrm>
          <a:off x="5943600" y="3930480"/>
          <a:ext cx="60948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9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3600" y="3930480"/>
                    <a:ext cx="6094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7"/>
          <p:cNvGraphicFramePr/>
          <p:nvPr/>
        </p:nvGraphicFramePr>
        <p:xfrm>
          <a:off x="1300320" y="4572000"/>
          <a:ext cx="243180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1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00320" y="4572000"/>
                    <a:ext cx="24318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8"/>
          <p:cNvSpPr/>
          <p:nvPr/>
        </p:nvSpPr>
        <p:spPr>
          <a:xfrm>
            <a:off x="2882880" y="4516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9T14:11:43Z</dcterms:modified>
  <cp:revision>1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