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8.wmf" ContentType="image/x-wmf"/>
  <Override PartName="/ppt/media/image38.wmf" ContentType="image/x-wmf"/>
  <Override PartName="/ppt/media/image35.wmf" ContentType="image/x-wmf"/>
  <Override PartName="/ppt/media/image36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46.wmf" ContentType="image/x-wmf"/>
  <Override PartName="/ppt/media/image50.wmf" ContentType="image/x-wmf"/>
  <Override PartName="/ppt/media/image11.wmf" ContentType="image/x-wmf"/>
  <Override PartName="/ppt/media/image48.wmf" ContentType="image/x-wmf"/>
  <Override PartName="/ppt/media/image13.wmf" ContentType="image/x-wmf"/>
  <Override PartName="/ppt/media/image5.png" ContentType="image/png"/>
  <Override PartName="/ppt/media/image51.wmf" ContentType="image/x-wmf"/>
  <Override PartName="/ppt/media/image40.wmf" ContentType="image/x-wmf"/>
  <Override PartName="/ppt/media/image52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9E28-EBAD-4B38-86B3-50A9CE3C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FB41-87E7-44CB-9479-6B8AA79A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4D5-3F37-43F7-B82A-8AEDC18A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68BD-0C27-4C75-AA6E-BFBBD4A6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943D-83CB-4398-A70C-9AB96A7F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9853-D215-4987-BF7D-E73C0BF9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A834-4903-45D0-A7FB-87E8DB44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F73-B360-4380-9CF3-9FCEB858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FFD-2128-46E2-A26C-5478F452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658-406B-424C-890E-65B49F5B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F9B-2ED4-4964-A8A8-9353A28E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FE2-7E70-4493-B649-A7A9687B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E51E-E60C-4724-BA92-FC2C2B5B37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1.wmf"/><Relationship Id="rId7" Type="http://schemas.openxmlformats.org/officeDocument/2006/relationships/image" Target="../media/image34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2.wmf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143000" y="19051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2.13 </a:t>
            </a: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导数在经济中的应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4"/>
          <p:cNvGrpSpPr/>
          <p:nvPr/>
        </p:nvGrpSpPr>
        <p:grpSpPr>
          <a:xfrm>
            <a:off x="228600" y="5610240"/>
            <a:ext cx="7848720" cy="609480"/>
            <a:chOff x="228600" y="5610240"/>
            <a:chExt cx="7848720" cy="609480"/>
          </a:xfrm>
        </p:grpSpPr>
        <p:pic>
          <p:nvPicPr>
            <p:cNvPr id="43" name="Picture 12" descr="E:\学校\数学教研室\课件\201062115254125115.jpg"/>
            <p:cNvPicPr/>
            <p:nvPr/>
          </p:nvPicPr>
          <p:blipFill>
            <a:blip r:embed="rId1"/>
            <a:stretch/>
          </p:blipFill>
          <p:spPr>
            <a:xfrm>
              <a:off x="237960" y="561024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Box 16"/>
            <p:cNvSpPr/>
            <p:nvPr/>
          </p:nvSpPr>
          <p:spPr>
            <a:xfrm>
              <a:off x="676080" y="5771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山西职业技术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9"/>
            <p:cNvSpPr/>
            <p:nvPr/>
          </p:nvSpPr>
          <p:spPr>
            <a:xfrm>
              <a:off x="237960" y="6162840"/>
              <a:ext cx="2514600" cy="144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10"/>
            <p:cNvSpPr/>
            <p:nvPr/>
          </p:nvSpPr>
          <p:spPr>
            <a:xfrm flipV="1">
              <a:off x="228600" y="6210360"/>
              <a:ext cx="7848720" cy="936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990720" y="1066680"/>
            <a:ext cx="2057400" cy="316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为了能使投入资源量降低而产出水平升高，接下来我们对边际成本与平均成本间的关系作讨论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>
            <a:alphaModFix amt="38000"/>
          </a:blip>
          <a:srcRect l="19518" t="24425" r="55248" b="23291"/>
          <a:stretch/>
        </p:blipFill>
        <p:spPr>
          <a:xfrm>
            <a:off x="3581280" y="609480"/>
            <a:ext cx="4470480" cy="57880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9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90720" y="7621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、边际利润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019160" y="1441800"/>
            <a:ext cx="7162920" cy="4786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设某产品的总利润为      ，由经济学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4295880" y="1495440"/>
            <a:ext cx="1143000" cy="393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1095480" y="2104920"/>
            <a:ext cx="2743200" cy="457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3762360" y="2028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边际利润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3"/>
          <a:stretch/>
        </p:blipFill>
        <p:spPr>
          <a:xfrm>
            <a:off x="1171440" y="2638440"/>
            <a:ext cx="3810240" cy="4492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"/>
          <p:cNvSpPr/>
          <p:nvPr/>
        </p:nvSpPr>
        <p:spPr>
          <a:xfrm>
            <a:off x="2387160" y="3095280"/>
            <a:ext cx="42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企业经营处于最佳状态时利润最大，由存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极值的必要条件得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"/>
          <p:cNvPicPr/>
          <p:nvPr/>
        </p:nvPicPr>
        <p:blipFill>
          <a:blip r:embed="rId4"/>
          <a:stretch/>
        </p:blipFill>
        <p:spPr>
          <a:xfrm>
            <a:off x="3990960" y="3629160"/>
            <a:ext cx="3124080" cy="461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1095480" y="4848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2085840" y="416232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"/>
          <p:cNvPicPr/>
          <p:nvPr/>
        </p:nvPicPr>
        <p:blipFill>
          <a:blip r:embed="rId5"/>
          <a:stretch/>
        </p:blipFill>
        <p:spPr>
          <a:xfrm>
            <a:off x="2467080" y="4314960"/>
            <a:ext cx="1143000" cy="3222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14"/>
          <p:cNvGraphicFramePr/>
          <p:nvPr/>
        </p:nvGraphicFramePr>
        <p:xfrm>
          <a:off x="2390760" y="4924440"/>
          <a:ext cx="1295280" cy="35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7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90760" y="4924440"/>
                    <a:ext cx="12952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Picture 15" descr=""/>
          <p:cNvPicPr/>
          <p:nvPr/>
        </p:nvPicPr>
        <p:blipFill>
          <a:blip r:embed="rId8"/>
          <a:stretch/>
        </p:blipFill>
        <p:spPr>
          <a:xfrm>
            <a:off x="2390760" y="5610240"/>
            <a:ext cx="1143000" cy="3222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6"/>
          <p:cNvSpPr/>
          <p:nvPr/>
        </p:nvSpPr>
        <p:spPr>
          <a:xfrm>
            <a:off x="3914640" y="41623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企业获得最大利润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3838680" y="48481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总利润函数为减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3838680" y="5533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总利润函数为增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0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914400" y="9144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二、弹性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447920" y="1523880"/>
            <a:ext cx="6553080" cy="382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函数的弹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5"/>
          <p:cNvGraphicFramePr/>
          <p:nvPr/>
        </p:nvGraphicFramePr>
        <p:xfrm>
          <a:off x="1905120" y="2057400"/>
          <a:ext cx="4662360" cy="15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057400"/>
                    <a:ext cx="466236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6"/>
          <p:cNvSpPr/>
          <p:nvPr/>
        </p:nvSpPr>
        <p:spPr>
          <a:xfrm>
            <a:off x="6477120" y="2590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为函数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8"/>
          <p:cNvGraphicFramePr/>
          <p:nvPr/>
        </p:nvGraphicFramePr>
        <p:xfrm>
          <a:off x="1905120" y="3657600"/>
          <a:ext cx="1523880" cy="52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657600"/>
                    <a:ext cx="15238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9"/>
          <p:cNvSpPr/>
          <p:nvPr/>
        </p:nvSpPr>
        <p:spPr>
          <a:xfrm>
            <a:off x="3276720" y="3672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点    处的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弹性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记做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10"/>
          <p:cNvGraphicFramePr/>
          <p:nvPr/>
        </p:nvGraphicFramePr>
        <p:xfrm>
          <a:off x="4114800" y="3733920"/>
          <a:ext cx="3808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3733920"/>
                    <a:ext cx="380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12"/>
          <p:cNvGraphicFramePr/>
          <p:nvPr/>
        </p:nvGraphicFramePr>
        <p:xfrm>
          <a:off x="1981080" y="4419720"/>
          <a:ext cx="990720" cy="84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4419720"/>
                    <a:ext cx="9907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4"/>
          <p:cNvGraphicFramePr/>
          <p:nvPr/>
        </p:nvGraphicFramePr>
        <p:xfrm>
          <a:off x="2895480" y="4343400"/>
          <a:ext cx="1600200" cy="1082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4343400"/>
                    <a:ext cx="160020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914400" y="762120"/>
          <a:ext cx="7543800" cy="137160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"/>
                          <a:ea typeface="楷体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"/>
                          <a:ea typeface="楷体"/>
                        </a:rPr>
                        <a:t>、弹性经济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需求的价格弹性，即需求函数的弹性．我们只考虑价格变动时对需求量的影响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8"/>
          <p:cNvSpPr/>
          <p:nvPr/>
        </p:nvSpPr>
        <p:spPr>
          <a:xfrm>
            <a:off x="1739160" y="222732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设某种商品的需求函数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1371600" cy="4572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914400" y="2819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需求的价格弹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3886200" y="2693880"/>
            <a:ext cx="1752480" cy="8114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2"/>
          <p:cNvSpPr/>
          <p:nvPr/>
        </p:nvSpPr>
        <p:spPr>
          <a:xfrm>
            <a:off x="828720" y="351468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其中  是商品的市场需求量，   是商品的价格，故          而需求函数       是价格          的减函数，所以         从而有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"/>
          <p:cNvPicPr/>
          <p:nvPr/>
        </p:nvPicPr>
        <p:blipFill>
          <a:blip r:embed="rId3"/>
          <a:stretch/>
        </p:blipFill>
        <p:spPr>
          <a:xfrm>
            <a:off x="1652760" y="3591000"/>
            <a:ext cx="39528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4"/>
          <a:stretch/>
        </p:blipFill>
        <p:spPr>
          <a:xfrm>
            <a:off x="5705640" y="3591000"/>
            <a:ext cx="350640" cy="380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"/>
          <p:cNvPicPr/>
          <p:nvPr/>
        </p:nvPicPr>
        <p:blipFill>
          <a:blip r:embed="rId5"/>
          <a:stretch/>
        </p:blipFill>
        <p:spPr>
          <a:xfrm>
            <a:off x="2031840" y="4000680"/>
            <a:ext cx="1740240" cy="480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"/>
          <p:cNvPicPr/>
          <p:nvPr/>
        </p:nvPicPr>
        <p:blipFill>
          <a:blip r:embed="rId6"/>
          <a:stretch/>
        </p:blipFill>
        <p:spPr>
          <a:xfrm>
            <a:off x="5610240" y="3990960"/>
            <a:ext cx="1295280" cy="431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"/>
          <p:cNvPicPr/>
          <p:nvPr/>
        </p:nvPicPr>
        <p:blipFill>
          <a:blip r:embed="rId7"/>
          <a:stretch/>
        </p:blipFill>
        <p:spPr>
          <a:xfrm>
            <a:off x="7905600" y="4029120"/>
            <a:ext cx="352440" cy="380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8" descr=""/>
          <p:cNvPicPr/>
          <p:nvPr/>
        </p:nvPicPr>
        <p:blipFill>
          <a:blip r:embed="rId8"/>
          <a:stretch/>
        </p:blipFill>
        <p:spPr>
          <a:xfrm>
            <a:off x="3521160" y="4416480"/>
            <a:ext cx="1346040" cy="428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9" descr=""/>
          <p:cNvPicPr/>
          <p:nvPr/>
        </p:nvPicPr>
        <p:blipFill>
          <a:blip r:embed="rId9"/>
          <a:stretch/>
        </p:blipFill>
        <p:spPr>
          <a:xfrm>
            <a:off x="6086520" y="4276800"/>
            <a:ext cx="2362320" cy="8794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685800" y="838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、价格弹性对总收益的分析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914400" y="1600200"/>
            <a:ext cx="7010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设       是某产品的需求函数，              是产品收益函数，为了分析收益情况，将总收益函数  对价格  求导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3"/>
          <p:cNvGraphicFramePr/>
          <p:nvPr/>
        </p:nvGraphicFramePr>
        <p:xfrm>
          <a:off x="1295280" y="1676520"/>
          <a:ext cx="1067040" cy="3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10670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5324400" y="1676520"/>
          <a:ext cx="239544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24400" y="1676520"/>
                    <a:ext cx="2395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7"/>
          <p:cNvGraphicFramePr/>
          <p:nvPr/>
        </p:nvGraphicFramePr>
        <p:xfrm>
          <a:off x="1295280" y="2400480"/>
          <a:ext cx="304920" cy="32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2400480"/>
                    <a:ext cx="3049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9"/>
          <p:cNvGraphicFramePr/>
          <p:nvPr/>
        </p:nvGraphicFramePr>
        <p:xfrm>
          <a:off x="2543040" y="2390760"/>
          <a:ext cx="35892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43040" y="2390760"/>
                    <a:ext cx="3589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11"/>
          <p:cNvGraphicFramePr/>
          <p:nvPr/>
        </p:nvGraphicFramePr>
        <p:xfrm>
          <a:off x="2019240" y="2819520"/>
          <a:ext cx="4967280" cy="251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2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19240" y="2819520"/>
                    <a:ext cx="49672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Box 15"/>
          <p:cNvSpPr/>
          <p:nvPr/>
        </p:nvSpPr>
        <p:spPr>
          <a:xfrm>
            <a:off x="1066680" y="54864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需求的价格弹性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13"/>
          <p:cNvGraphicFramePr/>
          <p:nvPr/>
        </p:nvGraphicFramePr>
        <p:xfrm>
          <a:off x="1514520" y="5562720"/>
          <a:ext cx="304920" cy="32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14520" y="5562720"/>
                    <a:ext cx="3049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15"/>
          <p:cNvGraphicFramePr/>
          <p:nvPr/>
        </p:nvGraphicFramePr>
        <p:xfrm>
          <a:off x="4419720" y="5533920"/>
          <a:ext cx="2133360" cy="435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9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19720" y="5533920"/>
                    <a:ext cx="213336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838080" y="609480"/>
            <a:ext cx="7086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当      时，边际收益     ，收益函数  是增函数，这时总收益随价格  提高而增加，换句话说，当产品的需求是低弹性的时，提高价格可使总收益增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1"/>
          <p:cNvGraphicFramePr/>
          <p:nvPr/>
        </p:nvGraphicFramePr>
        <p:xfrm>
          <a:off x="2028960" y="714240"/>
          <a:ext cx="86040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8960" y="714240"/>
                    <a:ext cx="8604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3"/>
          <p:cNvGraphicFramePr/>
          <p:nvPr/>
        </p:nvGraphicFramePr>
        <p:xfrm>
          <a:off x="4762440" y="723960"/>
          <a:ext cx="83340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440" y="723960"/>
                    <a:ext cx="8334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5"/>
          <p:cNvGraphicFramePr/>
          <p:nvPr/>
        </p:nvGraphicFramePr>
        <p:xfrm>
          <a:off x="7067520" y="685800"/>
          <a:ext cx="28728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67520" y="685800"/>
                    <a:ext cx="2872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7"/>
          <p:cNvGraphicFramePr/>
          <p:nvPr/>
        </p:nvGraphicFramePr>
        <p:xfrm>
          <a:off x="4610160" y="1066680"/>
          <a:ext cx="304920" cy="32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10160" y="1066680"/>
                    <a:ext cx="3049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Box 10"/>
          <p:cNvSpPr/>
          <p:nvPr/>
        </p:nvSpPr>
        <p:spPr>
          <a:xfrm>
            <a:off x="828720" y="2514600"/>
            <a:ext cx="7086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当      时，则                ，总收益  是价格  的减函数，这时总收益随价格  提高而减少，所以当产品的需求是弹性的时，适当地降低价格可使总收益提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9"/>
          <p:cNvGraphicFramePr/>
          <p:nvPr/>
        </p:nvGraphicFramePr>
        <p:xfrm>
          <a:off x="2019240" y="2600280"/>
          <a:ext cx="860400" cy="30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19240" y="2600280"/>
                    <a:ext cx="8604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11"/>
          <p:cNvGraphicFramePr/>
          <p:nvPr/>
        </p:nvGraphicFramePr>
        <p:xfrm>
          <a:off x="3848040" y="2590920"/>
          <a:ext cx="2514600" cy="36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0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48040" y="2590920"/>
                    <a:ext cx="25146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3"/>
          <p:cNvGraphicFramePr/>
          <p:nvPr/>
        </p:nvGraphicFramePr>
        <p:xfrm>
          <a:off x="7591320" y="2600280"/>
          <a:ext cx="28728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91320" y="2600280"/>
                    <a:ext cx="2872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14"/>
          <p:cNvGraphicFramePr/>
          <p:nvPr/>
        </p:nvGraphicFramePr>
        <p:xfrm>
          <a:off x="1828800" y="2971800"/>
          <a:ext cx="304920" cy="324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4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28800" y="2971800"/>
                    <a:ext cx="3049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15"/>
          <p:cNvGraphicFramePr/>
          <p:nvPr/>
        </p:nvGraphicFramePr>
        <p:xfrm>
          <a:off x="6143760" y="2971800"/>
          <a:ext cx="304560" cy="324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6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43760" y="2971800"/>
                    <a:ext cx="3045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TextBox 18"/>
          <p:cNvSpPr/>
          <p:nvPr/>
        </p:nvSpPr>
        <p:spPr>
          <a:xfrm>
            <a:off x="885960" y="4324320"/>
            <a:ext cx="7086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当      时，     ，这时总收益是常数，所以总收益不受价格变动的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16"/>
          <p:cNvGraphicFramePr/>
          <p:nvPr/>
        </p:nvGraphicFramePr>
        <p:xfrm>
          <a:off x="2114640" y="4419720"/>
          <a:ext cx="860400" cy="304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0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114640" y="4419720"/>
                    <a:ext cx="8604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Object 18"/>
          <p:cNvGraphicFramePr/>
          <p:nvPr/>
        </p:nvGraphicFramePr>
        <p:xfrm>
          <a:off x="3457440" y="4438800"/>
          <a:ext cx="833400" cy="304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3" name="Object 1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57440" y="4438800"/>
                    <a:ext cx="8334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"/>
          <p:cNvSpPr/>
          <p:nvPr/>
        </p:nvSpPr>
        <p:spPr>
          <a:xfrm>
            <a:off x="1653840" y="8380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伯努利家族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"/>
          <p:cNvSpPr/>
          <p:nvPr/>
        </p:nvSpPr>
        <p:spPr>
          <a:xfrm>
            <a:off x="1143000" y="22860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伯努利家族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世纪瑞士的一个出过很多数理科学家的家族。其中以雅各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伯努利，约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伯努利，丹尼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伯努利这三人的成就最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3" descr=""/>
          <p:cNvPicPr/>
          <p:nvPr/>
        </p:nvPicPr>
        <p:blipFill>
          <a:blip r:embed="rId1"/>
          <a:stretch/>
        </p:blipFill>
        <p:spPr>
          <a:xfrm>
            <a:off x="6248520" y="533520"/>
            <a:ext cx="2133360" cy="32493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4" descr=""/>
          <p:cNvPicPr/>
          <p:nvPr/>
        </p:nvPicPr>
        <p:blipFill>
          <a:blip r:embed="rId2"/>
          <a:stretch/>
        </p:blipFill>
        <p:spPr>
          <a:xfrm>
            <a:off x="6248520" y="3965400"/>
            <a:ext cx="2133360" cy="285768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5"/>
          <p:cNvSpPr/>
          <p:nvPr/>
        </p:nvSpPr>
        <p:spPr>
          <a:xfrm>
            <a:off x="6553080" y="3048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雅各布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伯努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831960" y="604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990720" y="182880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知识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"/>
          <p:cNvSpPr/>
          <p:nvPr/>
        </p:nvSpPr>
        <p:spPr>
          <a:xfrm>
            <a:off x="2895480" y="17524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经济学中的边际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经济学中的弹性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984240" y="388764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技能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2971800" y="39625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通过本节课的学习掌握导数解决经济学中的边际分析、弹性分析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143000" y="152388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素质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1447920" y="2590920"/>
            <a:ext cx="624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通过本节课的学习，体会数学的实用性，数学是来源于实际并服务于生活的，感受数学的魅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培养学生分析问题、解决问题的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755640" y="1901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重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55640" y="396396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048120" y="1828800"/>
            <a:ext cx="465444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经济学中的边际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经济学中的弹性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044880" y="3809880"/>
            <a:ext cx="460224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掌握导数在经济学中的边际分析、弹性分析中的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14400" y="1828800"/>
          <a:ext cx="7238880" cy="2530440"/>
        </p:xfrm>
        <a:graphic>
          <a:graphicData uri="http://schemas.openxmlformats.org/drawingml/2006/table">
            <a:tbl>
              <a:tblPr/>
              <a:tblGrid>
                <a:gridCol w="7238880"/>
              </a:tblGrid>
              <a:tr h="25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导数在经济领域中的应用非常广泛，其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边际”和“弹性”是导数在经济分析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的两个重要概念。把经济活动中一些现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归纳到数学领域中，用数学知识进行解答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对很多经营决策起了非常重要的决定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914400" y="9144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一、边际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Group 3" descr=""/>
          <p:cNvPicPr/>
          <p:nvPr/>
        </p:nvPicPr>
        <p:blipFill>
          <a:blip r:embed="rId1"/>
          <a:stretch/>
        </p:blipFill>
        <p:spPr>
          <a:xfrm>
            <a:off x="817560" y="1871640"/>
            <a:ext cx="7746840" cy="2749680"/>
          </a:xfrm>
          <a:prstGeom prst="rect">
            <a:avLst/>
          </a:prstGeom>
          <a:ln w="0">
            <a:noFill/>
          </a:ln>
        </p:spPr>
      </p:pic>
      <p:sp>
        <p:nvSpPr>
          <p:cNvPr id="71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09480" y="838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、边际成本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914400" y="1523880"/>
            <a:ext cx="7391520" cy="3764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设生产某产品的总成本函数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其中  为产量，则边际成本          。其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济含义是当产量为   ，再生产一个单位产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所增加的总成本为    。在经营决策中，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际成本可用来判断产量的增减在经济上是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合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5686560" y="1619280"/>
          <a:ext cx="137160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6560" y="1619280"/>
                    <a:ext cx="1371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7"/>
          <p:cNvGraphicFramePr/>
          <p:nvPr/>
        </p:nvGraphicFramePr>
        <p:xfrm>
          <a:off x="1676520" y="2219400"/>
          <a:ext cx="3492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219400"/>
                    <a:ext cx="349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9"/>
          <p:cNvGraphicFramePr/>
          <p:nvPr/>
        </p:nvGraphicFramePr>
        <p:xfrm>
          <a:off x="5276880" y="2228760"/>
          <a:ext cx="1752480" cy="45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76880" y="2228760"/>
                    <a:ext cx="175248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Rectangle 10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11"/>
          <p:cNvGraphicFramePr/>
          <p:nvPr/>
        </p:nvGraphicFramePr>
        <p:xfrm>
          <a:off x="3886200" y="2867040"/>
          <a:ext cx="3492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6200" y="2867040"/>
                    <a:ext cx="349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3"/>
          <p:cNvGraphicFramePr/>
          <p:nvPr/>
        </p:nvGraphicFramePr>
        <p:xfrm>
          <a:off x="3848040" y="3543480"/>
          <a:ext cx="762120" cy="39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48040" y="3543480"/>
                    <a:ext cx="7621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981000" y="71424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当总成本函数为线性成本函数时，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238400" y="1406520"/>
          <a:ext cx="152388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1406520"/>
                    <a:ext cx="15238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4"/>
          <p:cNvGraphicFramePr/>
          <p:nvPr/>
        </p:nvGraphicFramePr>
        <p:xfrm>
          <a:off x="4305240" y="3139920"/>
          <a:ext cx="11448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5240" y="313992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6"/>
          <p:cNvGraphicFramePr/>
          <p:nvPr/>
        </p:nvGraphicFramePr>
        <p:xfrm>
          <a:off x="3143160" y="1247760"/>
          <a:ext cx="1600200" cy="75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43160" y="1247760"/>
                    <a:ext cx="160020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" name="Group 7"/>
          <p:cNvGrpSpPr/>
          <p:nvPr/>
        </p:nvGrpSpPr>
        <p:grpSpPr>
          <a:xfrm>
            <a:off x="914400" y="1933560"/>
            <a:ext cx="7333920" cy="947160"/>
            <a:chOff x="914400" y="1933560"/>
            <a:chExt cx="7333920" cy="947160"/>
          </a:xfrm>
        </p:grpSpPr>
        <p:sp>
          <p:nvSpPr>
            <p:cNvPr id="99" name="Text Box 8"/>
            <p:cNvSpPr/>
            <p:nvPr/>
          </p:nvSpPr>
          <p:spPr>
            <a:xfrm>
              <a:off x="914400" y="1933560"/>
              <a:ext cx="733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对线性成本函数而言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,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是大于的常数．这表明产品产量为任何水平时，再增加一个单位产品的生产成本都是，总成本是均匀增加的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" name="Object 9"/>
            <p:cNvGraphicFramePr/>
            <p:nvPr/>
          </p:nvGraphicFramePr>
          <p:xfrm>
            <a:off x="4462920" y="2070000"/>
            <a:ext cx="543960" cy="320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1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462920" y="2070000"/>
                      <a:ext cx="54396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2" name="Text Box 10"/>
          <p:cNvSpPr/>
          <p:nvPr/>
        </p:nvSpPr>
        <p:spPr>
          <a:xfrm>
            <a:off x="933480" y="38386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当总成本函数是二次函数时，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总成本函数为                   时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2"/>
          <p:cNvGraphicFramePr/>
          <p:nvPr/>
        </p:nvGraphicFramePr>
        <p:xfrm>
          <a:off x="1847880" y="4213080"/>
          <a:ext cx="3200400" cy="7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47880" y="4213080"/>
                    <a:ext cx="320040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14"/>
          <p:cNvGraphicFramePr/>
          <p:nvPr/>
        </p:nvGraphicFramePr>
        <p:xfrm>
          <a:off x="5810400" y="4381560"/>
          <a:ext cx="2514600" cy="388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10400" y="4381560"/>
                    <a:ext cx="25146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15"/>
          <p:cNvSpPr/>
          <p:nvPr/>
        </p:nvSpPr>
        <p:spPr>
          <a:xfrm>
            <a:off x="1000080" y="47433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对于不同的产量。它的单位生产成本是不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808668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8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10:26:58Z</dcterms:created>
  <dc:creator>PC</dc:creator>
  <dc:description/>
  <cp:keywords/>
  <dc:language>en-US</dc:language>
  <cp:lastModifiedBy>PC</cp:lastModifiedBy>
  <dcterms:modified xsi:type="dcterms:W3CDTF">2018-04-03T03:12:02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  <property fmtid="{D5CDD505-2E9C-101B-9397-08002B2CF9AE}" pid="3" name="Version">
    <vt:r8>1</vt:r8>
  </property>
</Properties>
</file>