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69.gif" ContentType="image/gif"/>
  <Override PartName="/ppt/media/image190.wmf" ContentType="image/x-wmf"/>
  <Override PartName="/ppt/media/image121.wmf" ContentType="image/x-wmf"/>
  <Override PartName="/ppt/media/image120.wmf" ContentType="image/x-wmf"/>
  <Override PartName="/ppt/media/image116.wmf" ContentType="image/x-wmf"/>
  <Override PartName="/ppt/media/image184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48.gif" ContentType="image/gi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70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71.wmf" ContentType="image/x-wmf"/>
  <Override PartName="/ppt/media/image168.wmf" ContentType="image/x-wmf"/>
  <Override PartName="/ppt/media/image46.gif" ContentType="image/gif"/>
  <Override PartName="/ppt/media/image73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3.png" ContentType="image/png"/>
  <Override PartName="/ppt/media/image135.wmf" ContentType="image/x-wmf"/>
  <Override PartName="/ppt/media/image4.png" ContentType="image/png"/>
  <Override PartName="/ppt/media/image136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161.wmf" ContentType="image/x-wmf"/>
  <Override PartName="/ppt/media/image162.wmf" ContentType="image/x-wmf"/>
  <Override PartName="/ppt/media/image40.wmf" ContentType="image/x-wmf"/>
  <Override PartName="/ppt/media/image163.wmf" ContentType="image/x-wmf"/>
  <Override PartName="/ppt/media/image45.wmf" ContentType="image/x-wmf"/>
  <Override PartName="/ppt/media/image131.wmf" ContentType="image/x-wmf"/>
  <Override PartName="/ppt/media/image132.wmf" ContentType="image/x-wmf"/>
  <Override PartName="/ppt/media/image1.png" ContentType="image/png"/>
  <Override PartName="/ppt/media/image169.wmf" ContentType="image/x-wmf"/>
  <Override PartName="/ppt/media/image43.wmf" ContentType="image/x-wmf"/>
  <Override PartName="/ppt/media/image166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43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44.wmf" ContentType="image/x-wmf"/>
  <Override PartName="/ppt/media/image164.wmf" ContentType="image/x-wmf"/>
  <Override PartName="/ppt/media/image153.wmf" ContentType="image/x-wmf"/>
  <Override PartName="/ppt/media/image165.wmf" ContentType="image/x-wmf"/>
  <Override PartName="/ppt/media/image154.wmf" ContentType="image/x-wmf"/>
  <Override PartName="/ppt/media/image160.wmf" ContentType="image/x-wmf"/>
  <Override PartName="/ppt/media/image157.wmf" ContentType="image/x-wmf"/>
  <Override PartName="/ppt/media/image156.wmf" ContentType="image/x-wmf"/>
  <Override PartName="/ppt/media/image155.wmf" ContentType="image/x-wmf"/>
  <Override PartName="/ppt/media/image189.wmf" ContentType="image/x-wmf"/>
  <Override PartName="/ppt/media/image152.wmf" ContentType="image/x-wmf"/>
  <Override PartName="/ppt/media/image188.wmf" ContentType="image/x-wmf"/>
  <Override PartName="/ppt/media/image151.wmf" ContentType="image/x-wmf"/>
  <Override PartName="/ppt/media/image150.wmf" ContentType="image/x-wmf"/>
  <Override PartName="/ppt/media/image99.wmf" ContentType="image/x-wmf"/>
  <Override PartName="/ppt/media/image146.wmf" ContentType="image/x-wmf"/>
  <Override PartName="/ppt/media/image145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127.wmf" ContentType="image/x-wmf"/>
  <Override PartName="/ppt/media/image47.wmf" ContentType="image/x-wmf"/>
  <Override PartName="/ppt/media/image10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7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18.wmf" ContentType="image/x-wmf"/>
  <Override PartName="/ppt/media/image86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37.wmf" ContentType="image/x-wmf"/>
  <Override PartName="/ppt/media/image5.jpeg" ContentType="image/jpeg"/>
  <Override PartName="/ppt/media/image115.wmf" ContentType="image/x-wmf"/>
  <Override PartName="/ppt/media/image183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91.wmf" ContentType="image/x-wmf"/>
  <Override PartName="/ppt/media/image23.wmf" ContentType="image/x-wmf"/>
  <Override PartName="/ppt/media/image2.jpeg" ContentType="image/jpeg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58.wmf" ContentType="image/x-wmf"/>
  <Override PartName="/ppt/media/image118.wmf" ContentType="image/x-wmf"/>
  <Override PartName="/ppt/media/image186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26.wmf" ContentType="image/x-wmf"/>
  <Override PartName="/ppt/media/image9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4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045-772D-454B-98F1-4B2985F3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1F2-9FD9-43B7-A3AA-8DA6FE85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16A-ECA4-4C54-BFE0-ACDE88E2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F20-A34D-43E9-B054-FB56E2EB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D350-615B-4DBB-A682-D74F77AC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F63C-828F-4B8A-A980-3CBA55B3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2123-2FA7-40E3-BAA7-CFF5D3B8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EA85-75DB-4279-9ECC-72819F2D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5D64-70FB-4D94-8D15-92894628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B78A-850F-4BC0-AA50-1E0C2861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7DFC-3B50-49E2-8EAD-294BEBE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205-ED63-4D40-A55F-BDEB2974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A46A-66A9-48EF-8474-5B6A954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33CE-933C-4BC4-BB92-1A067E0D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69BA-BD91-4DF0-A434-CDA6AC9E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9C83-6B61-4839-A3D0-AB7D2112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6927-D373-4F9B-BC52-7B6504C6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ABB-BD7D-470D-863B-36AD430F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957-6F1F-49BA-827F-2F33415E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0AF-46C7-4D74-A350-973A82AF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600-18F0-45B6-BF15-416CD85D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C72-3B91-41D7-980E-C5C68618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36A-124D-4F5E-AB63-FF19299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F9D-580C-4E16-A37A-A9ACCC5B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936A-DC11-4D10-A3A6-8F4C71B44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42A6-8A88-4259-8E3E-2F9C63BDE02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5.wmf"/><Relationship Id="rId4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9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.wmf"/><Relationship Id="rId3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9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1.wmf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28.wmf"/><Relationship Id="rId3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8.wmf"/><Relationship Id="rId1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1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6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0.wmf"/><Relationship Id="rId2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7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7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8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76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8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8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8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84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85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8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8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83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88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89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90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91.wmf"/><Relationship Id="rId6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6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219320" y="3809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295280" y="2438280"/>
            <a:ext cx="670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1.5</a:t>
            </a:r>
            <a:r>
              <a:rPr b="1" lang="zh-CN" sz="6600" spc="-1" strike="noStrike">
                <a:solidFill>
                  <a:srgbClr val="cc0000"/>
                </a:solidFill>
                <a:latin typeface="楷体"/>
                <a:ea typeface="楷体"/>
              </a:rPr>
              <a:t>函数的连续性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4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85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直接连接符 8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8a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直接连接符 9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8a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9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6"/>
          <p:cNvGrpSpPr/>
          <p:nvPr/>
        </p:nvGrpSpPr>
        <p:grpSpPr>
          <a:xfrm>
            <a:off x="762120" y="1371600"/>
            <a:ext cx="3733200" cy="2742840"/>
            <a:chOff x="762120" y="1371600"/>
            <a:chExt cx="3733200" cy="2742840"/>
          </a:xfrm>
        </p:grpSpPr>
        <p:grpSp>
          <p:nvGrpSpPr>
            <p:cNvPr id="183" name="Group 7"/>
            <p:cNvGrpSpPr/>
            <p:nvPr/>
          </p:nvGrpSpPr>
          <p:grpSpPr>
            <a:xfrm>
              <a:off x="847440" y="1550520"/>
              <a:ext cx="3340440" cy="2323440"/>
              <a:chOff x="847440" y="1550520"/>
              <a:chExt cx="3340440" cy="2323440"/>
            </a:xfrm>
          </p:grpSpPr>
          <p:sp>
            <p:nvSpPr>
              <p:cNvPr id="184" name="Line 8"/>
              <p:cNvSpPr/>
              <p:nvPr/>
            </p:nvSpPr>
            <p:spPr>
              <a:xfrm>
                <a:off x="847440" y="3605760"/>
                <a:ext cx="334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V="1">
                <a:off x="1190160" y="1550520"/>
                <a:ext cx="0" cy="232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86" name="Line 10"/>
            <p:cNvSpPr/>
            <p:nvPr/>
          </p:nvSpPr>
          <p:spPr>
            <a:xfrm flipV="1">
              <a:off x="1939680" y="3069360"/>
              <a:ext cx="0" cy="536040"/>
            </a:xfrm>
            <a:prstGeom prst="line">
              <a:avLst/>
            </a:prstGeom>
            <a:ln w="255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 flipV="1">
              <a:off x="3160440" y="2443680"/>
              <a:ext cx="0" cy="1117080"/>
            </a:xfrm>
            <a:prstGeom prst="line">
              <a:avLst/>
            </a:prstGeom>
            <a:ln w="255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Arc 12"/>
            <p:cNvSpPr/>
            <p:nvPr/>
          </p:nvSpPr>
          <p:spPr>
            <a:xfrm flipV="1">
              <a:off x="1275840" y="1851120"/>
              <a:ext cx="2087640" cy="1294200"/>
            </a:xfrm>
            <a:custGeom>
              <a:avLst/>
              <a:gdLst>
                <a:gd name="textAreaLeft" fmla="*/ 0 w 2087640"/>
                <a:gd name="textAreaRight" fmla="*/ 2088000 w 2087640"/>
                <a:gd name="textAreaTop" fmla="*/ -360 h 1294200"/>
                <a:gd name="textAreaBottom" fmla="*/ 1294200 h 1294200"/>
              </a:gdLst>
              <a:ahLst/>
              <a:rect l="textAreaLeft" t="textAreaTop" r="textAreaRight" b="textAreaBottom"/>
              <a:pathLst>
                <a:path fill="none" w="21600" h="22755">
                  <a:moveTo>
                    <a:pt x="3229" y="-1"/>
                  </a:moveTo>
                  <a:cubicBezTo>
                    <a:pt x="13791" y="1596"/>
                    <a:pt x="21600" y="10674"/>
                    <a:pt x="21600" y="21357"/>
                  </a:cubicBezTo>
                  <a:cubicBezTo>
                    <a:pt x="21600" y="21823"/>
                    <a:pt x="21584" y="22289"/>
                    <a:pt x="21554" y="22754"/>
                  </a:cubicBezTo>
                </a:path>
                <a:path stroke="0" w="21600" h="22755">
                  <a:moveTo>
                    <a:pt x="3229" y="-1"/>
                  </a:moveTo>
                  <a:cubicBezTo>
                    <a:pt x="13791" y="1596"/>
                    <a:pt x="21600" y="10674"/>
                    <a:pt x="21600" y="21357"/>
                  </a:cubicBezTo>
                  <a:cubicBezTo>
                    <a:pt x="21600" y="21823"/>
                    <a:pt x="21584" y="22289"/>
                    <a:pt x="21554" y="22754"/>
                  </a:cubicBezTo>
                  <a:lnTo>
                    <a:pt x="0" y="21357"/>
                  </a:lnTo>
                  <a:lnTo>
                    <a:pt x="3229" y="-1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Line 13"/>
            <p:cNvSpPr/>
            <p:nvPr/>
          </p:nvSpPr>
          <p:spPr>
            <a:xfrm>
              <a:off x="1961280" y="3092040"/>
              <a:ext cx="1199160" cy="0"/>
            </a:xfrm>
            <a:prstGeom prst="line">
              <a:avLst/>
            </a:prstGeom>
            <a:ln w="255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 flipV="1">
              <a:off x="3160440" y="2533320"/>
              <a:ext cx="0" cy="556920"/>
            </a:xfrm>
            <a:prstGeom prst="line">
              <a:avLst/>
            </a:prstGeom>
            <a:ln w="255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191" name="Object 15"/>
            <p:cNvGraphicFramePr/>
            <p:nvPr/>
          </p:nvGraphicFramePr>
          <p:xfrm>
            <a:off x="4188240" y="3427560"/>
            <a:ext cx="307080" cy="35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88240" y="3427560"/>
                      <a:ext cx="307080" cy="35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Object 16"/>
            <p:cNvGraphicFramePr/>
            <p:nvPr/>
          </p:nvGraphicFramePr>
          <p:xfrm>
            <a:off x="1618200" y="1729080"/>
            <a:ext cx="1236600" cy="448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8200" y="1729080"/>
                      <a:ext cx="1236600" cy="4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17"/>
            <p:cNvGraphicFramePr/>
            <p:nvPr/>
          </p:nvGraphicFramePr>
          <p:xfrm>
            <a:off x="762120" y="1371600"/>
            <a:ext cx="339120" cy="41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6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2120" y="1371600"/>
                      <a:ext cx="339120" cy="41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18"/>
            <p:cNvGraphicFramePr/>
            <p:nvPr/>
          </p:nvGraphicFramePr>
          <p:xfrm>
            <a:off x="3417120" y="2533680"/>
            <a:ext cx="450000" cy="43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8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17120" y="2533680"/>
                      <a:ext cx="4500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19"/>
            <p:cNvGraphicFramePr/>
            <p:nvPr/>
          </p:nvGraphicFramePr>
          <p:xfrm>
            <a:off x="1618200" y="2712240"/>
            <a:ext cx="433800" cy="366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0" name="Object 1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18200" y="2712240"/>
                      <a:ext cx="43380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20"/>
            <p:cNvGraphicFramePr/>
            <p:nvPr/>
          </p:nvGraphicFramePr>
          <p:xfrm>
            <a:off x="1704240" y="3516480"/>
            <a:ext cx="399600" cy="575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2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04240" y="3516480"/>
                      <a:ext cx="399600" cy="57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21"/>
            <p:cNvGraphicFramePr/>
            <p:nvPr/>
          </p:nvGraphicFramePr>
          <p:xfrm>
            <a:off x="2732040" y="3606120"/>
            <a:ext cx="1027800" cy="508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4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32040" y="3606120"/>
                      <a:ext cx="1027800" cy="5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22"/>
            <p:cNvGraphicFramePr/>
            <p:nvPr/>
          </p:nvGraphicFramePr>
          <p:xfrm>
            <a:off x="2389320" y="3069720"/>
            <a:ext cx="450000" cy="385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6" name="Object 2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389320" y="3069720"/>
                      <a:ext cx="450000" cy="38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AutoShape 23"/>
            <p:cNvSpPr/>
            <p:nvPr/>
          </p:nvSpPr>
          <p:spPr>
            <a:xfrm>
              <a:off x="3160440" y="2444040"/>
              <a:ext cx="256680" cy="625680"/>
            </a:xfrm>
            <a:custGeom>
              <a:avLst/>
              <a:gdLst>
                <a:gd name="textAreaLeft" fmla="*/ 0 w 256680"/>
                <a:gd name="textAreaRight" fmla="*/ 92520 w 256680"/>
                <a:gd name="textAreaTop" fmla="*/ 16200 h 625680"/>
                <a:gd name="textAreaBottom" fmla="*/ 609480 h 6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208" name="Object 24"/>
            <p:cNvGraphicFramePr/>
            <p:nvPr/>
          </p:nvGraphicFramePr>
          <p:xfrm>
            <a:off x="2903400" y="1997280"/>
            <a:ext cx="340920" cy="357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9" name="Object 2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903400" y="1997280"/>
                      <a:ext cx="34092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Group 25"/>
          <p:cNvGrpSpPr/>
          <p:nvPr/>
        </p:nvGrpSpPr>
        <p:grpSpPr>
          <a:xfrm>
            <a:off x="4724280" y="1143000"/>
            <a:ext cx="3809520" cy="3123360"/>
            <a:chOff x="4724280" y="1143000"/>
            <a:chExt cx="3809520" cy="3123360"/>
          </a:xfrm>
        </p:grpSpPr>
        <p:graphicFrame>
          <p:nvGraphicFramePr>
            <p:cNvPr id="211" name="Object 26"/>
            <p:cNvGraphicFramePr/>
            <p:nvPr/>
          </p:nvGraphicFramePr>
          <p:xfrm>
            <a:off x="7171560" y="1143000"/>
            <a:ext cx="348120" cy="3600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12" name="Object 2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171560" y="1143000"/>
                      <a:ext cx="34812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3" name="Group 27"/>
            <p:cNvGrpSpPr/>
            <p:nvPr/>
          </p:nvGrpSpPr>
          <p:grpSpPr>
            <a:xfrm>
              <a:off x="4724280" y="1323360"/>
              <a:ext cx="3809520" cy="2943000"/>
              <a:chOff x="4724280" y="1323360"/>
              <a:chExt cx="3809520" cy="2943000"/>
            </a:xfrm>
          </p:grpSpPr>
          <p:grpSp>
            <p:nvGrpSpPr>
              <p:cNvPr id="214" name="Group 28"/>
              <p:cNvGrpSpPr/>
              <p:nvPr/>
            </p:nvGrpSpPr>
            <p:grpSpPr>
              <a:xfrm>
                <a:off x="4811400" y="1705680"/>
                <a:ext cx="3408840" cy="2340720"/>
                <a:chOff x="4811400" y="1705680"/>
                <a:chExt cx="3408840" cy="2340720"/>
              </a:xfrm>
            </p:grpSpPr>
            <p:sp>
              <p:nvSpPr>
                <p:cNvPr id="215" name="Line 29"/>
                <p:cNvSpPr/>
                <p:nvPr/>
              </p:nvSpPr>
              <p:spPr>
                <a:xfrm>
                  <a:off x="4811400" y="3776400"/>
                  <a:ext cx="34088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0"/>
                <p:cNvSpPr/>
                <p:nvPr/>
              </p:nvSpPr>
              <p:spPr>
                <a:xfrm flipV="1">
                  <a:off x="5160960" y="1705680"/>
                  <a:ext cx="0" cy="2340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Line 31"/>
              <p:cNvSpPr/>
              <p:nvPr/>
            </p:nvSpPr>
            <p:spPr>
              <a:xfrm flipV="1">
                <a:off x="7346520" y="1502640"/>
                <a:ext cx="0" cy="2251080"/>
              </a:xfrm>
              <a:prstGeom prst="line">
                <a:avLst/>
              </a:prstGeom>
              <a:ln w="25560">
                <a:solidFill>
                  <a:srgbClr val="00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V="1">
                <a:off x="6122520" y="2223360"/>
                <a:ext cx="0" cy="1530720"/>
              </a:xfrm>
              <a:prstGeom prst="line">
                <a:avLst/>
              </a:prstGeom>
              <a:ln w="25560">
                <a:solidFill>
                  <a:srgbClr val="00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9" name="Arc 33"/>
              <p:cNvSpPr/>
              <p:nvPr/>
            </p:nvSpPr>
            <p:spPr>
              <a:xfrm flipV="1" rot="10395000">
                <a:off x="5248080" y="2943000"/>
                <a:ext cx="1311120" cy="583200"/>
              </a:xfrm>
              <a:custGeom>
                <a:avLst/>
                <a:gdLst>
                  <a:gd name="textAreaLeft" fmla="*/ 0 w 1311120"/>
                  <a:gd name="textAreaRight" fmla="*/ 1311480 w 1311120"/>
                  <a:gd name="textAreaTop" fmla="*/ 360 h 583200"/>
                  <a:gd name="textAreaBottom" fmla="*/ 583920 h 583200"/>
                </a:gdLst>
                <a:ahLst/>
                <a:rect l="textAreaLeft" t="textAreaTop" r="textAreaRight" b="textAreaBottom"/>
                <a:pathLst>
                  <a:path fill="none" w="19498" h="20882">
                    <a:moveTo>
                      <a:pt x="5522" y="0"/>
                    </a:moveTo>
                    <a:cubicBezTo>
                      <a:pt x="11657" y="1622"/>
                      <a:pt x="16767" y="5860"/>
                      <a:pt x="19498" y="11587"/>
                    </a:cubicBezTo>
                  </a:path>
                  <a:path stroke="0" w="19498" h="20882">
                    <a:moveTo>
                      <a:pt x="5522" y="0"/>
                    </a:moveTo>
                    <a:cubicBezTo>
                      <a:pt x="11657" y="1622"/>
                      <a:pt x="16767" y="5860"/>
                      <a:pt x="19498" y="11587"/>
                    </a:cubicBezTo>
                    <a:lnTo>
                      <a:pt x="0" y="20882"/>
                    </a:lnTo>
                    <a:lnTo>
                      <a:pt x="5522" y="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0" name="Arc 34"/>
              <p:cNvSpPr/>
              <p:nvPr/>
            </p:nvSpPr>
            <p:spPr>
              <a:xfrm flipV="1" rot="11277600">
                <a:off x="6121800" y="1411920"/>
                <a:ext cx="1398600" cy="1620720"/>
              </a:xfrm>
              <a:custGeom>
                <a:avLst/>
                <a:gdLst>
                  <a:gd name="textAreaLeft" fmla="*/ 0 w 1398600"/>
                  <a:gd name="textAreaRight" fmla="*/ 1398960 w 1398600"/>
                  <a:gd name="textAreaTop" fmla="*/ 360 h 1620720"/>
                  <a:gd name="textAreaBottom" fmla="*/ 1621440 h 1620720"/>
                </a:gdLst>
                <a:ahLst/>
                <a:rect l="textAreaLeft" t="textAreaTop" r="textAreaRight" b="textAreaBottom"/>
                <a:pathLst>
                  <a:path fill="none" w="19564" h="21600">
                    <a:moveTo>
                      <a:pt x="-1" y="0"/>
                    </a:moveTo>
                    <a:cubicBezTo>
                      <a:pt x="8383" y="0"/>
                      <a:pt x="16010" y="4851"/>
                      <a:pt x="19563" y="12445"/>
                    </a:cubicBezTo>
                  </a:path>
                  <a:path stroke="0" w="19564" h="21600">
                    <a:moveTo>
                      <a:pt x="-1" y="0"/>
                    </a:moveTo>
                    <a:cubicBezTo>
                      <a:pt x="8383" y="0"/>
                      <a:pt x="16010" y="4851"/>
                      <a:pt x="19563" y="1244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1" name="Oval 35"/>
              <p:cNvSpPr/>
              <p:nvPr/>
            </p:nvSpPr>
            <p:spPr>
              <a:xfrm>
                <a:off x="6035400" y="2223360"/>
                <a:ext cx="87120" cy="9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2" name="Line 36"/>
              <p:cNvSpPr/>
              <p:nvPr/>
            </p:nvSpPr>
            <p:spPr>
              <a:xfrm>
                <a:off x="6122520" y="2944080"/>
                <a:ext cx="1224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aphicFrame>
            <p:nvGraphicFramePr>
              <p:cNvPr id="223" name="Object 37"/>
              <p:cNvGraphicFramePr/>
              <p:nvPr/>
            </p:nvGraphicFramePr>
            <p:xfrm>
              <a:off x="8220600" y="3574080"/>
              <a:ext cx="313200" cy="3546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24" name="Object 37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8220600" y="3574080"/>
                        <a:ext cx="313200" cy="35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5" name="Object 38"/>
              <p:cNvGraphicFramePr/>
              <p:nvPr/>
            </p:nvGraphicFramePr>
            <p:xfrm>
              <a:off x="6559920" y="2944080"/>
              <a:ext cx="458640" cy="3877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26" name="Object 38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6559920" y="2944080"/>
                        <a:ext cx="458640" cy="38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7" name="Object 39"/>
              <p:cNvGraphicFramePr/>
              <p:nvPr/>
            </p:nvGraphicFramePr>
            <p:xfrm>
              <a:off x="6909120" y="3754440"/>
              <a:ext cx="1048680" cy="5119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28" name="Object 39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6909120" y="3754440"/>
                        <a:ext cx="1048680" cy="51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Object 40"/>
              <p:cNvGraphicFramePr/>
              <p:nvPr/>
            </p:nvGraphicFramePr>
            <p:xfrm>
              <a:off x="5947920" y="3664080"/>
              <a:ext cx="407880" cy="5796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230" name="Object 40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5947920" y="3664080"/>
                        <a:ext cx="407880" cy="57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1" name="Object 41"/>
              <p:cNvGraphicFramePr/>
              <p:nvPr/>
            </p:nvGraphicFramePr>
            <p:xfrm>
              <a:off x="5335560" y="1323360"/>
              <a:ext cx="1261800" cy="4514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232" name="Object 41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5335560" y="1323360"/>
                        <a:ext cx="1261800" cy="45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3" name="Object 42"/>
              <p:cNvGraphicFramePr/>
              <p:nvPr/>
            </p:nvGraphicFramePr>
            <p:xfrm>
              <a:off x="4724280" y="1503000"/>
              <a:ext cx="345960" cy="4179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234" name="Object 42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4724280" y="1503000"/>
                        <a:ext cx="345960" cy="41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5" name="Object 43"/>
              <p:cNvGraphicFramePr/>
              <p:nvPr/>
            </p:nvGraphicFramePr>
            <p:xfrm>
              <a:off x="7783560" y="2043360"/>
              <a:ext cx="458640" cy="44280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236" name="Object 43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7783560" y="2043360"/>
                        <a:ext cx="458640" cy="44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7" name="Object 44"/>
              <p:cNvGraphicFramePr/>
              <p:nvPr/>
            </p:nvGraphicFramePr>
            <p:xfrm>
              <a:off x="5685480" y="2583720"/>
              <a:ext cx="442440" cy="36936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238" name="Object 44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5685480" y="2583720"/>
                        <a:ext cx="442440" cy="36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9" name="Line 45"/>
              <p:cNvSpPr/>
              <p:nvPr/>
            </p:nvSpPr>
            <p:spPr>
              <a:xfrm>
                <a:off x="6122520" y="2313360"/>
                <a:ext cx="1224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0" name="AutoShape 46"/>
              <p:cNvSpPr/>
              <p:nvPr/>
            </p:nvSpPr>
            <p:spPr>
              <a:xfrm>
                <a:off x="7346520" y="1503000"/>
                <a:ext cx="436680" cy="1440720"/>
              </a:xfrm>
              <a:custGeom>
                <a:avLst/>
                <a:gdLst>
                  <a:gd name="textAreaLeft" fmla="*/ 0 w 436680"/>
                  <a:gd name="textAreaRight" fmla="*/ 157680 w 436680"/>
                  <a:gd name="textAreaTop" fmla="*/ 37440 h 1440720"/>
                  <a:gd name="textAreaBottom" fmla="*/ 1403280 h 144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aphicFrame>
            <p:nvGraphicFramePr>
              <p:cNvPr id="241" name="Object 47"/>
              <p:cNvGraphicFramePr/>
              <p:nvPr/>
            </p:nvGraphicFramePr>
            <p:xfrm>
              <a:off x="5730840" y="1701720"/>
              <a:ext cx="526320" cy="51192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242" name="Object 47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5730840" y="1701720"/>
                        <a:ext cx="526320" cy="51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43" name="Text Box 68"/>
          <p:cNvSpPr/>
          <p:nvPr/>
        </p:nvSpPr>
        <p:spPr>
          <a:xfrm>
            <a:off x="685800" y="4572000"/>
            <a:ext cx="7924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这两张函数图象有什么区别吗？通过创设条件，让学生参与活动，形成感性认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Text Box 69"/>
          <p:cNvSpPr/>
          <p:nvPr/>
        </p:nvSpPr>
        <p:spPr>
          <a:xfrm>
            <a:off x="533520" y="533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9.2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函数         在点    的连续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45" name="Object 70"/>
          <p:cNvGraphicFramePr/>
          <p:nvPr/>
        </p:nvGraphicFramePr>
        <p:xfrm>
          <a:off x="2190600" y="531720"/>
          <a:ext cx="1295640" cy="451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6" name="Object 70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190600" y="531720"/>
                    <a:ext cx="129564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71"/>
          <p:cNvGraphicFramePr/>
          <p:nvPr/>
        </p:nvGraphicFramePr>
        <p:xfrm>
          <a:off x="4259160" y="457200"/>
          <a:ext cx="409680" cy="566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8" name="Object 71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259160" y="457200"/>
                    <a:ext cx="4096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1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49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11"/>
          <p:cNvGraphicFramePr/>
          <p:nvPr/>
        </p:nvGraphicFramePr>
        <p:xfrm>
          <a:off x="2819520" y="5638680"/>
          <a:ext cx="3047760" cy="6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38680"/>
                    <a:ext cx="30477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2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83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Object 5"/>
          <p:cNvGraphicFramePr/>
          <p:nvPr/>
        </p:nvGraphicFramePr>
        <p:xfrm>
          <a:off x="1722600" y="5618160"/>
          <a:ext cx="522432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2600" y="5618160"/>
                    <a:ext cx="5224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838080" y="1295280"/>
            <a:ext cx="7543800" cy="422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定义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函数         在点   及其近旁有定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果当自变量  在点   处的增量    趋于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函数相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增量                     也趋于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即：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                          则称函数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点   处连续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3048120" y="1981080"/>
          <a:ext cx="12952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81080"/>
                    <a:ext cx="1295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7"/>
          <p:cNvGraphicFramePr/>
          <p:nvPr/>
        </p:nvGraphicFramePr>
        <p:xfrm>
          <a:off x="5029200" y="1905120"/>
          <a:ext cx="49356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905120"/>
                    <a:ext cx="493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8"/>
          <p:cNvGraphicFramePr/>
          <p:nvPr/>
        </p:nvGraphicFramePr>
        <p:xfrm>
          <a:off x="2438280" y="2590920"/>
          <a:ext cx="38124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2590920"/>
                    <a:ext cx="3812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9"/>
          <p:cNvGraphicFramePr/>
          <p:nvPr/>
        </p:nvGraphicFramePr>
        <p:xfrm>
          <a:off x="1523880" y="4114800"/>
          <a:ext cx="4939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114800"/>
                    <a:ext cx="493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0"/>
          <p:cNvGraphicFramePr/>
          <p:nvPr/>
        </p:nvGraphicFramePr>
        <p:xfrm>
          <a:off x="5105520" y="2514600"/>
          <a:ext cx="609480" cy="3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2514600"/>
                    <a:ext cx="609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1"/>
          <p:cNvGraphicFramePr/>
          <p:nvPr/>
        </p:nvGraphicFramePr>
        <p:xfrm>
          <a:off x="1905120" y="3048120"/>
          <a:ext cx="3200400" cy="48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3048120"/>
                    <a:ext cx="320040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2"/>
          <p:cNvGraphicFramePr/>
          <p:nvPr/>
        </p:nvGraphicFramePr>
        <p:xfrm>
          <a:off x="6705720" y="3048120"/>
          <a:ext cx="1447560" cy="58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05720" y="3048120"/>
                    <a:ext cx="14475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3"/>
          <p:cNvGraphicFramePr/>
          <p:nvPr/>
        </p:nvGraphicFramePr>
        <p:xfrm>
          <a:off x="1371600" y="3581280"/>
          <a:ext cx="3851280" cy="622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4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1600" y="3581280"/>
                    <a:ext cx="3851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4"/>
          <p:cNvGraphicFramePr/>
          <p:nvPr/>
        </p:nvGraphicFramePr>
        <p:xfrm>
          <a:off x="6477120" y="3581280"/>
          <a:ext cx="1295280" cy="451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6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7120" y="3581280"/>
                    <a:ext cx="1295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5"/>
          <p:cNvGraphicFramePr/>
          <p:nvPr/>
        </p:nvGraphicFramePr>
        <p:xfrm>
          <a:off x="3429000" y="2514600"/>
          <a:ext cx="492120" cy="533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2514600"/>
                    <a:ext cx="49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5638680" y="1143000"/>
            <a:ext cx="2751120" cy="1238040"/>
            <a:chOff x="5638680" y="1143000"/>
            <a:chExt cx="2751120" cy="1238040"/>
          </a:xfrm>
        </p:grpSpPr>
        <p:graphicFrame>
          <p:nvGraphicFramePr>
            <p:cNvPr id="281" name="Object 3"/>
            <p:cNvGraphicFramePr/>
            <p:nvPr/>
          </p:nvGraphicFramePr>
          <p:xfrm>
            <a:off x="5638680" y="1904760"/>
            <a:ext cx="2751120" cy="47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1904760"/>
                      <a:ext cx="27511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4"/>
            <p:cNvGraphicFramePr/>
            <p:nvPr/>
          </p:nvGraphicFramePr>
          <p:xfrm>
            <a:off x="5638680" y="1143000"/>
            <a:ext cx="1523880" cy="49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1143000"/>
                      <a:ext cx="152388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Group 5"/>
          <p:cNvGrpSpPr/>
          <p:nvPr/>
        </p:nvGrpSpPr>
        <p:grpSpPr>
          <a:xfrm>
            <a:off x="4800600" y="2895480"/>
            <a:ext cx="4011480" cy="984240"/>
            <a:chOff x="4800600" y="2895480"/>
            <a:chExt cx="4011480" cy="984240"/>
          </a:xfrm>
        </p:grpSpPr>
        <p:graphicFrame>
          <p:nvGraphicFramePr>
            <p:cNvPr id="286" name="Object 6"/>
            <p:cNvGraphicFramePr/>
            <p:nvPr/>
          </p:nvGraphicFramePr>
          <p:xfrm>
            <a:off x="5638680" y="2946240"/>
            <a:ext cx="990720" cy="353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8680" y="2946240"/>
                      <a:ext cx="99072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Text Box 7"/>
            <p:cNvSpPr/>
            <p:nvPr/>
          </p:nvSpPr>
          <p:spPr>
            <a:xfrm>
              <a:off x="4800600" y="294624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那么：        即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即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289" name="Object 8"/>
            <p:cNvGraphicFramePr/>
            <p:nvPr/>
          </p:nvGraphicFramePr>
          <p:xfrm>
            <a:off x="6972480" y="2895480"/>
            <a:ext cx="914400" cy="455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0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72480" y="2895480"/>
                      <a:ext cx="9144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Object 9"/>
            <p:cNvGraphicFramePr/>
            <p:nvPr/>
          </p:nvGraphicFramePr>
          <p:xfrm>
            <a:off x="5638680" y="3403440"/>
            <a:ext cx="1016280" cy="404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38680" y="3403440"/>
                      <a:ext cx="10162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10"/>
            <p:cNvGraphicFramePr/>
            <p:nvPr/>
          </p:nvGraphicFramePr>
          <p:xfrm>
            <a:off x="6934320" y="3403440"/>
            <a:ext cx="1877760" cy="476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34320" y="3403440"/>
                      <a:ext cx="187776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5" name="Object 11"/>
          <p:cNvGraphicFramePr/>
          <p:nvPr/>
        </p:nvGraphicFramePr>
        <p:xfrm>
          <a:off x="1828800" y="4800600"/>
          <a:ext cx="5791320" cy="87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6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4800600"/>
                    <a:ext cx="5791320" cy="873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12"/>
          <p:cNvGrpSpPr/>
          <p:nvPr/>
        </p:nvGrpSpPr>
        <p:grpSpPr>
          <a:xfrm>
            <a:off x="304920" y="914400"/>
            <a:ext cx="4495680" cy="3505320"/>
            <a:chOff x="304920" y="914400"/>
            <a:chExt cx="4495680" cy="3505320"/>
          </a:xfrm>
        </p:grpSpPr>
        <p:grpSp>
          <p:nvGrpSpPr>
            <p:cNvPr id="298" name="Group 13"/>
            <p:cNvGrpSpPr/>
            <p:nvPr/>
          </p:nvGrpSpPr>
          <p:grpSpPr>
            <a:xfrm>
              <a:off x="914400" y="1219320"/>
              <a:ext cx="2705040" cy="3200400"/>
              <a:chOff x="914400" y="1219320"/>
              <a:chExt cx="2705040" cy="3200400"/>
            </a:xfrm>
          </p:grpSpPr>
          <p:sp>
            <p:nvSpPr>
              <p:cNvPr id="299" name="AutoShape 14"/>
              <p:cNvSpPr/>
              <p:nvPr/>
            </p:nvSpPr>
            <p:spPr>
              <a:xfrm>
                <a:off x="1562040" y="2538720"/>
                <a:ext cx="2057400" cy="17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0" name="Line 15"/>
              <p:cNvSpPr/>
              <p:nvPr/>
            </p:nvSpPr>
            <p:spPr>
              <a:xfrm flipV="1">
                <a:off x="914400" y="1219320"/>
                <a:ext cx="0" cy="320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301" name="Freeform 16"/>
            <p:cNvSpPr/>
            <p:nvPr/>
          </p:nvSpPr>
          <p:spPr>
            <a:xfrm>
              <a:off x="1219320" y="1676520"/>
              <a:ext cx="2666880" cy="1676160"/>
            </a:xfrm>
            <a:custGeom>
              <a:avLst/>
              <a:gdLst>
                <a:gd name="textAreaLeft" fmla="*/ 0 w 2666880"/>
                <a:gd name="textAreaRight" fmla="*/ 2667240 w 266688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440" h="720">
                  <a:moveTo>
                    <a:pt x="0" y="720"/>
                  </a:moveTo>
                  <a:cubicBezTo>
                    <a:pt x="48" y="608"/>
                    <a:pt x="96" y="496"/>
                    <a:pt x="240" y="384"/>
                  </a:cubicBezTo>
                  <a:cubicBezTo>
                    <a:pt x="384" y="272"/>
                    <a:pt x="664" y="96"/>
                    <a:pt x="864" y="48"/>
                  </a:cubicBezTo>
                  <a:cubicBezTo>
                    <a:pt x="1064" y="0"/>
                    <a:pt x="1336" y="88"/>
                    <a:pt x="1440" y="9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302" name="Object 17"/>
            <p:cNvGraphicFramePr/>
            <p:nvPr/>
          </p:nvGraphicFramePr>
          <p:xfrm>
            <a:off x="1600200" y="3581280"/>
            <a:ext cx="457200" cy="432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3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600200" y="3581280"/>
                      <a:ext cx="45720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18"/>
            <p:cNvGraphicFramePr/>
            <p:nvPr/>
          </p:nvGraphicFramePr>
          <p:xfrm>
            <a:off x="2952720" y="3733920"/>
            <a:ext cx="19044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5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952720" y="3733920"/>
                      <a:ext cx="190440" cy="2412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06" name="Object 19"/>
                <p:cNvSpPr txBox="1"/>
                <p:nvPr/>
              </p:nvSpPr>
              <p:spPr>
                <a:xfrm>
                  <a:off x="1371600" y="2133720"/>
                  <a:ext cx="60948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07" name="Object 20"/>
            <p:cNvGraphicFramePr/>
            <p:nvPr/>
          </p:nvGraphicFramePr>
          <p:xfrm>
            <a:off x="2209680" y="2514600"/>
            <a:ext cx="304920" cy="250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08" name="Object 20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09680" y="2514600"/>
                      <a:ext cx="304920" cy="2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09" name="Object 21"/>
                <p:cNvSpPr txBox="1"/>
                <p:nvPr/>
              </p:nvSpPr>
              <p:spPr>
                <a:xfrm>
                  <a:off x="3048120" y="1981080"/>
                  <a:ext cx="3348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10" name="Object 22"/>
            <p:cNvGraphicFramePr/>
            <p:nvPr/>
          </p:nvGraphicFramePr>
          <p:xfrm>
            <a:off x="3962520" y="1752480"/>
            <a:ext cx="838080" cy="393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11" name="Object 2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962520" y="1752480"/>
                      <a:ext cx="8380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Object 23"/>
            <p:cNvGraphicFramePr/>
            <p:nvPr/>
          </p:nvGraphicFramePr>
          <p:xfrm>
            <a:off x="2714760" y="1389240"/>
            <a:ext cx="514080" cy="269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13" name="Object 2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714760" y="1389240"/>
                      <a:ext cx="514080" cy="26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" name="Line 24"/>
            <p:cNvSpPr/>
            <p:nvPr/>
          </p:nvSpPr>
          <p:spPr>
            <a:xfrm>
              <a:off x="304920" y="3657600"/>
              <a:ext cx="411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315" name="Object 25"/>
            <p:cNvGraphicFramePr/>
            <p:nvPr/>
          </p:nvGraphicFramePr>
          <p:xfrm>
            <a:off x="609480" y="3657600"/>
            <a:ext cx="271440" cy="2984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16" name="Object 25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9480" y="3657600"/>
                      <a:ext cx="271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7" name="Object 26"/>
            <p:cNvGraphicFramePr/>
            <p:nvPr/>
          </p:nvGraphicFramePr>
          <p:xfrm>
            <a:off x="4419720" y="3505320"/>
            <a:ext cx="268200" cy="2966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18" name="Object 26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419720" y="3505320"/>
                      <a:ext cx="268200" cy="29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Object 27"/>
            <p:cNvGraphicFramePr/>
            <p:nvPr/>
          </p:nvGraphicFramePr>
          <p:xfrm>
            <a:off x="838080" y="914400"/>
            <a:ext cx="265320" cy="3128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20" name="Object 27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38080" y="914400"/>
                      <a:ext cx="265320" cy="3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Line 28"/>
            <p:cNvSpPr/>
            <p:nvPr/>
          </p:nvSpPr>
          <p:spPr>
            <a:xfrm>
              <a:off x="1752480" y="2514600"/>
              <a:ext cx="0" cy="114300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2971800" y="1752480"/>
              <a:ext cx="0" cy="190512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1752480" y="2514600"/>
              <a:ext cx="1219320" cy="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24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3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3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9436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4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41"/>
          <p:cNvGrpSpPr/>
          <p:nvPr/>
        </p:nvGrpSpPr>
        <p:grpSpPr>
          <a:xfrm>
            <a:off x="1066680" y="3429000"/>
            <a:ext cx="6410160" cy="2438280"/>
            <a:chOff x="1066680" y="3429000"/>
            <a:chExt cx="6410160" cy="2438280"/>
          </a:xfrm>
        </p:grpSpPr>
        <p:sp>
          <p:nvSpPr>
            <p:cNvPr id="328" name="Text Box 34"/>
            <p:cNvSpPr/>
            <p:nvPr/>
          </p:nvSpPr>
          <p:spPr>
            <a:xfrm>
              <a:off x="1066680" y="3429000"/>
              <a:ext cx="641016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函数在一点处连续的三个条件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函数在点  及其近旁有定义；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存在；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极限值     等于函数值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29" name="Group 35"/>
            <p:cNvGrpSpPr/>
            <p:nvPr/>
          </p:nvGrpSpPr>
          <p:grpSpPr>
            <a:xfrm>
              <a:off x="1990440" y="3962160"/>
              <a:ext cx="4876920" cy="1905120"/>
              <a:chOff x="1990440" y="3962160"/>
              <a:chExt cx="4876920" cy="1905120"/>
            </a:xfrm>
          </p:grpSpPr>
          <p:graphicFrame>
            <p:nvGraphicFramePr>
              <p:cNvPr id="330" name="Object 36"/>
              <p:cNvGraphicFramePr/>
              <p:nvPr/>
            </p:nvGraphicFramePr>
            <p:xfrm>
              <a:off x="2066760" y="5105160"/>
              <a:ext cx="1211040" cy="608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1" name="Object 3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66760" y="5105160"/>
                        <a:ext cx="1211040" cy="60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2" name="Object 37"/>
              <p:cNvGraphicFramePr/>
              <p:nvPr/>
            </p:nvGraphicFramePr>
            <p:xfrm>
              <a:off x="3285720" y="3981240"/>
              <a:ext cx="343080" cy="476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3" name="Object 3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85720" y="3981240"/>
                        <a:ext cx="343080" cy="47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4" name="Object 38"/>
              <p:cNvGraphicFramePr/>
              <p:nvPr/>
            </p:nvGraphicFramePr>
            <p:xfrm>
              <a:off x="2066760" y="4552920"/>
              <a:ext cx="1211040" cy="608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35" name="Object 3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066760" y="4552920"/>
                        <a:ext cx="1211040" cy="60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6" name="Object 39"/>
              <p:cNvGraphicFramePr/>
              <p:nvPr/>
            </p:nvGraphicFramePr>
            <p:xfrm>
              <a:off x="4238280" y="5095800"/>
              <a:ext cx="817560" cy="4762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37" name="Object 39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38280" y="5095800"/>
                        <a:ext cx="817560" cy="47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8" name="Rectangle 40"/>
              <p:cNvSpPr/>
              <p:nvPr/>
            </p:nvSpPr>
            <p:spPr>
              <a:xfrm>
                <a:off x="1990440" y="3962160"/>
                <a:ext cx="4876920" cy="1905120"/>
              </a:xfrm>
              <a:prstGeom prst="rect">
                <a:avLst/>
              </a:prstGeom>
              <a:noFill/>
              <a:ln w="3492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42"/>
          <p:cNvGrpSpPr/>
          <p:nvPr/>
        </p:nvGrpSpPr>
        <p:grpSpPr>
          <a:xfrm>
            <a:off x="1066680" y="914400"/>
            <a:ext cx="6933960" cy="2209680"/>
            <a:chOff x="1066680" y="914400"/>
            <a:chExt cx="6933960" cy="2209680"/>
          </a:xfrm>
        </p:grpSpPr>
        <p:sp>
          <p:nvSpPr>
            <p:cNvPr id="340" name="Text Box 43"/>
            <p:cNvSpPr/>
            <p:nvPr/>
          </p:nvSpPr>
          <p:spPr>
            <a:xfrm>
              <a:off x="1066680" y="914400"/>
              <a:ext cx="6933960" cy="2189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定义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3</a:t>
              </a:r>
              <a:r>
                <a:rPr b="1" lang="en-US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设函数         在点  及其近旁有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义，如果函数     当       时极限存在，且等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于它在点   处的函数值，即若：            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那么，称函数        在点   处连续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341" name="Object 44"/>
            <p:cNvGraphicFramePr/>
            <p:nvPr/>
          </p:nvGraphicFramePr>
          <p:xfrm>
            <a:off x="3504960" y="990720"/>
            <a:ext cx="1295280" cy="44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2" name="Object 4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4960" y="990720"/>
                      <a:ext cx="129528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3" name="Object 45"/>
            <p:cNvGraphicFramePr/>
            <p:nvPr/>
          </p:nvGraphicFramePr>
          <p:xfrm>
            <a:off x="5410080" y="990720"/>
            <a:ext cx="385560" cy="53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4" name="Object 4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10080" y="990720"/>
                      <a:ext cx="38556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46"/>
            <p:cNvGraphicFramePr/>
            <p:nvPr/>
          </p:nvGraphicFramePr>
          <p:xfrm>
            <a:off x="2971440" y="1600200"/>
            <a:ext cx="762120" cy="450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46" name="Object 4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71440" y="1600200"/>
                      <a:ext cx="76212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7" name="Object 47"/>
            <p:cNvGraphicFramePr/>
            <p:nvPr/>
          </p:nvGraphicFramePr>
          <p:xfrm>
            <a:off x="5410080" y="2133720"/>
            <a:ext cx="2209680" cy="596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48" name="Object 4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10080" y="2133720"/>
                      <a:ext cx="22096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Object 48"/>
            <p:cNvGraphicFramePr/>
            <p:nvPr/>
          </p:nvGraphicFramePr>
          <p:xfrm>
            <a:off x="2438280" y="2057400"/>
            <a:ext cx="384120" cy="533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50" name="Object 4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438280" y="2057400"/>
                      <a:ext cx="38412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49"/>
            <p:cNvGraphicFramePr/>
            <p:nvPr/>
          </p:nvGraphicFramePr>
          <p:xfrm>
            <a:off x="2971440" y="2666880"/>
            <a:ext cx="1295640" cy="449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52" name="Object 4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971440" y="2666880"/>
                      <a:ext cx="129564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50"/>
            <p:cNvGraphicFramePr/>
            <p:nvPr/>
          </p:nvGraphicFramePr>
          <p:xfrm>
            <a:off x="4876560" y="2590920"/>
            <a:ext cx="384120" cy="533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54" name="Object 50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876560" y="2590920"/>
                      <a:ext cx="3841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5" name="Object 51"/>
            <p:cNvGraphicFramePr/>
            <p:nvPr/>
          </p:nvGraphicFramePr>
          <p:xfrm>
            <a:off x="4038480" y="1523880"/>
            <a:ext cx="1066680" cy="5320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56" name="Object 51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38480" y="1523880"/>
                      <a:ext cx="1066680" cy="53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7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5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6"/>
          <p:cNvSpPr/>
          <p:nvPr/>
        </p:nvSpPr>
        <p:spPr>
          <a:xfrm>
            <a:off x="871560" y="1828800"/>
            <a:ext cx="7467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明函数               在点      处连续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59" name="Object 7"/>
          <p:cNvGraphicFramePr/>
          <p:nvPr/>
        </p:nvGraphicFramePr>
        <p:xfrm>
          <a:off x="2971800" y="1828800"/>
          <a:ext cx="218772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828800"/>
                    <a:ext cx="21877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8"/>
          <p:cNvGraphicFramePr/>
          <p:nvPr/>
        </p:nvGraphicFramePr>
        <p:xfrm>
          <a:off x="5850000" y="1844640"/>
          <a:ext cx="90468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0000" y="1844640"/>
                    <a:ext cx="904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9"/>
          <p:cNvSpPr/>
          <p:nvPr/>
        </p:nvSpPr>
        <p:spPr>
          <a:xfrm>
            <a:off x="933480" y="3048120"/>
            <a:ext cx="7372440" cy="1572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讨论函数                  在点      的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续性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64" name="Object 10"/>
          <p:cNvGraphicFramePr/>
          <p:nvPr/>
        </p:nvGraphicFramePr>
        <p:xfrm>
          <a:off x="3048120" y="3360600"/>
          <a:ext cx="259056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360600"/>
                    <a:ext cx="25905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1"/>
          <p:cNvGraphicFramePr/>
          <p:nvPr/>
        </p:nvGraphicFramePr>
        <p:xfrm>
          <a:off x="6434280" y="3603600"/>
          <a:ext cx="8380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34280" y="3603600"/>
                    <a:ext cx="838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Text Box 12"/>
          <p:cNvSpPr/>
          <p:nvPr/>
        </p:nvSpPr>
        <p:spPr>
          <a:xfrm>
            <a:off x="914400" y="44956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6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7"/>
          <p:cNvSpPr/>
          <p:nvPr/>
        </p:nvSpPr>
        <p:spPr>
          <a:xfrm>
            <a:off x="685800" y="137160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cc0066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cc0066"/>
                </a:solidFill>
                <a:latin typeface="楷体"/>
                <a:ea typeface="楷体"/>
              </a:rPr>
              <a:t>）左右连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观察                  函数的图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71" name="Object 8"/>
          <p:cNvGraphicFramePr/>
          <p:nvPr/>
        </p:nvGraphicFramePr>
        <p:xfrm>
          <a:off x="1523880" y="1731960"/>
          <a:ext cx="259092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31960"/>
                    <a:ext cx="25909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Line 9"/>
          <p:cNvSpPr/>
          <p:nvPr/>
        </p:nvSpPr>
        <p:spPr>
          <a:xfrm>
            <a:off x="5035680" y="450216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74" name="Group 35"/>
          <p:cNvGrpSpPr/>
          <p:nvPr/>
        </p:nvGrpSpPr>
        <p:grpSpPr>
          <a:xfrm>
            <a:off x="5549400" y="2362320"/>
            <a:ext cx="3002400" cy="3434760"/>
            <a:chOff x="5549400" y="2362320"/>
            <a:chExt cx="3002400" cy="3434760"/>
          </a:xfrm>
        </p:grpSpPr>
        <p:sp>
          <p:nvSpPr>
            <p:cNvPr id="375" name="Line 12"/>
            <p:cNvSpPr/>
            <p:nvPr/>
          </p:nvSpPr>
          <p:spPr>
            <a:xfrm flipV="1">
              <a:off x="6788160" y="252072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6759720" y="397188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6759720" y="3460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378" name="Object 15"/>
            <p:cNvGraphicFramePr/>
            <p:nvPr/>
          </p:nvGraphicFramePr>
          <p:xfrm>
            <a:off x="6524640" y="3330720"/>
            <a:ext cx="239760" cy="31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24640" y="3330720"/>
                      <a:ext cx="23976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0" name="Object 16"/>
            <p:cNvGraphicFramePr/>
            <p:nvPr/>
          </p:nvGraphicFramePr>
          <p:xfrm>
            <a:off x="6537240" y="4498920"/>
            <a:ext cx="239760" cy="263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1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37240" y="4498920"/>
                      <a:ext cx="23976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2" name="Object 17"/>
            <p:cNvGraphicFramePr/>
            <p:nvPr/>
          </p:nvGraphicFramePr>
          <p:xfrm>
            <a:off x="7626240" y="4492800"/>
            <a:ext cx="239760" cy="311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3" name="Object 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6240" y="4492800"/>
                      <a:ext cx="23976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4" name="Object 18"/>
            <p:cNvGraphicFramePr/>
            <p:nvPr/>
          </p:nvGraphicFramePr>
          <p:xfrm>
            <a:off x="8312040" y="4543560"/>
            <a:ext cx="239760" cy="26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5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12040" y="4543560"/>
                      <a:ext cx="23976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6" name="Object 19"/>
            <p:cNvGraphicFramePr/>
            <p:nvPr/>
          </p:nvGraphicFramePr>
          <p:xfrm>
            <a:off x="6483240" y="2362320"/>
            <a:ext cx="263520" cy="311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7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83240" y="2362320"/>
                      <a:ext cx="26352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8" name="Object 20"/>
            <p:cNvGraphicFramePr/>
            <p:nvPr/>
          </p:nvGraphicFramePr>
          <p:xfrm>
            <a:off x="5958000" y="4146480"/>
            <a:ext cx="360360" cy="311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9" name="Object 2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58000" y="4146480"/>
                      <a:ext cx="36036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0" name="Line 21"/>
            <p:cNvSpPr/>
            <p:nvPr/>
          </p:nvSpPr>
          <p:spPr>
            <a:xfrm>
              <a:off x="6804000" y="3495600"/>
              <a:ext cx="1600200" cy="160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 flipH="1">
              <a:off x="5549400" y="4016520"/>
              <a:ext cx="121932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392" name="Object 23"/>
            <p:cNvGraphicFramePr/>
            <p:nvPr/>
          </p:nvGraphicFramePr>
          <p:xfrm>
            <a:off x="6864480" y="3809880"/>
            <a:ext cx="168120" cy="311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93" name="Object 2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64480" y="3809880"/>
                      <a:ext cx="16812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4" name="Text Box 25"/>
          <p:cNvSpPr/>
          <p:nvPr/>
        </p:nvSpPr>
        <p:spPr>
          <a:xfrm>
            <a:off x="762120" y="281952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虽然函数在点      处不连续，但是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足                 右极限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函数值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95" name="Object 26"/>
          <p:cNvGraphicFramePr/>
          <p:nvPr/>
        </p:nvGraphicFramePr>
        <p:xfrm>
          <a:off x="2730600" y="2817720"/>
          <a:ext cx="838080" cy="419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6" name="Object 2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30600" y="2817720"/>
                    <a:ext cx="838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7"/>
          <p:cNvGraphicFramePr/>
          <p:nvPr/>
        </p:nvGraphicFramePr>
        <p:xfrm>
          <a:off x="1176480" y="3400560"/>
          <a:ext cx="2590560" cy="576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8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76480" y="3400560"/>
                    <a:ext cx="2590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9" name="Group 34"/>
          <p:cNvGrpSpPr/>
          <p:nvPr/>
        </p:nvGrpSpPr>
        <p:grpSpPr>
          <a:xfrm>
            <a:off x="762120" y="4038480"/>
            <a:ext cx="5715000" cy="2056680"/>
            <a:chOff x="762120" y="4038480"/>
            <a:chExt cx="5715000" cy="2056680"/>
          </a:xfrm>
        </p:grpSpPr>
        <p:sp>
          <p:nvSpPr>
            <p:cNvPr id="400" name="AutoShape 28"/>
            <p:cNvSpPr/>
            <p:nvPr/>
          </p:nvSpPr>
          <p:spPr>
            <a:xfrm>
              <a:off x="2454120" y="403848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80008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2066760" y="47210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66"/>
                  </a:solidFill>
                  <a:latin typeface="楷体"/>
                  <a:ea typeface="楷体"/>
                </a:rPr>
                <a:t>右连续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Text Box 30"/>
            <p:cNvSpPr/>
            <p:nvPr/>
          </p:nvSpPr>
          <p:spPr>
            <a:xfrm>
              <a:off x="762120" y="563544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66"/>
                  </a:solidFill>
                  <a:latin typeface="楷体"/>
                  <a:ea typeface="楷体"/>
                </a:rPr>
                <a:t>同理，左极限</a:t>
              </a:r>
              <a:r>
                <a:rPr b="1" lang="en-US" sz="2400" spc="-1" strike="noStrike">
                  <a:solidFill>
                    <a:srgbClr val="cc0066"/>
                  </a:solidFill>
                  <a:latin typeface="楷体"/>
                  <a:ea typeface="楷体"/>
                </a:rPr>
                <a:t>=</a:t>
              </a:r>
              <a:r>
                <a:rPr b="1" lang="zh-CN" sz="2400" spc="-1" strike="noStrike">
                  <a:solidFill>
                    <a:srgbClr val="cc0066"/>
                  </a:solidFill>
                  <a:latin typeface="楷体"/>
                  <a:ea typeface="楷体"/>
                </a:rPr>
                <a:t>函数值     左连续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 rot="16200000">
              <a:off x="3987720" y="557820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80008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04" name="Text Box 37"/>
          <p:cNvSpPr/>
          <p:nvPr/>
        </p:nvSpPr>
        <p:spPr>
          <a:xfrm>
            <a:off x="609480" y="533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9.3 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函数         在区间上的连续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05" name="Object 38"/>
          <p:cNvGraphicFramePr/>
          <p:nvPr/>
        </p:nvGraphicFramePr>
        <p:xfrm>
          <a:off x="2390760" y="555480"/>
          <a:ext cx="1295280" cy="451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06" name="Object 3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390760" y="555480"/>
                    <a:ext cx="1295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7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685800" y="914400"/>
            <a:ext cx="7772400" cy="230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设函数       在区间        内有定义，如果左极限            存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在且等于      ，即若                        ，那么称函数       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点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左连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09" name="Object 5"/>
          <p:cNvGraphicFramePr/>
          <p:nvPr/>
        </p:nvGraphicFramePr>
        <p:xfrm>
          <a:off x="1676520" y="961920"/>
          <a:ext cx="628560" cy="3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61920"/>
                    <a:ext cx="6285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1104840" y="2066760"/>
          <a:ext cx="233280" cy="3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2066760"/>
                    <a:ext cx="23328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7"/>
          <p:cNvGraphicFramePr/>
          <p:nvPr/>
        </p:nvGraphicFramePr>
        <p:xfrm>
          <a:off x="3219480" y="961920"/>
          <a:ext cx="652320" cy="37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9480" y="961920"/>
                    <a:ext cx="65232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8"/>
          <p:cNvGraphicFramePr/>
          <p:nvPr/>
        </p:nvGraphicFramePr>
        <p:xfrm>
          <a:off x="6896160" y="914400"/>
          <a:ext cx="109548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96160" y="914400"/>
                    <a:ext cx="1095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9"/>
          <p:cNvGraphicFramePr/>
          <p:nvPr/>
        </p:nvGraphicFramePr>
        <p:xfrm>
          <a:off x="1981080" y="1504800"/>
          <a:ext cx="606600" cy="37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1504800"/>
                    <a:ext cx="6066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10"/>
          <p:cNvGraphicFramePr/>
          <p:nvPr/>
        </p:nvGraphicFramePr>
        <p:xfrm>
          <a:off x="3505320" y="1504800"/>
          <a:ext cx="188748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1504800"/>
                    <a:ext cx="18874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1"/>
          <p:cNvGraphicFramePr/>
          <p:nvPr/>
        </p:nvGraphicFramePr>
        <p:xfrm>
          <a:off x="7257960" y="1514520"/>
          <a:ext cx="62892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57960" y="1514520"/>
                    <a:ext cx="62892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Text Box 12"/>
          <p:cNvSpPr/>
          <p:nvPr/>
        </p:nvSpPr>
        <p:spPr>
          <a:xfrm>
            <a:off x="685800" y="3429000"/>
            <a:ext cx="7772400" cy="230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设函数       在区间        内有定义，如果右极限            存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在且等于      ，即若                        ，那么称函数       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点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右连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24" name="Object 13"/>
          <p:cNvGraphicFramePr/>
          <p:nvPr/>
        </p:nvGraphicFramePr>
        <p:xfrm>
          <a:off x="1676520" y="3476520"/>
          <a:ext cx="628560" cy="373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5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476520"/>
                    <a:ext cx="6285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4"/>
          <p:cNvGraphicFramePr/>
          <p:nvPr/>
        </p:nvGraphicFramePr>
        <p:xfrm>
          <a:off x="1123920" y="4638600"/>
          <a:ext cx="233280" cy="257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7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23920" y="4638600"/>
                    <a:ext cx="23328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5"/>
          <p:cNvGraphicFramePr/>
          <p:nvPr/>
        </p:nvGraphicFramePr>
        <p:xfrm>
          <a:off x="3209760" y="3486240"/>
          <a:ext cx="652680" cy="372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9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09760" y="3486240"/>
                    <a:ext cx="652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6"/>
          <p:cNvGraphicFramePr/>
          <p:nvPr/>
        </p:nvGraphicFramePr>
        <p:xfrm>
          <a:off x="6886440" y="3438360"/>
          <a:ext cx="1095480" cy="513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31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86440" y="3438360"/>
                    <a:ext cx="10954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17"/>
          <p:cNvGraphicFramePr/>
          <p:nvPr/>
        </p:nvGraphicFramePr>
        <p:xfrm>
          <a:off x="1951200" y="4029120"/>
          <a:ext cx="630000" cy="372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33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51200" y="4029120"/>
                    <a:ext cx="630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18"/>
          <p:cNvGraphicFramePr/>
          <p:nvPr/>
        </p:nvGraphicFramePr>
        <p:xfrm>
          <a:off x="3475080" y="4010040"/>
          <a:ext cx="1911240" cy="512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35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75080" y="4010040"/>
                    <a:ext cx="19112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19"/>
          <p:cNvGraphicFramePr/>
          <p:nvPr/>
        </p:nvGraphicFramePr>
        <p:xfrm>
          <a:off x="7257960" y="4029120"/>
          <a:ext cx="628920" cy="372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37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257960" y="4029120"/>
                    <a:ext cx="62892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8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838080" y="9907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数学家魏尔斯特拉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图片 2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251160" cy="388620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1062000" y="2286000"/>
            <a:ext cx="366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Arial"/>
              </a:rPr>
              <a:t>魏尔斯特拉斯是德国数学家，被誉为“现代分析之父”，给出了严格的极限定义，培养了世界上第一位女博士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7"/>
          <p:cNvSpPr/>
          <p:nvPr/>
        </p:nvSpPr>
        <p:spPr>
          <a:xfrm>
            <a:off x="990720" y="9907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609480" y="6094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cc0066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cc0066"/>
                </a:solidFill>
                <a:latin typeface="楷体"/>
                <a:ea typeface="楷体"/>
              </a:rPr>
              <a:t>）区间上的连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观察两组函数函数图象，让学生自己总结函数在区间上的连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41" name="Group 41"/>
          <p:cNvGrpSpPr/>
          <p:nvPr/>
        </p:nvGrpSpPr>
        <p:grpSpPr>
          <a:xfrm>
            <a:off x="1219320" y="2247840"/>
            <a:ext cx="2957400" cy="2819520"/>
            <a:chOff x="1219320" y="2247840"/>
            <a:chExt cx="2957400" cy="2819520"/>
          </a:xfrm>
        </p:grpSpPr>
        <p:sp>
          <p:nvSpPr>
            <p:cNvPr id="442" name="Line 9"/>
            <p:cNvSpPr/>
            <p:nvPr/>
          </p:nvSpPr>
          <p:spPr>
            <a:xfrm>
              <a:off x="1219320" y="422928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 flipV="1">
              <a:off x="2209680" y="2247840"/>
              <a:ext cx="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1600200" y="2857680"/>
              <a:ext cx="1752480" cy="53316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104" h="336">
                  <a:moveTo>
                    <a:pt x="0" y="336"/>
                  </a:moveTo>
                  <a:cubicBezTo>
                    <a:pt x="32" y="248"/>
                    <a:pt x="64" y="160"/>
                    <a:pt x="192" y="144"/>
                  </a:cubicBezTo>
                  <a:cubicBezTo>
                    <a:pt x="320" y="128"/>
                    <a:pt x="616" y="264"/>
                    <a:pt x="768" y="240"/>
                  </a:cubicBezTo>
                  <a:cubicBezTo>
                    <a:pt x="920" y="216"/>
                    <a:pt x="1048" y="40"/>
                    <a:pt x="110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5" name="Line 13"/>
            <p:cNvSpPr/>
            <p:nvPr/>
          </p:nvSpPr>
          <p:spPr>
            <a:xfrm>
              <a:off x="15876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Line 14"/>
            <p:cNvSpPr/>
            <p:nvPr/>
          </p:nvSpPr>
          <p:spPr>
            <a:xfrm>
              <a:off x="3403440" y="2844720"/>
              <a:ext cx="0" cy="139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Oval 16"/>
            <p:cNvSpPr/>
            <p:nvPr/>
          </p:nvSpPr>
          <p:spPr>
            <a:xfrm>
              <a:off x="1562040" y="3378240"/>
              <a:ext cx="76320" cy="7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Oval 17"/>
            <p:cNvSpPr/>
            <p:nvPr/>
          </p:nvSpPr>
          <p:spPr>
            <a:xfrm>
              <a:off x="3352680" y="2781360"/>
              <a:ext cx="76320" cy="7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449" name="Object 18"/>
            <p:cNvGraphicFramePr/>
            <p:nvPr/>
          </p:nvGraphicFramePr>
          <p:xfrm>
            <a:off x="3975120" y="4254480"/>
            <a:ext cx="201600" cy="22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0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75120" y="4254480"/>
                      <a:ext cx="201600" cy="22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Object 19"/>
            <p:cNvGraphicFramePr/>
            <p:nvPr/>
          </p:nvGraphicFramePr>
          <p:xfrm>
            <a:off x="1905120" y="2247840"/>
            <a:ext cx="220680" cy="26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2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2247840"/>
                      <a:ext cx="220680" cy="26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Object 20"/>
            <p:cNvGraphicFramePr/>
            <p:nvPr/>
          </p:nvGraphicFramePr>
          <p:xfrm>
            <a:off x="2019240" y="4229280"/>
            <a:ext cx="200160" cy="22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4" name="Object 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19240" y="4229280"/>
                      <a:ext cx="200160" cy="22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Object 21"/>
            <p:cNvGraphicFramePr/>
            <p:nvPr/>
          </p:nvGraphicFramePr>
          <p:xfrm>
            <a:off x="1473120" y="4254480"/>
            <a:ext cx="200160" cy="222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6" name="Object 2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73120" y="4254480"/>
                      <a:ext cx="200160" cy="22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Object 22"/>
            <p:cNvGraphicFramePr/>
            <p:nvPr/>
          </p:nvGraphicFramePr>
          <p:xfrm>
            <a:off x="3340080" y="4245120"/>
            <a:ext cx="201600" cy="282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8" name="Object 2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40080" y="4245120"/>
                      <a:ext cx="20160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9" name="Group 37"/>
          <p:cNvGrpSpPr/>
          <p:nvPr/>
        </p:nvGrpSpPr>
        <p:grpSpPr>
          <a:xfrm>
            <a:off x="4724280" y="2247840"/>
            <a:ext cx="2957760" cy="2819520"/>
            <a:chOff x="4724280" y="2247840"/>
            <a:chExt cx="2957760" cy="2819520"/>
          </a:xfrm>
        </p:grpSpPr>
        <p:sp>
          <p:nvSpPr>
            <p:cNvPr id="460" name="Line 25"/>
            <p:cNvSpPr/>
            <p:nvPr/>
          </p:nvSpPr>
          <p:spPr>
            <a:xfrm>
              <a:off x="4724280" y="42289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Line 26"/>
            <p:cNvSpPr/>
            <p:nvPr/>
          </p:nvSpPr>
          <p:spPr>
            <a:xfrm flipV="1">
              <a:off x="5715000" y="2247840"/>
              <a:ext cx="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Freeform 27"/>
            <p:cNvSpPr/>
            <p:nvPr/>
          </p:nvSpPr>
          <p:spPr>
            <a:xfrm>
              <a:off x="5105520" y="2857320"/>
              <a:ext cx="1752480" cy="53352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104" h="336">
                  <a:moveTo>
                    <a:pt x="0" y="336"/>
                  </a:moveTo>
                  <a:cubicBezTo>
                    <a:pt x="32" y="248"/>
                    <a:pt x="64" y="160"/>
                    <a:pt x="192" y="144"/>
                  </a:cubicBezTo>
                  <a:cubicBezTo>
                    <a:pt x="320" y="128"/>
                    <a:pt x="616" y="264"/>
                    <a:pt x="768" y="240"/>
                  </a:cubicBezTo>
                  <a:cubicBezTo>
                    <a:pt x="920" y="216"/>
                    <a:pt x="1048" y="40"/>
                    <a:pt x="110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3" name="Line 28"/>
            <p:cNvSpPr/>
            <p:nvPr/>
          </p:nvSpPr>
          <p:spPr>
            <a:xfrm>
              <a:off x="509256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>
              <a:off x="6908760" y="2844720"/>
              <a:ext cx="0" cy="139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Oval 30"/>
            <p:cNvSpPr/>
            <p:nvPr/>
          </p:nvSpPr>
          <p:spPr>
            <a:xfrm>
              <a:off x="5067360" y="33782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Oval 31"/>
            <p:cNvSpPr/>
            <p:nvPr/>
          </p:nvSpPr>
          <p:spPr>
            <a:xfrm>
              <a:off x="6858000" y="27813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467" name="Object 32"/>
            <p:cNvGraphicFramePr/>
            <p:nvPr/>
          </p:nvGraphicFramePr>
          <p:xfrm>
            <a:off x="7480440" y="4254480"/>
            <a:ext cx="201600" cy="222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8" name="Object 3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480440" y="4254480"/>
                      <a:ext cx="201600" cy="22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Object 33"/>
            <p:cNvGraphicFramePr/>
            <p:nvPr/>
          </p:nvGraphicFramePr>
          <p:xfrm>
            <a:off x="5410080" y="2247840"/>
            <a:ext cx="220680" cy="262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Object 3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10080" y="2247840"/>
                      <a:ext cx="220680" cy="26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Object 34"/>
            <p:cNvGraphicFramePr/>
            <p:nvPr/>
          </p:nvGraphicFramePr>
          <p:xfrm>
            <a:off x="5524560" y="4228920"/>
            <a:ext cx="199800" cy="220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Object 3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24560" y="4228920"/>
                      <a:ext cx="1998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3" name="Object 35"/>
            <p:cNvGraphicFramePr/>
            <p:nvPr/>
          </p:nvGraphicFramePr>
          <p:xfrm>
            <a:off x="4978440" y="4254480"/>
            <a:ext cx="200160" cy="222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74" name="Object 3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978440" y="4254480"/>
                      <a:ext cx="200160" cy="22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5" name="Object 36"/>
            <p:cNvGraphicFramePr/>
            <p:nvPr/>
          </p:nvGraphicFramePr>
          <p:xfrm>
            <a:off x="6845400" y="4244760"/>
            <a:ext cx="201600" cy="282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76" name="Object 3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845400" y="4244760"/>
                      <a:ext cx="20160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7" name="Text Box 38"/>
          <p:cNvSpPr/>
          <p:nvPr/>
        </p:nvSpPr>
        <p:spPr>
          <a:xfrm>
            <a:off x="990720" y="5257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函数在开区间内连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48006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函数在闭区间内连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9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5"/>
          <p:cNvSpPr/>
          <p:nvPr/>
        </p:nvSpPr>
        <p:spPr>
          <a:xfrm>
            <a:off x="1219320" y="1371600"/>
            <a:ext cx="7315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首先考察下列函数在点      的连续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81" name="Object 6"/>
          <p:cNvGraphicFramePr/>
          <p:nvPr/>
        </p:nvGraphicFramePr>
        <p:xfrm>
          <a:off x="4470480" y="1397160"/>
          <a:ext cx="76176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0480" y="1397160"/>
                    <a:ext cx="7617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8"/>
          <p:cNvGraphicFramePr/>
          <p:nvPr/>
        </p:nvGraphicFramePr>
        <p:xfrm>
          <a:off x="990720" y="2158920"/>
          <a:ext cx="14475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158920"/>
                    <a:ext cx="1447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11"/>
          <p:cNvGraphicFramePr/>
          <p:nvPr/>
        </p:nvGraphicFramePr>
        <p:xfrm>
          <a:off x="3048120" y="1828800"/>
          <a:ext cx="2057400" cy="12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828800"/>
                    <a:ext cx="20574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12"/>
          <p:cNvGraphicFramePr/>
          <p:nvPr/>
        </p:nvGraphicFramePr>
        <p:xfrm>
          <a:off x="6019920" y="1996920"/>
          <a:ext cx="1981080" cy="7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1996920"/>
                    <a:ext cx="198108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9" name="Group 82"/>
          <p:cNvGrpSpPr/>
          <p:nvPr/>
        </p:nvGrpSpPr>
        <p:grpSpPr>
          <a:xfrm>
            <a:off x="6095880" y="2971800"/>
            <a:ext cx="2638440" cy="2743200"/>
            <a:chOff x="6095880" y="2971800"/>
            <a:chExt cx="2638440" cy="2743200"/>
          </a:xfrm>
        </p:grpSpPr>
        <p:sp>
          <p:nvSpPr>
            <p:cNvPr id="490" name="AutoShape 47"/>
            <p:cNvSpPr/>
            <p:nvPr/>
          </p:nvSpPr>
          <p:spPr>
            <a:xfrm>
              <a:off x="6095880" y="2971800"/>
              <a:ext cx="263844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1" name="Line 48"/>
            <p:cNvSpPr/>
            <p:nvPr/>
          </p:nvSpPr>
          <p:spPr>
            <a:xfrm>
              <a:off x="6248520" y="4495680"/>
              <a:ext cx="228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Line 49"/>
            <p:cNvSpPr/>
            <p:nvPr/>
          </p:nvSpPr>
          <p:spPr>
            <a:xfrm flipV="1">
              <a:off x="7010280" y="3124080"/>
              <a:ext cx="0" cy="198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3" name="Line 50"/>
            <p:cNvSpPr/>
            <p:nvPr/>
          </p:nvSpPr>
          <p:spPr>
            <a:xfrm flipV="1">
              <a:off x="6477120" y="3886200"/>
              <a:ext cx="790560" cy="8762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4" name="Line 51"/>
            <p:cNvSpPr/>
            <p:nvPr/>
          </p:nvSpPr>
          <p:spPr>
            <a:xfrm flipV="1">
              <a:off x="7267680" y="3419640"/>
              <a:ext cx="468360" cy="4744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Oval 53"/>
            <p:cNvSpPr/>
            <p:nvPr/>
          </p:nvSpPr>
          <p:spPr>
            <a:xfrm>
              <a:off x="7238880" y="445788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Line 54"/>
            <p:cNvSpPr/>
            <p:nvPr/>
          </p:nvSpPr>
          <p:spPr>
            <a:xfrm>
              <a:off x="726912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497" name="Object 55"/>
            <p:cNvGraphicFramePr/>
            <p:nvPr/>
          </p:nvGraphicFramePr>
          <p:xfrm>
            <a:off x="7210440" y="4524480"/>
            <a:ext cx="135000" cy="253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8" name="Object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10440" y="4524480"/>
                      <a:ext cx="13500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9" name="Oval 56"/>
            <p:cNvSpPr/>
            <p:nvPr/>
          </p:nvSpPr>
          <p:spPr>
            <a:xfrm>
              <a:off x="7250040" y="3860640"/>
              <a:ext cx="6516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500" name="Object 57"/>
            <p:cNvGraphicFramePr/>
            <p:nvPr/>
          </p:nvGraphicFramePr>
          <p:xfrm>
            <a:off x="6740640" y="3168720"/>
            <a:ext cx="215640" cy="253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01" name="Object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40640" y="3168720"/>
                      <a:ext cx="21564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2" name="Object 58"/>
            <p:cNvGraphicFramePr/>
            <p:nvPr/>
          </p:nvGraphicFramePr>
          <p:xfrm>
            <a:off x="8342280" y="4581360"/>
            <a:ext cx="195120" cy="214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03" name="Object 5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42280" y="4581360"/>
                      <a:ext cx="195120" cy="2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Object 59"/>
            <p:cNvGraphicFramePr/>
            <p:nvPr/>
          </p:nvGraphicFramePr>
          <p:xfrm>
            <a:off x="6775560" y="4498920"/>
            <a:ext cx="196920" cy="214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05" name="Object 5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75560" y="4498920"/>
                      <a:ext cx="19692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6" name="Group 83"/>
          <p:cNvGrpSpPr/>
          <p:nvPr/>
        </p:nvGrpSpPr>
        <p:grpSpPr>
          <a:xfrm>
            <a:off x="380880" y="2743200"/>
            <a:ext cx="5289840" cy="2895480"/>
            <a:chOff x="380880" y="2743200"/>
            <a:chExt cx="5289840" cy="2895480"/>
          </a:xfrm>
        </p:grpSpPr>
        <p:sp>
          <p:nvSpPr>
            <p:cNvPr id="507" name="AutoShape 17"/>
            <p:cNvSpPr/>
            <p:nvPr/>
          </p:nvSpPr>
          <p:spPr>
            <a:xfrm>
              <a:off x="380880" y="3200400"/>
              <a:ext cx="2552760" cy="23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>
              <a:off x="533520" y="4495680"/>
              <a:ext cx="2325600" cy="6480"/>
            </a:xfrm>
            <a:custGeom>
              <a:avLst/>
              <a:gdLst>
                <a:gd name="textAreaLeft" fmla="*/ 0 w 2325600"/>
                <a:gd name="textAreaRight" fmla="*/ 2325600 w 2325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25" h="6">
                  <a:moveTo>
                    <a:pt x="0" y="6"/>
                  </a:moveTo>
                  <a:lnTo>
                    <a:pt x="2625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>
              <a:off x="1352520" y="3286080"/>
              <a:ext cx="1440" cy="1781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" h="2010">
                  <a:moveTo>
                    <a:pt x="0" y="2010"/>
                  </a:move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Line 20"/>
            <p:cNvSpPr/>
            <p:nvPr/>
          </p:nvSpPr>
          <p:spPr>
            <a:xfrm flipV="1">
              <a:off x="685800" y="3962160"/>
              <a:ext cx="905040" cy="8506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1" name="Line 21"/>
            <p:cNvSpPr/>
            <p:nvPr/>
          </p:nvSpPr>
          <p:spPr>
            <a:xfrm>
              <a:off x="1617840" y="3962520"/>
              <a:ext cx="14040" cy="55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2" name="Line 22"/>
            <p:cNvSpPr/>
            <p:nvPr/>
          </p:nvSpPr>
          <p:spPr>
            <a:xfrm flipH="1">
              <a:off x="1337760" y="3951360"/>
              <a:ext cx="21276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Line 24"/>
            <p:cNvSpPr/>
            <p:nvPr/>
          </p:nvSpPr>
          <p:spPr>
            <a:xfrm flipV="1">
              <a:off x="1628640" y="3381120"/>
              <a:ext cx="611280" cy="549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4" name="Oval 25"/>
            <p:cNvSpPr/>
            <p:nvPr/>
          </p:nvSpPr>
          <p:spPr>
            <a:xfrm>
              <a:off x="1587600" y="3930480"/>
              <a:ext cx="5868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515" name="Object 26"/>
            <p:cNvGraphicFramePr/>
            <p:nvPr/>
          </p:nvGraphicFramePr>
          <p:xfrm>
            <a:off x="1112760" y="3375000"/>
            <a:ext cx="193680" cy="230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16" name="Object 2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112760" y="3375000"/>
                      <a:ext cx="193680" cy="23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Object 27"/>
            <p:cNvGraphicFramePr/>
            <p:nvPr/>
          </p:nvGraphicFramePr>
          <p:xfrm>
            <a:off x="2662200" y="4562640"/>
            <a:ext cx="177840" cy="193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18" name="Object 2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62200" y="4562640"/>
                      <a:ext cx="177840" cy="19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9" name="Object 28"/>
            <p:cNvGraphicFramePr/>
            <p:nvPr/>
          </p:nvGraphicFramePr>
          <p:xfrm>
            <a:off x="1143000" y="4522680"/>
            <a:ext cx="177840" cy="195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20" name="Object 2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143000" y="4522680"/>
                      <a:ext cx="17784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1" name="AutoShape 31"/>
            <p:cNvSpPr/>
            <p:nvPr/>
          </p:nvSpPr>
          <p:spPr>
            <a:xfrm>
              <a:off x="3124080" y="2743200"/>
              <a:ext cx="254664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Line 32"/>
            <p:cNvSpPr/>
            <p:nvPr/>
          </p:nvSpPr>
          <p:spPr>
            <a:xfrm>
              <a:off x="3429000" y="4495680"/>
              <a:ext cx="2228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Line 33"/>
            <p:cNvSpPr/>
            <p:nvPr/>
          </p:nvSpPr>
          <p:spPr>
            <a:xfrm flipH="1" flipV="1">
              <a:off x="4190760" y="3276720"/>
              <a:ext cx="12600" cy="213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Line 34"/>
            <p:cNvSpPr/>
            <p:nvPr/>
          </p:nvSpPr>
          <p:spPr>
            <a:xfrm flipH="1">
              <a:off x="3733920" y="4495680"/>
              <a:ext cx="782640" cy="7876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Line 35"/>
            <p:cNvSpPr/>
            <p:nvPr/>
          </p:nvSpPr>
          <p:spPr>
            <a:xfrm flipV="1">
              <a:off x="4524480" y="3400560"/>
              <a:ext cx="569880" cy="529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Line 36"/>
            <p:cNvSpPr/>
            <p:nvPr/>
          </p:nvSpPr>
          <p:spPr>
            <a:xfrm>
              <a:off x="4202280" y="391644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Line 37"/>
            <p:cNvSpPr/>
            <p:nvPr/>
          </p:nvSpPr>
          <p:spPr>
            <a:xfrm>
              <a:off x="4519440" y="3929040"/>
              <a:ext cx="0" cy="552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Oval 39"/>
            <p:cNvSpPr/>
            <p:nvPr/>
          </p:nvSpPr>
          <p:spPr>
            <a:xfrm>
              <a:off x="4506840" y="3894120"/>
              <a:ext cx="5868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529" name="Object 40"/>
            <p:cNvGraphicFramePr/>
            <p:nvPr/>
          </p:nvGraphicFramePr>
          <p:xfrm>
            <a:off x="3962520" y="3259080"/>
            <a:ext cx="195120" cy="228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30" name="Object 4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962520" y="3259080"/>
                      <a:ext cx="1951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Object 41"/>
            <p:cNvGraphicFramePr/>
            <p:nvPr/>
          </p:nvGraphicFramePr>
          <p:xfrm>
            <a:off x="5429160" y="4583160"/>
            <a:ext cx="177840" cy="1951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32" name="Object 4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429160" y="4583160"/>
                      <a:ext cx="17784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3" name="Object 42"/>
            <p:cNvGraphicFramePr/>
            <p:nvPr/>
          </p:nvGraphicFramePr>
          <p:xfrm>
            <a:off x="4005360" y="4487760"/>
            <a:ext cx="176040" cy="193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34" name="Object 42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005360" y="4487760"/>
                      <a:ext cx="176040" cy="19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5" name="Object 43"/>
            <p:cNvGraphicFramePr/>
            <p:nvPr/>
          </p:nvGraphicFramePr>
          <p:xfrm>
            <a:off x="4457880" y="4498920"/>
            <a:ext cx="122040" cy="2286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536" name="Object 43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457880" y="4498920"/>
                      <a:ext cx="1220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7" name="Object 44"/>
            <p:cNvGraphicFramePr/>
            <p:nvPr/>
          </p:nvGraphicFramePr>
          <p:xfrm>
            <a:off x="4038480" y="3809880"/>
            <a:ext cx="177840" cy="23040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538" name="Object 44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038480" y="3809880"/>
                      <a:ext cx="177840" cy="2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9" name="Object 45"/>
            <p:cNvGraphicFramePr/>
            <p:nvPr/>
          </p:nvGraphicFramePr>
          <p:xfrm>
            <a:off x="4202280" y="4756320"/>
            <a:ext cx="264960" cy="2300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540" name="Object 45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202280" y="4756320"/>
                      <a:ext cx="264960" cy="23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Oval 61"/>
            <p:cNvSpPr/>
            <p:nvPr/>
          </p:nvSpPr>
          <p:spPr>
            <a:xfrm>
              <a:off x="4483080" y="473724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42" name="Text Box 81"/>
          <p:cNvSpPr/>
          <p:nvPr/>
        </p:nvSpPr>
        <p:spPr>
          <a:xfrm>
            <a:off x="609480" y="533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9.4 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函数的间断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0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1066680" y="1066680"/>
            <a:ext cx="7162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楷体"/>
              </a:rPr>
              <a:t>间断点的分类（以极限的角度对间断点进行分类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45" name="Group 35"/>
          <p:cNvGrpSpPr/>
          <p:nvPr/>
        </p:nvGrpSpPr>
        <p:grpSpPr>
          <a:xfrm>
            <a:off x="1957320" y="1965240"/>
            <a:ext cx="4800600" cy="3279240"/>
            <a:chOff x="1957320" y="1965240"/>
            <a:chExt cx="4800600" cy="3279240"/>
          </a:xfrm>
        </p:grpSpPr>
        <p:sp>
          <p:nvSpPr>
            <p:cNvPr id="546" name="Text Box 16"/>
            <p:cNvSpPr/>
            <p:nvPr/>
          </p:nvSpPr>
          <p:spPr>
            <a:xfrm>
              <a:off x="3433680" y="2346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第一类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7" name="Text Box 17"/>
            <p:cNvSpPr/>
            <p:nvPr/>
          </p:nvSpPr>
          <p:spPr>
            <a:xfrm>
              <a:off x="3495600" y="425124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第二类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8" name="Text Box 20"/>
            <p:cNvSpPr/>
            <p:nvPr/>
          </p:nvSpPr>
          <p:spPr>
            <a:xfrm>
              <a:off x="4752720" y="38703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无穷间断点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9" name="Text Box 21"/>
            <p:cNvSpPr/>
            <p:nvPr/>
          </p:nvSpPr>
          <p:spPr>
            <a:xfrm>
              <a:off x="4776480" y="47847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振荡间断点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0" name="Rectangle 25"/>
            <p:cNvSpPr/>
            <p:nvPr/>
          </p:nvSpPr>
          <p:spPr>
            <a:xfrm>
              <a:off x="4814640" y="4784760"/>
              <a:ext cx="1600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1" name="Rectangle 26"/>
            <p:cNvSpPr/>
            <p:nvPr/>
          </p:nvSpPr>
          <p:spPr>
            <a:xfrm>
              <a:off x="4809960" y="3870360"/>
              <a:ext cx="1600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52" name="Group 32"/>
            <p:cNvGrpSpPr/>
            <p:nvPr/>
          </p:nvGrpSpPr>
          <p:grpSpPr>
            <a:xfrm>
              <a:off x="4686120" y="1965240"/>
              <a:ext cx="2023920" cy="1374120"/>
              <a:chOff x="4686120" y="1965240"/>
              <a:chExt cx="2023920" cy="1374120"/>
            </a:xfrm>
          </p:grpSpPr>
          <p:sp>
            <p:nvSpPr>
              <p:cNvPr id="553" name="Text Box 18"/>
              <p:cNvSpPr/>
              <p:nvPr/>
            </p:nvSpPr>
            <p:spPr>
              <a:xfrm>
                <a:off x="4686120" y="19652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"/>
                  </a:rPr>
                  <a:t>可去间断点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54" name="Text Box 19"/>
              <p:cNvSpPr/>
              <p:nvPr/>
            </p:nvSpPr>
            <p:spPr>
              <a:xfrm>
                <a:off x="4728960" y="28796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"/>
                  </a:rPr>
                  <a:t>跳跃间断点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55" name="Rectangle 27"/>
              <p:cNvSpPr/>
              <p:nvPr/>
            </p:nvSpPr>
            <p:spPr>
              <a:xfrm>
                <a:off x="4762440" y="2879640"/>
                <a:ext cx="160020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56" name="Rectangle 28"/>
              <p:cNvSpPr/>
              <p:nvPr/>
            </p:nvSpPr>
            <p:spPr>
              <a:xfrm>
                <a:off x="4762440" y="1965240"/>
                <a:ext cx="160020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557" name="Text Box 15"/>
            <p:cNvSpPr/>
            <p:nvPr/>
          </p:nvSpPr>
          <p:spPr>
            <a:xfrm>
              <a:off x="1957320" y="32796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间断点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8" name="AutoShape 22"/>
            <p:cNvSpPr/>
            <p:nvPr/>
          </p:nvSpPr>
          <p:spPr>
            <a:xfrm>
              <a:off x="1985760" y="3279600"/>
              <a:ext cx="1066680" cy="457200"/>
            </a:xfrm>
            <a:prstGeom prst="flowChartProcess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9" name="Rectangle 23"/>
            <p:cNvSpPr/>
            <p:nvPr/>
          </p:nvSpPr>
          <p:spPr>
            <a:xfrm>
              <a:off x="3571560" y="4251240"/>
              <a:ext cx="9907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0" name="Rectangle 24"/>
            <p:cNvSpPr/>
            <p:nvPr/>
          </p:nvSpPr>
          <p:spPr>
            <a:xfrm>
              <a:off x="3495600" y="2346120"/>
              <a:ext cx="99036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1" name="AutoShape 29"/>
            <p:cNvSpPr/>
            <p:nvPr/>
          </p:nvSpPr>
          <p:spPr>
            <a:xfrm>
              <a:off x="3114360" y="2498760"/>
              <a:ext cx="304920" cy="1981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2" name="AutoShape 33"/>
            <p:cNvSpPr/>
            <p:nvPr/>
          </p:nvSpPr>
          <p:spPr>
            <a:xfrm>
              <a:off x="4543200" y="210816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3" name="AutoShape 34"/>
            <p:cNvSpPr/>
            <p:nvPr/>
          </p:nvSpPr>
          <p:spPr>
            <a:xfrm>
              <a:off x="4628880" y="404172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64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1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1066680" y="914400"/>
            <a:ext cx="48769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求下列函数的间断点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66" name="Object 5"/>
          <p:cNvGraphicFramePr/>
          <p:nvPr/>
        </p:nvGraphicFramePr>
        <p:xfrm>
          <a:off x="2209680" y="1981080"/>
          <a:ext cx="350532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81080"/>
                    <a:ext cx="350532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2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15"/>
          <p:cNvSpPr/>
          <p:nvPr/>
        </p:nvSpPr>
        <p:spPr>
          <a:xfrm>
            <a:off x="68580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9.5 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初等函数的连续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基本初等函数的连续性：基本初等函数在其定义域内每一点处都是连续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838080" y="2819520"/>
            <a:ext cx="7620120" cy="212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连续函数的运算法则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定理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函数    与    在点    处连续，则这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函数的和          ，差          ，积        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商    （当        时），在点   处也连续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72" name="Object 18"/>
          <p:cNvGraphicFramePr/>
          <p:nvPr/>
        </p:nvGraphicFramePr>
        <p:xfrm>
          <a:off x="3373560" y="3429000"/>
          <a:ext cx="60948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3560" y="3429000"/>
                    <a:ext cx="6094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20"/>
          <p:cNvGraphicFramePr/>
          <p:nvPr/>
        </p:nvGraphicFramePr>
        <p:xfrm>
          <a:off x="2492280" y="3962520"/>
          <a:ext cx="152424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5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2280" y="3962520"/>
                    <a:ext cx="15242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21"/>
          <p:cNvGraphicFramePr/>
          <p:nvPr/>
        </p:nvGraphicFramePr>
        <p:xfrm>
          <a:off x="4311720" y="3429000"/>
          <a:ext cx="58572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3429000"/>
                    <a:ext cx="5857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22"/>
          <p:cNvGraphicFramePr/>
          <p:nvPr/>
        </p:nvGraphicFramePr>
        <p:xfrm>
          <a:off x="6723000" y="3962520"/>
          <a:ext cx="1371600" cy="40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9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23000" y="3962520"/>
                    <a:ext cx="13716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23"/>
          <p:cNvGraphicFramePr/>
          <p:nvPr/>
        </p:nvGraphicFramePr>
        <p:xfrm>
          <a:off x="5649840" y="3330720"/>
          <a:ext cx="38412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1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9840" y="3330720"/>
                    <a:ext cx="384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Object 24"/>
          <p:cNvGraphicFramePr/>
          <p:nvPr/>
        </p:nvGraphicFramePr>
        <p:xfrm>
          <a:off x="4602240" y="3962520"/>
          <a:ext cx="149868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3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2240" y="3962520"/>
                    <a:ext cx="14986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25"/>
          <p:cNvGraphicFramePr/>
          <p:nvPr/>
        </p:nvGraphicFramePr>
        <p:xfrm>
          <a:off x="2482920" y="4518000"/>
          <a:ext cx="1143000" cy="41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5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2920" y="4518000"/>
                    <a:ext cx="11430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26"/>
          <p:cNvGraphicFramePr/>
          <p:nvPr/>
        </p:nvGraphicFramePr>
        <p:xfrm>
          <a:off x="1219320" y="4343400"/>
          <a:ext cx="652320" cy="74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7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9320" y="4343400"/>
                    <a:ext cx="6523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27"/>
          <p:cNvGraphicFramePr/>
          <p:nvPr/>
        </p:nvGraphicFramePr>
        <p:xfrm>
          <a:off x="5291280" y="4429080"/>
          <a:ext cx="384120" cy="53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9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91280" y="4429080"/>
                    <a:ext cx="384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3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10"/>
          <p:cNvGrpSpPr/>
          <p:nvPr/>
        </p:nvGrpSpPr>
        <p:grpSpPr>
          <a:xfrm>
            <a:off x="533520" y="609480"/>
            <a:ext cx="7853400" cy="3705840"/>
            <a:chOff x="533520" y="609480"/>
            <a:chExt cx="7853400" cy="3705840"/>
          </a:xfrm>
        </p:grpSpPr>
        <p:sp>
          <p:nvSpPr>
            <p:cNvPr id="592" name="Text Box 4"/>
            <p:cNvSpPr/>
            <p:nvPr/>
          </p:nvSpPr>
          <p:spPr>
            <a:xfrm>
              <a:off x="685800" y="609480"/>
              <a:ext cx="274320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"/>
                </a:rPr>
                <a:t>两个重要结论：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3" name="Text Box 5"/>
            <p:cNvSpPr/>
            <p:nvPr/>
          </p:nvSpPr>
          <p:spPr>
            <a:xfrm>
              <a:off x="533520" y="1523880"/>
              <a:ext cx="7848360" cy="1015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1</a:t>
              </a:r>
              <a:r>
                <a:rPr b="1" lang="zh-CN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）多项式函数                          在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     </a:t>
              </a:r>
              <a:r>
                <a:rPr b="1" lang="zh-CN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内连续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594" name="Object 6"/>
            <p:cNvGraphicFramePr/>
            <p:nvPr/>
          </p:nvGraphicFramePr>
          <p:xfrm>
            <a:off x="3048120" y="1523880"/>
            <a:ext cx="3809880" cy="46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1523880"/>
                      <a:ext cx="380988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Object 7"/>
            <p:cNvGraphicFramePr/>
            <p:nvPr/>
          </p:nvGraphicFramePr>
          <p:xfrm>
            <a:off x="7238880" y="1577880"/>
            <a:ext cx="1148040" cy="39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7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38880" y="1577880"/>
                      <a:ext cx="11480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8" name="Text Box 8"/>
            <p:cNvSpPr/>
            <p:nvPr/>
          </p:nvSpPr>
          <p:spPr>
            <a:xfrm>
              <a:off x="533520" y="2743200"/>
              <a:ext cx="7848360" cy="15721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2</a:t>
              </a:r>
              <a:r>
                <a:rPr b="1" lang="zh-CN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）分式函数                           除分母为</a:t>
              </a:r>
              <a:r>
                <a:rPr b="1" lang="en-US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0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     </a:t>
              </a:r>
              <a:r>
                <a:rPr b="1" lang="zh-CN" sz="2400" spc="-1" strike="noStrike">
                  <a:solidFill>
                    <a:srgbClr val="0033cc"/>
                  </a:solidFill>
                  <a:latin typeface="楷体"/>
                  <a:ea typeface="楷体"/>
                </a:rPr>
                <a:t>的点不连续外，在其他点处都连续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599" name="Object 9"/>
            <p:cNvGraphicFramePr/>
            <p:nvPr/>
          </p:nvGraphicFramePr>
          <p:xfrm>
            <a:off x="2646360" y="2548080"/>
            <a:ext cx="3956040" cy="87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0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46360" y="2548080"/>
                      <a:ext cx="395604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Text Box 11"/>
          <p:cNvSpPr/>
          <p:nvPr/>
        </p:nvSpPr>
        <p:spPr>
          <a:xfrm>
            <a:off x="609480" y="4876920"/>
            <a:ext cx="76201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"/>
              </a:rPr>
              <a:t>注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一般地，一切初等函数在其定义域内每一点都是连续的，在确定分段函数的连续性时要着重讨论分界点的连续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4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4"/>
          <p:cNvSpPr/>
          <p:nvPr/>
        </p:nvSpPr>
        <p:spPr>
          <a:xfrm>
            <a:off x="990720" y="766800"/>
            <a:ext cx="304776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6</a:t>
            </a:r>
            <a:r>
              <a:rPr b="1" lang="en-US" sz="28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04" name="Object 5"/>
          <p:cNvGraphicFramePr/>
          <p:nvPr/>
        </p:nvGraphicFramePr>
        <p:xfrm>
          <a:off x="2408400" y="712800"/>
          <a:ext cx="1422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712800"/>
                    <a:ext cx="14223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6"/>
          <p:cNvSpPr/>
          <p:nvPr/>
        </p:nvSpPr>
        <p:spPr>
          <a:xfrm>
            <a:off x="1066680" y="2514600"/>
            <a:ext cx="30481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7</a:t>
            </a:r>
            <a:r>
              <a:rPr b="1" lang="en-US" sz="28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1143000" y="4267080"/>
            <a:ext cx="30481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8</a:t>
            </a:r>
            <a:r>
              <a:rPr b="1" lang="en-US" sz="28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10666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解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09" name="Object 9"/>
          <p:cNvGraphicFramePr/>
          <p:nvPr/>
        </p:nvGraphicFramePr>
        <p:xfrm>
          <a:off x="1905120" y="1522440"/>
          <a:ext cx="269244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522440"/>
                    <a:ext cx="26924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10"/>
          <p:cNvGraphicFramePr/>
          <p:nvPr/>
        </p:nvGraphicFramePr>
        <p:xfrm>
          <a:off x="2448000" y="2505240"/>
          <a:ext cx="139680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8000" y="2505240"/>
                    <a:ext cx="1396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ext Box 11"/>
          <p:cNvSpPr/>
          <p:nvPr/>
        </p:nvSpPr>
        <p:spPr>
          <a:xfrm>
            <a:off x="1066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解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14" name="Object 13"/>
          <p:cNvGraphicFramePr/>
          <p:nvPr/>
        </p:nvGraphicFramePr>
        <p:xfrm>
          <a:off x="1914480" y="3168720"/>
          <a:ext cx="4064040" cy="93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14480" y="3168720"/>
                    <a:ext cx="40640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14"/>
          <p:cNvGraphicFramePr/>
          <p:nvPr/>
        </p:nvGraphicFramePr>
        <p:xfrm>
          <a:off x="2490840" y="4081320"/>
          <a:ext cx="17780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90840" y="4081320"/>
                    <a:ext cx="1778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5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3"/>
          <p:cNvSpPr/>
          <p:nvPr/>
        </p:nvSpPr>
        <p:spPr>
          <a:xfrm>
            <a:off x="914400" y="13716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最大值与最小值性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4"/>
          <p:cNvGrpSpPr/>
          <p:nvPr/>
        </p:nvGrpSpPr>
        <p:grpSpPr>
          <a:xfrm>
            <a:off x="990720" y="2057400"/>
            <a:ext cx="7086600" cy="3352680"/>
            <a:chOff x="990720" y="2057400"/>
            <a:chExt cx="7086600" cy="3352680"/>
          </a:xfrm>
        </p:grpSpPr>
        <p:sp>
          <p:nvSpPr>
            <p:cNvPr id="621" name="AutoShape 5"/>
            <p:cNvSpPr/>
            <p:nvPr/>
          </p:nvSpPr>
          <p:spPr>
            <a:xfrm>
              <a:off x="990720" y="2057400"/>
              <a:ext cx="708660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2" name="Line 6"/>
            <p:cNvSpPr/>
            <p:nvPr/>
          </p:nvSpPr>
          <p:spPr>
            <a:xfrm>
              <a:off x="1176480" y="3760920"/>
              <a:ext cx="279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3" name="Line 7"/>
            <p:cNvSpPr/>
            <p:nvPr/>
          </p:nvSpPr>
          <p:spPr>
            <a:xfrm flipV="1">
              <a:off x="2295360" y="2417400"/>
              <a:ext cx="0" cy="21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4" name="Line 8"/>
            <p:cNvSpPr/>
            <p:nvPr/>
          </p:nvSpPr>
          <p:spPr>
            <a:xfrm flipV="1">
              <a:off x="1549440" y="2728800"/>
              <a:ext cx="1757160" cy="180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3328920" y="2752560"/>
              <a:ext cx="0" cy="100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 flipV="1">
              <a:off x="1523880" y="3776760"/>
              <a:ext cx="0" cy="66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7" name="Line 11"/>
            <p:cNvSpPr/>
            <p:nvPr/>
          </p:nvSpPr>
          <p:spPr>
            <a:xfrm>
              <a:off x="5092560" y="3760920"/>
              <a:ext cx="27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8" name="Line 12"/>
            <p:cNvSpPr/>
            <p:nvPr/>
          </p:nvSpPr>
          <p:spPr>
            <a:xfrm flipH="1" flipV="1">
              <a:off x="5824440" y="2189160"/>
              <a:ext cx="14400" cy="24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5838840" y="3171960"/>
              <a:ext cx="668160" cy="604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6491160" y="2585880"/>
              <a:ext cx="668520" cy="57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6491160" y="2585880"/>
              <a:ext cx="0" cy="117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2" name="Line 16"/>
            <p:cNvSpPr/>
            <p:nvPr/>
          </p:nvSpPr>
          <p:spPr>
            <a:xfrm>
              <a:off x="5838840" y="3152880"/>
              <a:ext cx="65232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3" name="Line 17"/>
            <p:cNvSpPr/>
            <p:nvPr/>
          </p:nvSpPr>
          <p:spPr>
            <a:xfrm>
              <a:off x="5829480" y="2577960"/>
              <a:ext cx="65232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4" name="Line 18"/>
            <p:cNvSpPr/>
            <p:nvPr/>
          </p:nvSpPr>
          <p:spPr>
            <a:xfrm>
              <a:off x="7159680" y="32068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5" name="Oval 19"/>
            <p:cNvSpPr/>
            <p:nvPr/>
          </p:nvSpPr>
          <p:spPr>
            <a:xfrm>
              <a:off x="6461280" y="3733920"/>
              <a:ext cx="6984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636" name="Object 20"/>
            <p:cNvGraphicFramePr/>
            <p:nvPr/>
          </p:nvGraphicFramePr>
          <p:xfrm>
            <a:off x="2000160" y="2260440"/>
            <a:ext cx="222480" cy="29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7" name="Object 2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0160" y="2260440"/>
                      <a:ext cx="22248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8" name="Object 21"/>
            <p:cNvGraphicFramePr/>
            <p:nvPr/>
          </p:nvGraphicFramePr>
          <p:xfrm>
            <a:off x="5551560" y="2098800"/>
            <a:ext cx="226800" cy="27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9" name="Object 2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51560" y="2098800"/>
                      <a:ext cx="2268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0" name="Object 22"/>
            <p:cNvGraphicFramePr/>
            <p:nvPr/>
          </p:nvGraphicFramePr>
          <p:xfrm>
            <a:off x="3730680" y="3836880"/>
            <a:ext cx="208080" cy="236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1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30680" y="3836880"/>
                      <a:ext cx="20808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2" name="Object 23"/>
            <p:cNvGraphicFramePr/>
            <p:nvPr/>
          </p:nvGraphicFramePr>
          <p:xfrm>
            <a:off x="7662960" y="3836880"/>
            <a:ext cx="207720" cy="23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43" name="Object 2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62960" y="3836880"/>
                      <a:ext cx="20772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4" name="Object 24"/>
            <p:cNvGraphicFramePr/>
            <p:nvPr/>
          </p:nvGraphicFramePr>
          <p:xfrm>
            <a:off x="2338560" y="3770280"/>
            <a:ext cx="206280" cy="238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5" name="Object 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38560" y="3770280"/>
                      <a:ext cx="206280" cy="23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6" name="Object 25"/>
            <p:cNvGraphicFramePr/>
            <p:nvPr/>
          </p:nvGraphicFramePr>
          <p:xfrm>
            <a:off x="5602320" y="3772080"/>
            <a:ext cx="208080" cy="23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47" name="Object 2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02320" y="3772080"/>
                      <a:ext cx="208080" cy="23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8" name="Object 26"/>
            <p:cNvGraphicFramePr/>
            <p:nvPr/>
          </p:nvGraphicFramePr>
          <p:xfrm>
            <a:off x="1471680" y="3527280"/>
            <a:ext cx="207720" cy="23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49" name="Object 2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471680" y="3527280"/>
                      <a:ext cx="20772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0" name="Object 27"/>
            <p:cNvGraphicFramePr/>
            <p:nvPr/>
          </p:nvGraphicFramePr>
          <p:xfrm>
            <a:off x="3213000" y="3749760"/>
            <a:ext cx="206640" cy="301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51" name="Object 2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213000" y="3749760"/>
                      <a:ext cx="20664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2" name="Object 28"/>
            <p:cNvGraphicFramePr/>
            <p:nvPr/>
          </p:nvGraphicFramePr>
          <p:xfrm>
            <a:off x="5591160" y="3030480"/>
            <a:ext cx="144360" cy="279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53" name="Object 2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591160" y="3030480"/>
                      <a:ext cx="14436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4" name="Object 29"/>
            <p:cNvGraphicFramePr/>
            <p:nvPr/>
          </p:nvGraphicFramePr>
          <p:xfrm>
            <a:off x="6400800" y="3759120"/>
            <a:ext cx="144360" cy="279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55" name="Object 2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400800" y="3759120"/>
                      <a:ext cx="14436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6" name="Object 30"/>
            <p:cNvGraphicFramePr/>
            <p:nvPr/>
          </p:nvGraphicFramePr>
          <p:xfrm>
            <a:off x="5621400" y="2457360"/>
            <a:ext cx="208080" cy="279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57" name="Object 30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621400" y="2457360"/>
                      <a:ext cx="2080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8" name="Object 31"/>
            <p:cNvGraphicFramePr/>
            <p:nvPr/>
          </p:nvGraphicFramePr>
          <p:xfrm>
            <a:off x="7067520" y="3727440"/>
            <a:ext cx="20628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59" name="Object 31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67520" y="3727440"/>
                      <a:ext cx="2062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0" name="Oval 32"/>
          <p:cNvSpPr/>
          <p:nvPr/>
        </p:nvSpPr>
        <p:spPr>
          <a:xfrm>
            <a:off x="3276720" y="2679840"/>
            <a:ext cx="75960" cy="75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Oval 33"/>
          <p:cNvSpPr/>
          <p:nvPr/>
        </p:nvSpPr>
        <p:spPr>
          <a:xfrm>
            <a:off x="1498680" y="4457880"/>
            <a:ext cx="75960" cy="75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Oval 34"/>
          <p:cNvSpPr/>
          <p:nvPr/>
        </p:nvSpPr>
        <p:spPr>
          <a:xfrm>
            <a:off x="6451560" y="2527200"/>
            <a:ext cx="7632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3" name="Oval 35"/>
          <p:cNvSpPr/>
          <p:nvPr/>
        </p:nvSpPr>
        <p:spPr>
          <a:xfrm>
            <a:off x="6451560" y="3124080"/>
            <a:ext cx="7632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4" name="Oval 36"/>
          <p:cNvSpPr/>
          <p:nvPr/>
        </p:nvSpPr>
        <p:spPr>
          <a:xfrm>
            <a:off x="7112160" y="31114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Oval 37"/>
          <p:cNvSpPr/>
          <p:nvPr/>
        </p:nvSpPr>
        <p:spPr>
          <a:xfrm>
            <a:off x="5791320" y="31240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Text Box 38"/>
          <p:cNvSpPr/>
          <p:nvPr/>
        </p:nvSpPr>
        <p:spPr>
          <a:xfrm>
            <a:off x="609480" y="533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9.6 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闭区间上连续函数的性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Text Box 39"/>
          <p:cNvSpPr/>
          <p:nvPr/>
        </p:nvSpPr>
        <p:spPr>
          <a:xfrm>
            <a:off x="762120" y="5029200"/>
            <a:ext cx="7619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定理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函数    在闭区间    上连续，则它在这个区间上一定有最大值与最小值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68" name="Object 40"/>
          <p:cNvGraphicFramePr/>
          <p:nvPr/>
        </p:nvGraphicFramePr>
        <p:xfrm>
          <a:off x="3102120" y="5095800"/>
          <a:ext cx="685800" cy="406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69" name="Object 4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02120" y="5095800"/>
                    <a:ext cx="685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Object 41"/>
          <p:cNvGraphicFramePr/>
          <p:nvPr/>
        </p:nvGraphicFramePr>
        <p:xfrm>
          <a:off x="5018040" y="5094360"/>
          <a:ext cx="685800" cy="406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1" name="Object 4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018040" y="5094360"/>
                    <a:ext cx="685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6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762120" y="609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介值性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74" name="Group 3"/>
          <p:cNvGrpSpPr/>
          <p:nvPr/>
        </p:nvGrpSpPr>
        <p:grpSpPr>
          <a:xfrm>
            <a:off x="4876920" y="1122480"/>
            <a:ext cx="3809520" cy="2666160"/>
            <a:chOff x="4876920" y="1122480"/>
            <a:chExt cx="3809520" cy="2666160"/>
          </a:xfrm>
        </p:grpSpPr>
        <p:sp>
          <p:nvSpPr>
            <p:cNvPr id="675" name="Line 4"/>
            <p:cNvSpPr/>
            <p:nvPr/>
          </p:nvSpPr>
          <p:spPr>
            <a:xfrm>
              <a:off x="4876920" y="2685960"/>
              <a:ext cx="3809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6" name="Line 5"/>
            <p:cNvSpPr/>
            <p:nvPr/>
          </p:nvSpPr>
          <p:spPr>
            <a:xfrm flipV="1">
              <a:off x="5689440" y="1284840"/>
              <a:ext cx="0" cy="250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5111640" y="1829160"/>
              <a:ext cx="3052080" cy="1458360"/>
            </a:xfrm>
            <a:custGeom>
              <a:avLst/>
              <a:gdLst>
                <a:gd name="textAreaLeft" fmla="*/ 0 w 3052080"/>
                <a:gd name="textAreaRight" fmla="*/ 3052440 w 3052080"/>
                <a:gd name="textAreaTop" fmla="*/ 0 h 1458360"/>
                <a:gd name="textAreaBottom" fmla="*/ 1458720 h 1458360"/>
              </a:gdLst>
              <a:ahLst/>
              <a:rect l="textAreaLeft" t="textAreaTop" r="textAreaRight" b="textAreaBottom"/>
              <a:pathLst>
                <a:path w="2535" h="1190">
                  <a:moveTo>
                    <a:pt x="0" y="1114"/>
                  </a:moveTo>
                  <a:cubicBezTo>
                    <a:pt x="60" y="1018"/>
                    <a:pt x="267" y="656"/>
                    <a:pt x="374" y="526"/>
                  </a:cubicBezTo>
                  <a:cubicBezTo>
                    <a:pt x="481" y="396"/>
                    <a:pt x="556" y="326"/>
                    <a:pt x="642" y="337"/>
                  </a:cubicBezTo>
                  <a:cubicBezTo>
                    <a:pt x="729" y="348"/>
                    <a:pt x="829" y="495"/>
                    <a:pt x="896" y="592"/>
                  </a:cubicBezTo>
                  <a:cubicBezTo>
                    <a:pt x="962" y="689"/>
                    <a:pt x="973" y="830"/>
                    <a:pt x="1045" y="922"/>
                  </a:cubicBezTo>
                  <a:cubicBezTo>
                    <a:pt x="1116" y="1014"/>
                    <a:pt x="1218" y="1190"/>
                    <a:pt x="1328" y="1147"/>
                  </a:cubicBezTo>
                  <a:cubicBezTo>
                    <a:pt x="1437" y="1104"/>
                    <a:pt x="1584" y="832"/>
                    <a:pt x="1700" y="667"/>
                  </a:cubicBezTo>
                  <a:cubicBezTo>
                    <a:pt x="1817" y="502"/>
                    <a:pt x="1924" y="264"/>
                    <a:pt x="2028" y="157"/>
                  </a:cubicBezTo>
                  <a:cubicBezTo>
                    <a:pt x="2133" y="50"/>
                    <a:pt x="2242" y="0"/>
                    <a:pt x="2326" y="22"/>
                  </a:cubicBezTo>
                  <a:cubicBezTo>
                    <a:pt x="2411" y="44"/>
                    <a:pt x="2491" y="236"/>
                    <a:pt x="2535" y="2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8" name="Line 7"/>
            <p:cNvSpPr/>
            <p:nvPr/>
          </p:nvSpPr>
          <p:spPr>
            <a:xfrm>
              <a:off x="8163720" y="221688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9" name="Line 8"/>
            <p:cNvSpPr/>
            <p:nvPr/>
          </p:nvSpPr>
          <p:spPr>
            <a:xfrm>
              <a:off x="5108040" y="270792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680" name="Object 9"/>
            <p:cNvGraphicFramePr/>
            <p:nvPr/>
          </p:nvGraphicFramePr>
          <p:xfrm>
            <a:off x="5408640" y="1122480"/>
            <a:ext cx="239400" cy="31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1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8640" y="1122480"/>
                      <a:ext cx="239400" cy="31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Object 10"/>
            <p:cNvGraphicFramePr/>
            <p:nvPr/>
          </p:nvGraphicFramePr>
          <p:xfrm>
            <a:off x="8374320" y="2767320"/>
            <a:ext cx="203400" cy="23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3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74320" y="2767320"/>
                      <a:ext cx="203400" cy="23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Object 11"/>
            <p:cNvGraphicFramePr/>
            <p:nvPr/>
          </p:nvGraphicFramePr>
          <p:xfrm>
            <a:off x="5699880" y="2672280"/>
            <a:ext cx="239760" cy="2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5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99880" y="2672280"/>
                      <a:ext cx="23976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Object 12"/>
            <p:cNvGraphicFramePr/>
            <p:nvPr/>
          </p:nvGraphicFramePr>
          <p:xfrm>
            <a:off x="4997520" y="2427480"/>
            <a:ext cx="220320" cy="24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87" name="Object 1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97520" y="2427480"/>
                      <a:ext cx="220320" cy="24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Object 13"/>
            <p:cNvGraphicFramePr/>
            <p:nvPr/>
          </p:nvGraphicFramePr>
          <p:xfrm>
            <a:off x="8030880" y="2674080"/>
            <a:ext cx="229320" cy="32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89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30880" y="2674080"/>
                      <a:ext cx="2293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Object 14"/>
            <p:cNvGraphicFramePr/>
            <p:nvPr/>
          </p:nvGraphicFramePr>
          <p:xfrm>
            <a:off x="5274000" y="2677680"/>
            <a:ext cx="289440" cy="43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91" name="Object 1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74000" y="2677680"/>
                      <a:ext cx="2894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Object 15"/>
            <p:cNvGraphicFramePr/>
            <p:nvPr/>
          </p:nvGraphicFramePr>
          <p:xfrm>
            <a:off x="6068880" y="2685960"/>
            <a:ext cx="312480" cy="441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3" name="Object 1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68880" y="2685960"/>
                      <a:ext cx="3124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4" name="Object 16"/>
            <p:cNvGraphicFramePr/>
            <p:nvPr/>
          </p:nvGraphicFramePr>
          <p:xfrm>
            <a:off x="7024680" y="2685960"/>
            <a:ext cx="313920" cy="441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5" name="Object 1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024680" y="2685960"/>
                      <a:ext cx="31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6" name="Object 17"/>
            <p:cNvGraphicFramePr/>
            <p:nvPr/>
          </p:nvGraphicFramePr>
          <p:xfrm>
            <a:off x="6284880" y="1803600"/>
            <a:ext cx="1107360" cy="390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7" name="Object 17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84880" y="1803600"/>
                      <a:ext cx="110736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8" name="Group 18"/>
          <p:cNvGrpSpPr/>
          <p:nvPr/>
        </p:nvGrpSpPr>
        <p:grpSpPr>
          <a:xfrm>
            <a:off x="990720" y="1371600"/>
            <a:ext cx="3438360" cy="2636640"/>
            <a:chOff x="990720" y="1371600"/>
            <a:chExt cx="3438360" cy="2636640"/>
          </a:xfrm>
        </p:grpSpPr>
        <p:sp>
          <p:nvSpPr>
            <p:cNvPr id="699" name="Line 19"/>
            <p:cNvSpPr/>
            <p:nvPr/>
          </p:nvSpPr>
          <p:spPr>
            <a:xfrm>
              <a:off x="990720" y="3303360"/>
              <a:ext cx="33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0" name="Line 20"/>
            <p:cNvSpPr/>
            <p:nvPr/>
          </p:nvSpPr>
          <p:spPr>
            <a:xfrm flipV="1">
              <a:off x="1411200" y="1371600"/>
              <a:ext cx="0" cy="26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Freeform 21"/>
            <p:cNvSpPr/>
            <p:nvPr/>
          </p:nvSpPr>
          <p:spPr>
            <a:xfrm>
              <a:off x="1200240" y="1658880"/>
              <a:ext cx="2743200" cy="133992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2355" h="1190">
                  <a:moveTo>
                    <a:pt x="0" y="838"/>
                  </a:moveTo>
                  <a:cubicBezTo>
                    <a:pt x="45" y="721"/>
                    <a:pt x="105" y="610"/>
                    <a:pt x="180" y="526"/>
                  </a:cubicBezTo>
                  <a:cubicBezTo>
                    <a:pt x="255" y="442"/>
                    <a:pt x="363" y="326"/>
                    <a:pt x="450" y="337"/>
                  </a:cubicBezTo>
                  <a:cubicBezTo>
                    <a:pt x="537" y="348"/>
                    <a:pt x="638" y="495"/>
                    <a:pt x="705" y="592"/>
                  </a:cubicBezTo>
                  <a:cubicBezTo>
                    <a:pt x="772" y="689"/>
                    <a:pt x="783" y="830"/>
                    <a:pt x="855" y="922"/>
                  </a:cubicBezTo>
                  <a:cubicBezTo>
                    <a:pt x="927" y="1014"/>
                    <a:pt x="1030" y="1190"/>
                    <a:pt x="1140" y="1147"/>
                  </a:cubicBezTo>
                  <a:cubicBezTo>
                    <a:pt x="1250" y="1104"/>
                    <a:pt x="1398" y="832"/>
                    <a:pt x="1515" y="667"/>
                  </a:cubicBezTo>
                  <a:cubicBezTo>
                    <a:pt x="1632" y="502"/>
                    <a:pt x="1740" y="264"/>
                    <a:pt x="1845" y="157"/>
                  </a:cubicBezTo>
                  <a:cubicBezTo>
                    <a:pt x="1950" y="50"/>
                    <a:pt x="2060" y="0"/>
                    <a:pt x="2145" y="22"/>
                  </a:cubicBezTo>
                  <a:cubicBezTo>
                    <a:pt x="2230" y="44"/>
                    <a:pt x="2311" y="236"/>
                    <a:pt x="2355" y="2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2" name="Line 22"/>
            <p:cNvSpPr/>
            <p:nvPr/>
          </p:nvSpPr>
          <p:spPr>
            <a:xfrm>
              <a:off x="1200240" y="2593800"/>
              <a:ext cx="0" cy="70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3" name="Freeform 23"/>
            <p:cNvSpPr/>
            <p:nvPr/>
          </p:nvSpPr>
          <p:spPr>
            <a:xfrm>
              <a:off x="3925800" y="2003400"/>
              <a:ext cx="17640" cy="1319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319040"/>
                <a:gd name="textAreaBottom" fmla="*/ 1319400 h 1319040"/>
              </a:gdLst>
              <a:ahLst/>
              <a:rect l="textAreaLeft" t="textAreaTop" r="textAreaRight" b="textAreaBottom"/>
              <a:pathLst>
                <a:path w="14" h="1173">
                  <a:moveTo>
                    <a:pt x="14" y="0"/>
                  </a:moveTo>
                  <a:lnTo>
                    <a:pt x="0" y="11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4" name="Line 24"/>
            <p:cNvSpPr/>
            <p:nvPr/>
          </p:nvSpPr>
          <p:spPr>
            <a:xfrm>
              <a:off x="2459160" y="2971800"/>
              <a:ext cx="0" cy="35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5" name="Line 25"/>
            <p:cNvSpPr/>
            <p:nvPr/>
          </p:nvSpPr>
          <p:spPr>
            <a:xfrm>
              <a:off x="3630600" y="1673280"/>
              <a:ext cx="0" cy="163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6" name="Line 26"/>
            <p:cNvSpPr/>
            <p:nvPr/>
          </p:nvSpPr>
          <p:spPr>
            <a:xfrm>
              <a:off x="990720" y="2427120"/>
              <a:ext cx="33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Line 27"/>
            <p:cNvSpPr/>
            <p:nvPr/>
          </p:nvSpPr>
          <p:spPr>
            <a:xfrm>
              <a:off x="2073240" y="241128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8" name="Line 28"/>
            <p:cNvSpPr/>
            <p:nvPr/>
          </p:nvSpPr>
          <p:spPr>
            <a:xfrm>
              <a:off x="2949480" y="2427120"/>
              <a:ext cx="0" cy="87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709" name="Object 29"/>
            <p:cNvGraphicFramePr/>
            <p:nvPr/>
          </p:nvGraphicFramePr>
          <p:xfrm>
            <a:off x="1101600" y="1523880"/>
            <a:ext cx="230400" cy="285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10" name="Object 2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101600" y="1523880"/>
                      <a:ext cx="2304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1" name="Object 30"/>
            <p:cNvGraphicFramePr/>
            <p:nvPr/>
          </p:nvGraphicFramePr>
          <p:xfrm>
            <a:off x="1076400" y="3314520"/>
            <a:ext cx="230040" cy="2462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12" name="Object 30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76400" y="3314520"/>
                      <a:ext cx="230040" cy="2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3" name="Object 31"/>
            <p:cNvGraphicFramePr/>
            <p:nvPr/>
          </p:nvGraphicFramePr>
          <p:xfrm>
            <a:off x="3836880" y="3295440"/>
            <a:ext cx="231840" cy="312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14" name="Object 31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836880" y="3295440"/>
                      <a:ext cx="231840" cy="3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5" name="Object 32"/>
            <p:cNvGraphicFramePr/>
            <p:nvPr/>
          </p:nvGraphicFramePr>
          <p:xfrm>
            <a:off x="1916280" y="3306600"/>
            <a:ext cx="282240" cy="4050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16" name="Object 32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916280" y="3306600"/>
                      <a:ext cx="28224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7" name="Object 33"/>
            <p:cNvGraphicFramePr/>
            <p:nvPr/>
          </p:nvGraphicFramePr>
          <p:xfrm>
            <a:off x="2825640" y="3284280"/>
            <a:ext cx="304920" cy="406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18" name="Object 33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825640" y="3284280"/>
                      <a:ext cx="3049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9" name="Object 34"/>
            <p:cNvGraphicFramePr/>
            <p:nvPr/>
          </p:nvGraphicFramePr>
          <p:xfrm>
            <a:off x="2090880" y="1741320"/>
            <a:ext cx="1071360" cy="3603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720" name="Object 34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090880" y="1741320"/>
                      <a:ext cx="10713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1" name="Object 35"/>
            <p:cNvGraphicFramePr/>
            <p:nvPr/>
          </p:nvGraphicFramePr>
          <p:xfrm>
            <a:off x="2984400" y="2409840"/>
            <a:ext cx="211320" cy="2491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722" name="Object 35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984400" y="2409840"/>
                      <a:ext cx="21132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3" name="Object 36"/>
            <p:cNvGraphicFramePr/>
            <p:nvPr/>
          </p:nvGraphicFramePr>
          <p:xfrm>
            <a:off x="2376360" y="2643120"/>
            <a:ext cx="304920" cy="2458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724" name="Object 36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2376360" y="2643120"/>
                      <a:ext cx="304920" cy="24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5" name="Object 37"/>
            <p:cNvGraphicFramePr/>
            <p:nvPr/>
          </p:nvGraphicFramePr>
          <p:xfrm>
            <a:off x="3968640" y="1758960"/>
            <a:ext cx="373320" cy="29052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726" name="Object 37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3968640" y="1758960"/>
                      <a:ext cx="37332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7" name="Object 38"/>
            <p:cNvGraphicFramePr/>
            <p:nvPr/>
          </p:nvGraphicFramePr>
          <p:xfrm>
            <a:off x="1409760" y="3314520"/>
            <a:ext cx="220680" cy="2523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728" name="Object 38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1409760" y="3314520"/>
                      <a:ext cx="2206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9" name="Object 39"/>
            <p:cNvGraphicFramePr/>
            <p:nvPr/>
          </p:nvGraphicFramePr>
          <p:xfrm>
            <a:off x="4241880" y="3327120"/>
            <a:ext cx="187200" cy="21600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730" name="Object 39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4241880" y="3327120"/>
                      <a:ext cx="1872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1" name="Object 40"/>
            <p:cNvGraphicFramePr/>
            <p:nvPr/>
          </p:nvGraphicFramePr>
          <p:xfrm>
            <a:off x="1828800" y="2438280"/>
            <a:ext cx="210960" cy="24912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732" name="Object 40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1828800" y="2438280"/>
                      <a:ext cx="21096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3" name="Group 41"/>
          <p:cNvGrpSpPr/>
          <p:nvPr/>
        </p:nvGrpSpPr>
        <p:grpSpPr>
          <a:xfrm>
            <a:off x="685800" y="4191120"/>
            <a:ext cx="7619760" cy="1559880"/>
            <a:chOff x="685800" y="4191120"/>
            <a:chExt cx="7619760" cy="1559880"/>
          </a:xfrm>
        </p:grpSpPr>
        <p:sp>
          <p:nvSpPr>
            <p:cNvPr id="734" name="Text Box 42"/>
            <p:cNvSpPr/>
            <p:nvPr/>
          </p:nvSpPr>
          <p:spPr>
            <a:xfrm>
              <a:off x="685800" y="4191120"/>
              <a:ext cx="76197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定理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如果函数    在闭区间     上连续，  和   分别为    在     上的最大值与最小值，则对介于  和   之间的任一实数  （即          ），至少存在一点        ，使得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735" name="Object 43"/>
            <p:cNvGraphicFramePr/>
            <p:nvPr/>
          </p:nvGraphicFramePr>
          <p:xfrm>
            <a:off x="3036600" y="4233600"/>
            <a:ext cx="704880" cy="41724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736" name="Object 43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3036600" y="4233600"/>
                      <a:ext cx="704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7" name="Object 44"/>
            <p:cNvGraphicFramePr/>
            <p:nvPr/>
          </p:nvGraphicFramePr>
          <p:xfrm>
            <a:off x="1425600" y="5333760"/>
            <a:ext cx="1226880" cy="41724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738" name="Object 44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1425600" y="5333760"/>
                      <a:ext cx="1226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9" name="Object 45"/>
            <p:cNvGraphicFramePr/>
            <p:nvPr/>
          </p:nvGraphicFramePr>
          <p:xfrm>
            <a:off x="4952880" y="4233600"/>
            <a:ext cx="704880" cy="41724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740" name="Object 45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4952880" y="4233600"/>
                      <a:ext cx="704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1" name="Object 46"/>
            <p:cNvGraphicFramePr/>
            <p:nvPr/>
          </p:nvGraphicFramePr>
          <p:xfrm>
            <a:off x="6858000" y="4311360"/>
            <a:ext cx="339480" cy="28692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742" name="Object 46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6858000" y="4311360"/>
                      <a:ext cx="339480" cy="28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3" name="Object 47"/>
            <p:cNvGraphicFramePr/>
            <p:nvPr/>
          </p:nvGraphicFramePr>
          <p:xfrm>
            <a:off x="7543800" y="4267080"/>
            <a:ext cx="417240" cy="33912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744" name="Object 47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7543800" y="4267080"/>
                      <a:ext cx="41724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Object 48"/>
            <p:cNvGraphicFramePr/>
            <p:nvPr/>
          </p:nvGraphicFramePr>
          <p:xfrm>
            <a:off x="3733560" y="4952880"/>
            <a:ext cx="312840" cy="36612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746" name="Object 48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3733560" y="4952880"/>
                      <a:ext cx="312840" cy="36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7" name="Object 49"/>
            <p:cNvGraphicFramePr/>
            <p:nvPr/>
          </p:nvGraphicFramePr>
          <p:xfrm>
            <a:off x="1663560" y="4605120"/>
            <a:ext cx="704880" cy="41724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748" name="Object 49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1663560" y="4605120"/>
                      <a:ext cx="704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9" name="Object 50"/>
            <p:cNvGraphicFramePr/>
            <p:nvPr/>
          </p:nvGraphicFramePr>
          <p:xfrm>
            <a:off x="2678040" y="4616280"/>
            <a:ext cx="704880" cy="41724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750" name="Object 50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2678040" y="4616280"/>
                      <a:ext cx="704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1" name="Object 51"/>
            <p:cNvGraphicFramePr/>
            <p:nvPr/>
          </p:nvGraphicFramePr>
          <p:xfrm>
            <a:off x="7696080" y="4659120"/>
            <a:ext cx="339840" cy="28692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752" name="Object 51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7696080" y="4659120"/>
                      <a:ext cx="339840" cy="28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3" name="Object 52"/>
            <p:cNvGraphicFramePr/>
            <p:nvPr/>
          </p:nvGraphicFramePr>
          <p:xfrm>
            <a:off x="1109520" y="5006880"/>
            <a:ext cx="417600" cy="339120"/>
          </p:xfrm>
          <a:graphic>
            <a:graphicData uri="http://schemas.openxmlformats.org/presentationml/2006/ole">
              <p:oleObj r:id="rId61" spid="">
                <p:embed/>
                <p:pic>
                  <p:nvPicPr>
                    <p:cNvPr id="754" name="Object 52" descr=""/>
                    <p:cNvPicPr/>
                    <p:nvPr/>
                  </p:nvPicPr>
                  <p:blipFill>
                    <a:blip r:embed="rId62"/>
                    <a:stretch/>
                  </p:blipFill>
                  <p:spPr>
                    <a:xfrm>
                      <a:off x="1109520" y="5006880"/>
                      <a:ext cx="4176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5" name="Object 53"/>
            <p:cNvGraphicFramePr/>
            <p:nvPr/>
          </p:nvGraphicFramePr>
          <p:xfrm>
            <a:off x="4647960" y="4952880"/>
            <a:ext cx="1486080" cy="366120"/>
          </p:xfrm>
          <a:graphic>
            <a:graphicData uri="http://schemas.openxmlformats.org/presentationml/2006/ole">
              <p:oleObj r:id="rId63" spid="">
                <p:embed/>
                <p:pic>
                  <p:nvPicPr>
                    <p:cNvPr id="756" name="Object 53" descr=""/>
                    <p:cNvPicPr/>
                    <p:nvPr/>
                  </p:nvPicPr>
                  <p:blipFill>
                    <a:blip r:embed="rId64"/>
                    <a:stretch/>
                  </p:blipFill>
                  <p:spPr>
                    <a:xfrm>
                      <a:off x="4647960" y="4952880"/>
                      <a:ext cx="1486080" cy="36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7" name="Object 54"/>
            <p:cNvGraphicFramePr/>
            <p:nvPr/>
          </p:nvGraphicFramePr>
          <p:xfrm>
            <a:off x="3624120" y="5333760"/>
            <a:ext cx="1252440" cy="417240"/>
          </p:xfrm>
          <a:graphic>
            <a:graphicData uri="http://schemas.openxmlformats.org/presentationml/2006/ole">
              <p:oleObj r:id="rId65" spid="">
                <p:embed/>
                <p:pic>
                  <p:nvPicPr>
                    <p:cNvPr id="758" name="Object 54" descr=""/>
                    <p:cNvPicPr/>
                    <p:nvPr/>
                  </p:nvPicPr>
                  <p:blipFill>
                    <a:blip r:embed="rId66"/>
                    <a:stretch/>
                  </p:blipFill>
                  <p:spPr>
                    <a:xfrm>
                      <a:off x="3624120" y="5333760"/>
                      <a:ext cx="125244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9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7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914400" y="2286000"/>
            <a:ext cx="8810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理解函数在一点处连续的两个定义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函数在一点处连续所具备的三个条件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判定函数在一点处是否连续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14400" y="838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990720" y="21337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培养学生从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“特殊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一般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殊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认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规律，培养学生从直观到抽象的概括能力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使学生在掌握基本知识和技能的同时，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养学生一种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严谨、求实、创新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学习态度和学习精神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838080" y="160020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62120" y="213372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揭示函数连续性本质的同时，让学生感悟数学的魅力，感受数学与现实生活的联系。它源于生活、高于生活、概括生活、是对生活中的数量关系和空间形式的提炼，具有高度的抽象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8080" y="175248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847800" y="4648320"/>
            <a:ext cx="7772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从现实生活提炼、概括，形成函数在一点处连续的概念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9907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1828800"/>
            <a:ext cx="7772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函数的连续性是建立在极限概念基础上的，又为以后的学习作铺垫，它是承上启下的。因此，函数在一点处连续的两个定义以及连续的三个条件，是教学的重点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1440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143000"/>
            <a:ext cx="5486400" cy="287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"/>
                <a:ea typeface="楷体"/>
              </a:rPr>
              <a:t>课题导入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很多实际问题中，变量的变化常常是“连续”不断的，如</a:t>
            </a:r>
            <a:r>
              <a:rPr b="1" lang="zh-CN" sz="2800" spc="-1" strike="noStrike">
                <a:solidFill>
                  <a:srgbClr val="cc0066"/>
                </a:solidFill>
                <a:latin typeface="楷体"/>
                <a:ea typeface="楷体"/>
              </a:rPr>
              <a:t>“温度”随时间而变化，当时间的改变很微小时，温度的改变也很微小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这就是说，温度是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“连续变化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。再如，植物的生长、河水的流动、金属的热胀冷缩等，都是连续变化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Picture 15" descr="761a830f1135ebcd9592846f22ec81bb"/>
          <p:cNvPicPr/>
          <p:nvPr/>
        </p:nvPicPr>
        <p:blipFill>
          <a:blip r:embed="rId1"/>
          <a:stretch/>
        </p:blipFill>
        <p:spPr>
          <a:xfrm>
            <a:off x="6781680" y="914400"/>
            <a:ext cx="1414440" cy="4952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5"/>
          <p:cNvGrpSpPr/>
          <p:nvPr/>
        </p:nvGrpSpPr>
        <p:grpSpPr>
          <a:xfrm>
            <a:off x="380880" y="1828800"/>
            <a:ext cx="4419360" cy="3124080"/>
            <a:chOff x="380880" y="1828800"/>
            <a:chExt cx="4419360" cy="3124080"/>
          </a:xfrm>
        </p:grpSpPr>
        <p:sp>
          <p:nvSpPr>
            <p:cNvPr id="112" name="AutoShape 6"/>
            <p:cNvSpPr/>
            <p:nvPr/>
          </p:nvSpPr>
          <p:spPr>
            <a:xfrm>
              <a:off x="1616760" y="3276000"/>
              <a:ext cx="202248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Line 7"/>
            <p:cNvSpPr/>
            <p:nvPr/>
          </p:nvSpPr>
          <p:spPr>
            <a:xfrm flipV="1">
              <a:off x="979920" y="2100240"/>
              <a:ext cx="0" cy="28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1279800" y="2507760"/>
              <a:ext cx="2621520" cy="1494000"/>
            </a:xfrm>
            <a:custGeom>
              <a:avLst/>
              <a:gdLst>
                <a:gd name="textAreaLeft" fmla="*/ 0 w 2621520"/>
                <a:gd name="textAreaRight" fmla="*/ 2621880 w 262152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1440" h="720">
                  <a:moveTo>
                    <a:pt x="0" y="720"/>
                  </a:moveTo>
                  <a:cubicBezTo>
                    <a:pt x="48" y="608"/>
                    <a:pt x="96" y="496"/>
                    <a:pt x="240" y="384"/>
                  </a:cubicBezTo>
                  <a:cubicBezTo>
                    <a:pt x="384" y="272"/>
                    <a:pt x="664" y="96"/>
                    <a:pt x="864" y="48"/>
                  </a:cubicBezTo>
                  <a:cubicBezTo>
                    <a:pt x="1064" y="0"/>
                    <a:pt x="1336" y="88"/>
                    <a:pt x="1440" y="9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115" name="Object 9"/>
            <p:cNvGraphicFramePr/>
            <p:nvPr/>
          </p:nvGraphicFramePr>
          <p:xfrm>
            <a:off x="1654200" y="4205880"/>
            <a:ext cx="374400" cy="32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54200" y="4205880"/>
                      <a:ext cx="374400" cy="32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2702880" y="4273920"/>
                  <a:ext cx="599400" cy="28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Object 11"/>
                <p:cNvSpPr txBox="1"/>
                <p:nvPr/>
              </p:nvSpPr>
              <p:spPr>
                <a:xfrm>
                  <a:off x="1429200" y="2915280"/>
                  <a:ext cx="59904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19" name="Object 12"/>
            <p:cNvGraphicFramePr/>
            <p:nvPr/>
          </p:nvGraphicFramePr>
          <p:xfrm>
            <a:off x="2253240" y="3255120"/>
            <a:ext cx="299520" cy="22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53240" y="3255120"/>
                      <a:ext cx="299520" cy="22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1" name="Object 13"/>
                <p:cNvSpPr txBox="1"/>
                <p:nvPr/>
              </p:nvSpPr>
              <p:spPr>
                <a:xfrm>
                  <a:off x="3227400" y="2779560"/>
                  <a:ext cx="329040" cy="28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22" name="Object 14"/>
            <p:cNvGraphicFramePr/>
            <p:nvPr/>
          </p:nvGraphicFramePr>
          <p:xfrm>
            <a:off x="3976560" y="2575800"/>
            <a:ext cx="823680" cy="35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76560" y="2575800"/>
                      <a:ext cx="823680" cy="35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4" name="Object 15"/>
                <p:cNvSpPr txBox="1"/>
                <p:nvPr/>
              </p:nvSpPr>
              <p:spPr>
                <a:xfrm>
                  <a:off x="2477880" y="2236320"/>
                  <a:ext cx="104868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Δ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" name="Line 16"/>
            <p:cNvSpPr/>
            <p:nvPr/>
          </p:nvSpPr>
          <p:spPr>
            <a:xfrm>
              <a:off x="380880" y="4273920"/>
              <a:ext cx="404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126" name="Object 17"/>
            <p:cNvGraphicFramePr/>
            <p:nvPr/>
          </p:nvGraphicFramePr>
          <p:xfrm>
            <a:off x="680040" y="4273920"/>
            <a:ext cx="266760" cy="26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" name="Object 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0040" y="4273920"/>
                      <a:ext cx="266760" cy="26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18"/>
            <p:cNvGraphicFramePr/>
            <p:nvPr/>
          </p:nvGraphicFramePr>
          <p:xfrm>
            <a:off x="4425840" y="4137840"/>
            <a:ext cx="263520" cy="264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9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25840" y="4137840"/>
                      <a:ext cx="263520" cy="26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19"/>
            <p:cNvGraphicFramePr/>
            <p:nvPr/>
          </p:nvGraphicFramePr>
          <p:xfrm>
            <a:off x="904680" y="1828800"/>
            <a:ext cx="260640" cy="27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04680" y="1828800"/>
                      <a:ext cx="26064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Line 20"/>
            <p:cNvSpPr/>
            <p:nvPr/>
          </p:nvSpPr>
          <p:spPr>
            <a:xfrm>
              <a:off x="1803960" y="3255120"/>
              <a:ext cx="0" cy="1018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3002400" y="3255120"/>
              <a:ext cx="0" cy="1018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>
              <a:off x="1803960" y="3255120"/>
              <a:ext cx="119844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 flipV="1">
              <a:off x="3002400" y="2575800"/>
              <a:ext cx="0" cy="67896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AutoShape 24"/>
            <p:cNvSpPr/>
            <p:nvPr/>
          </p:nvSpPr>
          <p:spPr>
            <a:xfrm>
              <a:off x="3002400" y="2575800"/>
              <a:ext cx="149400" cy="678960"/>
            </a:xfrm>
            <a:custGeom>
              <a:avLst/>
              <a:gdLst>
                <a:gd name="textAreaLeft" fmla="*/ 0 w 149400"/>
                <a:gd name="textAreaRight" fmla="*/ 54000 w 149400"/>
                <a:gd name="textAreaTop" fmla="*/ 17640 h 678960"/>
                <a:gd name="textAreaBottom" fmla="*/ 661320 h 67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7" name="Group 25"/>
          <p:cNvGrpSpPr/>
          <p:nvPr/>
        </p:nvGrpSpPr>
        <p:grpSpPr>
          <a:xfrm>
            <a:off x="4800600" y="2666880"/>
            <a:ext cx="3429000" cy="1684440"/>
            <a:chOff x="4800600" y="2666880"/>
            <a:chExt cx="3429000" cy="1684440"/>
          </a:xfrm>
        </p:grpSpPr>
        <p:sp>
          <p:nvSpPr>
            <p:cNvPr id="138" name="Text Box 26"/>
            <p:cNvSpPr/>
            <p:nvPr/>
          </p:nvSpPr>
          <p:spPr>
            <a:xfrm>
              <a:off x="4800600" y="327672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函数的增量：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Text Box 27"/>
            <p:cNvSpPr/>
            <p:nvPr/>
          </p:nvSpPr>
          <p:spPr>
            <a:xfrm>
              <a:off x="5181480" y="26668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自变量的增量：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140" name="Object 28"/>
            <p:cNvGraphicFramePr/>
            <p:nvPr/>
          </p:nvGraphicFramePr>
          <p:xfrm>
            <a:off x="7238880" y="2666880"/>
            <a:ext cx="466920" cy="384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1" name="Object 2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238880" y="2666880"/>
                      <a:ext cx="46692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Object 29"/>
            <p:cNvGraphicFramePr/>
            <p:nvPr/>
          </p:nvGraphicFramePr>
          <p:xfrm>
            <a:off x="5181480" y="3886200"/>
            <a:ext cx="3048120" cy="465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3" name="Object 2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181480" y="3886200"/>
                      <a:ext cx="304812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AutoShape 30"/>
            <p:cNvSpPr/>
            <p:nvPr/>
          </p:nvSpPr>
          <p:spPr>
            <a:xfrm>
              <a:off x="7238880" y="3220920"/>
              <a:ext cx="4669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145" name="Object 31"/>
            <p:cNvGraphicFramePr/>
            <p:nvPr/>
          </p:nvGraphicFramePr>
          <p:xfrm>
            <a:off x="7238880" y="3247920"/>
            <a:ext cx="466920" cy="439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6" name="Object 3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238880" y="3247920"/>
                      <a:ext cx="4669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7" name="Text Box 32"/>
          <p:cNvSpPr/>
          <p:nvPr/>
        </p:nvSpPr>
        <p:spPr>
          <a:xfrm>
            <a:off x="533520" y="533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9.1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函数的增量（或称函数改变量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762120" y="1219320"/>
            <a:ext cx="6933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情境创设：“连续变化”如何用数学的语言刻画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533520" y="4959360"/>
            <a:ext cx="807696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楷体"/>
                <a:ea typeface="楷体"/>
              </a:rPr>
              <a:t>数学中函数是随着自变量的变化而变化，如果函数是“连续变化”的，那么也可以这样理解：自变量的改变很微小时，函数的改变也很微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838080" y="685800"/>
            <a:ext cx="7696440" cy="212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量（改变量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定义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变量  从初值   变到终值   ，终值与初值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差       ，称为变量   的增量，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  可正可负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小变大或从大变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52" name="Object 7"/>
          <p:cNvGraphicFramePr/>
          <p:nvPr/>
        </p:nvGraphicFramePr>
        <p:xfrm>
          <a:off x="2819520" y="1371600"/>
          <a:ext cx="2761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1600"/>
                    <a:ext cx="276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8"/>
          <p:cNvGraphicFramePr/>
          <p:nvPr/>
        </p:nvGraphicFramePr>
        <p:xfrm>
          <a:off x="1295280" y="1752480"/>
          <a:ext cx="91440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752480"/>
                    <a:ext cx="9144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9"/>
          <p:cNvGraphicFramePr/>
          <p:nvPr/>
        </p:nvGraphicFramePr>
        <p:xfrm>
          <a:off x="1371600" y="2362320"/>
          <a:ext cx="48276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362320"/>
                    <a:ext cx="4827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0"/>
          <p:cNvGraphicFramePr/>
          <p:nvPr/>
        </p:nvGraphicFramePr>
        <p:xfrm>
          <a:off x="4114800" y="1295280"/>
          <a:ext cx="3049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1295280"/>
                    <a:ext cx="30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1"/>
          <p:cNvGraphicFramePr/>
          <p:nvPr/>
        </p:nvGraphicFramePr>
        <p:xfrm>
          <a:off x="5791320" y="1295280"/>
          <a:ext cx="3301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129528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2"/>
          <p:cNvGraphicFramePr/>
          <p:nvPr/>
        </p:nvGraphicFramePr>
        <p:xfrm>
          <a:off x="3886200" y="1905120"/>
          <a:ext cx="276120" cy="30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1905120"/>
                    <a:ext cx="2761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3"/>
          <p:cNvGraphicFramePr/>
          <p:nvPr/>
        </p:nvGraphicFramePr>
        <p:xfrm>
          <a:off x="5791320" y="1828800"/>
          <a:ext cx="1523880" cy="465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1828800"/>
                    <a:ext cx="15238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15"/>
          <p:cNvSpPr/>
          <p:nvPr/>
        </p:nvSpPr>
        <p:spPr>
          <a:xfrm>
            <a:off x="838080" y="3124080"/>
            <a:ext cx="7543800" cy="2684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适合下列条件的自变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增量   和函数的增量　 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1)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2)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3)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到　    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67" name="Object 16"/>
          <p:cNvGraphicFramePr/>
          <p:nvPr/>
        </p:nvGraphicFramePr>
        <p:xfrm>
          <a:off x="1981080" y="3124080"/>
          <a:ext cx="1828800" cy="470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3124080"/>
                    <a:ext cx="18288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7"/>
          <p:cNvGraphicFramePr/>
          <p:nvPr/>
        </p:nvGraphicFramePr>
        <p:xfrm>
          <a:off x="1828800" y="3733920"/>
          <a:ext cx="457200" cy="37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0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28800" y="3733920"/>
                    <a:ext cx="457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8"/>
          <p:cNvGraphicFramePr/>
          <p:nvPr/>
        </p:nvGraphicFramePr>
        <p:xfrm>
          <a:off x="4114800" y="3733920"/>
          <a:ext cx="457200" cy="43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2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14800" y="3733920"/>
                    <a:ext cx="4572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9"/>
          <p:cNvGraphicFramePr/>
          <p:nvPr/>
        </p:nvGraphicFramePr>
        <p:xfrm>
          <a:off x="2743200" y="5410080"/>
          <a:ext cx="762120" cy="344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4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43200" y="5410080"/>
                    <a:ext cx="7621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0"/>
          <p:cNvGraphicFramePr/>
          <p:nvPr/>
        </p:nvGraphicFramePr>
        <p:xfrm>
          <a:off x="1447920" y="4343400"/>
          <a:ext cx="276120" cy="304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6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47920" y="4343400"/>
                    <a:ext cx="276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1"/>
          <p:cNvGraphicFramePr/>
          <p:nvPr/>
        </p:nvGraphicFramePr>
        <p:xfrm>
          <a:off x="1436760" y="4878360"/>
          <a:ext cx="276120" cy="304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8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436760" y="4878360"/>
                    <a:ext cx="276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2"/>
          <p:cNvGraphicFramePr/>
          <p:nvPr/>
        </p:nvGraphicFramePr>
        <p:xfrm>
          <a:off x="1403280" y="5410080"/>
          <a:ext cx="276120" cy="304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0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403280" y="5410080"/>
                    <a:ext cx="276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4-03T02:07:1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