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F7A-8B18-4C39-BE7C-43F9BA5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C66-4A1C-4A67-836E-92812E0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58E-EF22-4436-9541-D8786090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31E-B252-4933-A739-70ECC920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327-077C-49AE-B86B-8150E74F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626-7AD1-4317-BDF3-13B7643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09E-4BEC-458C-8ABB-B84A53E8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E48-9A1F-40D8-83B2-4CCEACF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096-C31A-4B82-BB70-7F3CE63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326-5F6B-4758-B5CC-3C65CB0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BED-5FEA-4803-93AF-2292690A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EA0-C8DE-4513-8721-82DA4AF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13F-248E-4D7B-83B8-7BA824BB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295280" y="17524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楷体"/>
                <a:ea typeface="楷体"/>
              </a:rPr>
              <a:t>3.6 </a:t>
            </a: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简单有理函数的积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6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638280" y="380880"/>
            <a:ext cx="7772400" cy="563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一般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当真分式的分母含有一次因式     时，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式应有形如      的部分分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当真分式的分母含有        时，则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后为  个部分分式之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6249960" y="1362240"/>
                <a:ext cx="9921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2897280" y="183528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5"/>
              <p:cNvSpPr txBox="1"/>
              <p:nvPr/>
            </p:nvSpPr>
            <p:spPr>
              <a:xfrm>
                <a:off x="4940280" y="2905200"/>
                <a:ext cx="1433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6"/>
              <p:cNvSpPr txBox="1"/>
              <p:nvPr/>
            </p:nvSpPr>
            <p:spPr>
              <a:xfrm>
                <a:off x="1495440" y="383688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1900080" y="4519440"/>
                <a:ext cx="1395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9"/>
              <p:cNvSpPr txBox="1"/>
              <p:nvPr/>
            </p:nvSpPr>
            <p:spPr>
              <a:xfrm>
                <a:off x="3165480" y="4519440"/>
                <a:ext cx="19512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0"/>
              <p:cNvSpPr txBox="1"/>
              <p:nvPr/>
            </p:nvSpPr>
            <p:spPr>
              <a:xfrm>
                <a:off x="5921280" y="4510080"/>
                <a:ext cx="1617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1"/>
              <p:cNvSpPr txBox="1"/>
              <p:nvPr/>
            </p:nvSpPr>
            <p:spPr>
              <a:xfrm>
                <a:off x="5116680" y="4867200"/>
                <a:ext cx="84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76320" y="1006560"/>
            <a:ext cx="8991360" cy="478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当真分式的分母含有质因子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时，则分解后为 个部分分式之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2009880" y="1976400"/>
                <a:ext cx="4924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185760" y="3560760"/>
                <a:ext cx="24652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1"/>
              <p:cNvSpPr txBox="1"/>
              <p:nvPr/>
            </p:nvSpPr>
            <p:spPr>
              <a:xfrm>
                <a:off x="2546280" y="3560760"/>
                <a:ext cx="3017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（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2"/>
              <p:cNvSpPr txBox="1"/>
              <p:nvPr/>
            </p:nvSpPr>
            <p:spPr>
              <a:xfrm>
                <a:off x="6176880" y="3560760"/>
                <a:ext cx="27241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（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5462640" y="3903840"/>
                <a:ext cx="8460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4"/>
              <p:cNvSpPr txBox="1"/>
              <p:nvPr/>
            </p:nvSpPr>
            <p:spPr>
              <a:xfrm>
                <a:off x="2610000" y="2754360"/>
                <a:ext cx="366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33520" y="914400"/>
            <a:ext cx="7696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分式分解为部分分式的方法：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待定系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1523880"/>
            <a:ext cx="495288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分         解为部分分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0"/>
              <p:cNvSpPr txBox="1"/>
              <p:nvPr/>
            </p:nvSpPr>
            <p:spPr>
              <a:xfrm>
                <a:off x="1979640" y="1962000"/>
                <a:ext cx="1371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7"/>
          <p:cNvSpPr/>
          <p:nvPr/>
        </p:nvSpPr>
        <p:spPr>
          <a:xfrm>
            <a:off x="716040" y="3276720"/>
            <a:ext cx="3398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先将分母分解因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4"/>
              <p:cNvSpPr txBox="1"/>
              <p:nvPr/>
            </p:nvSpPr>
            <p:spPr>
              <a:xfrm>
                <a:off x="2133720" y="4495680"/>
                <a:ext cx="3657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Text Box 5"/>
          <p:cNvSpPr/>
          <p:nvPr/>
        </p:nvSpPr>
        <p:spPr>
          <a:xfrm>
            <a:off x="914400" y="5486400"/>
            <a:ext cx="3352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其中         为待定系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9"/>
              <p:cNvSpPr txBox="1"/>
              <p:nvPr/>
            </p:nvSpPr>
            <p:spPr>
              <a:xfrm>
                <a:off x="1590840" y="5543640"/>
                <a:ext cx="8823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0"/>
              <p:cNvSpPr txBox="1"/>
              <p:nvPr/>
            </p:nvSpPr>
            <p:spPr>
              <a:xfrm>
                <a:off x="2057400" y="3989520"/>
                <a:ext cx="3828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7"/>
          <p:cNvSpPr/>
          <p:nvPr/>
        </p:nvSpPr>
        <p:spPr>
          <a:xfrm>
            <a:off x="1459080" y="4705200"/>
            <a:ext cx="533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933480" y="895320"/>
            <a:ext cx="7467480" cy="3319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确定待定系数的方法通常有两种：一种方法是将分解式两端消去分母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得到一个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的恒等式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比较恒等式两端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同次幂项的系数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可得出一组线性方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解这个方程组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即可得出待定系数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另一种方法是将两端消去分母后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以适当的值代入恒等式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而得出一组线性方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解此方程组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可求出待定常数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838080" y="533520"/>
            <a:ext cx="4724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按第一种方法求待定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4248000" y="590400"/>
                <a:ext cx="88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 Box 7"/>
          <p:cNvSpPr/>
          <p:nvPr/>
        </p:nvSpPr>
        <p:spPr>
          <a:xfrm>
            <a:off x="838080" y="1138320"/>
            <a:ext cx="5791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分母，两端同乘以              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648240" y="1171440"/>
                <a:ext cx="2390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1863720" y="1828800"/>
                <a:ext cx="4818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958680" y="2368440"/>
            <a:ext cx="50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722600" y="2438280"/>
                <a:ext cx="5184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7"/>
          <p:cNvSpPr/>
          <p:nvPr/>
        </p:nvSpPr>
        <p:spPr>
          <a:xfrm>
            <a:off x="925560" y="3124080"/>
            <a:ext cx="2351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较两边系数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2"/>
          <p:cNvGraphicFramePr/>
          <p:nvPr/>
        </p:nvGraphicFramePr>
        <p:xfrm>
          <a:off x="3733920" y="3002040"/>
          <a:ext cx="1904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002040"/>
                    <a:ext cx="1904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7"/>
          <p:cNvSpPr/>
          <p:nvPr/>
        </p:nvSpPr>
        <p:spPr>
          <a:xfrm>
            <a:off x="990720" y="412596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4"/>
          <p:cNvGraphicFramePr/>
          <p:nvPr/>
        </p:nvGraphicFramePr>
        <p:xfrm>
          <a:off x="1981080" y="3975120"/>
          <a:ext cx="1067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975120"/>
                    <a:ext cx="1067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7"/>
          <p:cNvSpPr/>
          <p:nvPr/>
        </p:nvSpPr>
        <p:spPr>
          <a:xfrm>
            <a:off x="990720" y="525312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2514600" y="5067360"/>
                <a:ext cx="327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81200" y="568440"/>
            <a:ext cx="4724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按第二种方法求待定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4248000" y="590400"/>
                <a:ext cx="88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685800" y="1143000"/>
            <a:ext cx="784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上面的恒等式                                 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2857680" y="1190520"/>
                <a:ext cx="5184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7"/>
          <p:cNvSpPr/>
          <p:nvPr/>
        </p:nvSpPr>
        <p:spPr>
          <a:xfrm>
            <a:off x="743040" y="1752480"/>
            <a:ext cx="7257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令     得       ；令    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81200" y="2416320"/>
            <a:ext cx="7524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两种解法结果完全一致，以下我们主要采用第二种解法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1143000" y="175248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5"/>
              <p:cNvSpPr txBox="1"/>
              <p:nvPr/>
            </p:nvSpPr>
            <p:spPr>
              <a:xfrm>
                <a:off x="2209680" y="180036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838680" y="1752480"/>
                <a:ext cx="780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4917960" y="1819440"/>
                <a:ext cx="895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5"/>
          <p:cNvSpPr/>
          <p:nvPr/>
        </p:nvSpPr>
        <p:spPr>
          <a:xfrm>
            <a:off x="762120" y="2962440"/>
            <a:ext cx="624816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            分解为部分分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1819440" y="3246480"/>
                <a:ext cx="1752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Text Box 7"/>
          <p:cNvSpPr/>
          <p:nvPr/>
        </p:nvSpPr>
        <p:spPr>
          <a:xfrm>
            <a:off x="762120" y="4640400"/>
            <a:ext cx="6553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根据分解方法，所给真分式分解后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3274920" y="5410080"/>
                <a:ext cx="2819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3"/>
              <p:cNvSpPr txBox="1"/>
              <p:nvPr/>
            </p:nvSpPr>
            <p:spPr>
              <a:xfrm>
                <a:off x="1709640" y="5400720"/>
                <a:ext cx="1676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8"/>
          <p:cNvSpPr/>
          <p:nvPr/>
        </p:nvSpPr>
        <p:spPr>
          <a:xfrm>
            <a:off x="0" y="99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143000" y="36504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分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2755800" y="801720"/>
                <a:ext cx="403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7"/>
          <p:cNvSpPr/>
          <p:nvPr/>
        </p:nvSpPr>
        <p:spPr>
          <a:xfrm>
            <a:off x="743040" y="1450800"/>
            <a:ext cx="6343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令     得     ；令    得     ；令     并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     代入得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7"/>
              <p:cNvSpPr txBox="1"/>
              <p:nvPr/>
            </p:nvSpPr>
            <p:spPr>
              <a:xfrm>
                <a:off x="1100160" y="1450800"/>
                <a:ext cx="80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8"/>
              <p:cNvSpPr txBox="1"/>
              <p:nvPr/>
            </p:nvSpPr>
            <p:spPr>
              <a:xfrm>
                <a:off x="2139840" y="1511280"/>
                <a:ext cx="865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3484440" y="1450800"/>
                <a:ext cx="75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4435560" y="1527120"/>
                <a:ext cx="865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1"/>
              <p:cNvSpPr txBox="1"/>
              <p:nvPr/>
            </p:nvSpPr>
            <p:spPr>
              <a:xfrm>
                <a:off x="5796000" y="1498680"/>
                <a:ext cx="863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1055520" y="1890720"/>
                <a:ext cx="865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3"/>
              <p:cNvSpPr txBox="1"/>
              <p:nvPr/>
            </p:nvSpPr>
            <p:spPr>
              <a:xfrm>
                <a:off x="2181240" y="1881360"/>
                <a:ext cx="865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4"/>
              <p:cNvSpPr txBox="1"/>
              <p:nvPr/>
            </p:nvSpPr>
            <p:spPr>
              <a:xfrm>
                <a:off x="3833640" y="1874880"/>
                <a:ext cx="1081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5"/>
              <p:cNvSpPr txBox="1"/>
              <p:nvPr/>
            </p:nvSpPr>
            <p:spPr>
              <a:xfrm>
                <a:off x="1865160" y="2368440"/>
                <a:ext cx="1447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7"/>
              <p:cNvSpPr txBox="1"/>
              <p:nvPr/>
            </p:nvSpPr>
            <p:spPr>
              <a:xfrm>
                <a:off x="3209760" y="2370240"/>
                <a:ext cx="2286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5"/>
          <p:cNvSpPr/>
          <p:nvPr/>
        </p:nvSpPr>
        <p:spPr>
          <a:xfrm>
            <a:off x="838080" y="3305160"/>
            <a:ext cx="6248520" cy="1572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                分解为部分分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9"/>
              <p:cNvSpPr txBox="1"/>
              <p:nvPr/>
            </p:nvSpPr>
            <p:spPr>
              <a:xfrm>
                <a:off x="1903320" y="3637080"/>
                <a:ext cx="2362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7"/>
          <p:cNvSpPr/>
          <p:nvPr/>
        </p:nvSpPr>
        <p:spPr>
          <a:xfrm>
            <a:off x="819000" y="4781520"/>
            <a:ext cx="655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根据分解方法，所给真分式分解后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552680" y="5383080"/>
                <a:ext cx="2286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3"/>
              <p:cNvSpPr txBox="1"/>
              <p:nvPr/>
            </p:nvSpPr>
            <p:spPr>
              <a:xfrm>
                <a:off x="3794040" y="5423040"/>
                <a:ext cx="2378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1143000" y="36504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分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1523880" y="888840"/>
                <a:ext cx="632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 Box 7"/>
          <p:cNvSpPr/>
          <p:nvPr/>
        </p:nvSpPr>
        <p:spPr>
          <a:xfrm>
            <a:off x="743040" y="1450800"/>
            <a:ext cx="733428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令    得     ；令     得           ；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较  的系数得         ，得       ，因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0"/>
              <p:cNvSpPr txBox="1"/>
              <p:nvPr/>
            </p:nvSpPr>
            <p:spPr>
              <a:xfrm>
                <a:off x="1062000" y="1479600"/>
                <a:ext cx="750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959120" y="1530360"/>
                <a:ext cx="927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2"/>
              <p:cNvSpPr txBox="1"/>
              <p:nvPr/>
            </p:nvSpPr>
            <p:spPr>
              <a:xfrm>
                <a:off x="3379680" y="1479600"/>
                <a:ext cx="80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3"/>
              <p:cNvSpPr txBox="1"/>
              <p:nvPr/>
            </p:nvSpPr>
            <p:spPr>
              <a:xfrm>
                <a:off x="4533840" y="1523880"/>
                <a:ext cx="1700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6"/>
              <p:cNvSpPr txBox="1"/>
              <p:nvPr/>
            </p:nvSpPr>
            <p:spPr>
              <a:xfrm>
                <a:off x="7061040" y="1523880"/>
                <a:ext cx="89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7"/>
              <p:cNvSpPr txBox="1"/>
              <p:nvPr/>
            </p:nvSpPr>
            <p:spPr>
              <a:xfrm>
                <a:off x="2971800" y="2057400"/>
                <a:ext cx="14209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8"/>
              <p:cNvSpPr txBox="1"/>
              <p:nvPr/>
            </p:nvSpPr>
            <p:spPr>
              <a:xfrm>
                <a:off x="1409760" y="1916280"/>
                <a:ext cx="4032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9"/>
              <p:cNvSpPr txBox="1"/>
              <p:nvPr/>
            </p:nvSpPr>
            <p:spPr>
              <a:xfrm>
                <a:off x="4905360" y="2085840"/>
                <a:ext cx="1011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0"/>
              <p:cNvSpPr txBox="1"/>
              <p:nvPr/>
            </p:nvSpPr>
            <p:spPr>
              <a:xfrm>
                <a:off x="1676520" y="2514600"/>
                <a:ext cx="2057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2"/>
              <p:cNvSpPr txBox="1"/>
              <p:nvPr/>
            </p:nvSpPr>
            <p:spPr>
              <a:xfrm>
                <a:off x="3649680" y="2629080"/>
                <a:ext cx="2362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Text Box 5"/>
          <p:cNvSpPr/>
          <p:nvPr/>
        </p:nvSpPr>
        <p:spPr>
          <a:xfrm>
            <a:off x="457200" y="3809880"/>
            <a:ext cx="7467480" cy="2466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一般地，真分式总可以分解为部分分式之和，且分解唯一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部分分式有以下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种类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4"/>
              <p:cNvSpPr txBox="1"/>
              <p:nvPr/>
            </p:nvSpPr>
            <p:spPr>
              <a:xfrm>
                <a:off x="782640" y="4782960"/>
                <a:ext cx="123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6"/>
              <p:cNvSpPr txBox="1"/>
              <p:nvPr/>
            </p:nvSpPr>
            <p:spPr>
              <a:xfrm>
                <a:off x="3009960" y="4876920"/>
                <a:ext cx="2319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8"/>
              <p:cNvSpPr txBox="1"/>
              <p:nvPr/>
            </p:nvSpPr>
            <p:spPr>
              <a:xfrm>
                <a:off x="704880" y="5638680"/>
                <a:ext cx="2114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0"/>
              <p:cNvSpPr txBox="1"/>
              <p:nvPr/>
            </p:nvSpPr>
            <p:spPr>
              <a:xfrm>
                <a:off x="2971800" y="5602320"/>
                <a:ext cx="482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7"/>
          <p:cNvSpPr/>
          <p:nvPr/>
        </p:nvSpPr>
        <p:spPr>
          <a:xfrm>
            <a:off x="820800" y="692280"/>
            <a:ext cx="7162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前面三种部分分式的积分较易计算，第四种过于繁复，不在这里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38080" y="1571760"/>
            <a:ext cx="358164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"/>
              <p:cNvSpPr txBox="1"/>
              <p:nvPr/>
            </p:nvSpPr>
            <p:spPr>
              <a:xfrm>
                <a:off x="1924200" y="1905120"/>
                <a:ext cx="2133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6" name="Object 6"/>
          <p:cNvGraphicFramePr/>
          <p:nvPr/>
        </p:nvGraphicFramePr>
        <p:xfrm>
          <a:off x="2857680" y="3105000"/>
          <a:ext cx="3581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105000"/>
                    <a:ext cx="3581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600280" y="410364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543040" y="5045040"/>
                <a:ext cx="464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0" name="Object 3"/>
          <p:cNvGraphicFramePr/>
          <p:nvPr/>
        </p:nvGraphicFramePr>
        <p:xfrm>
          <a:off x="2562120" y="5635800"/>
          <a:ext cx="2590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2120" y="5635800"/>
                    <a:ext cx="2590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385520" y="648720"/>
            <a:ext cx="37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464720" y="134388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224240" y="2058120"/>
            <a:ext cx="69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838080" y="3276720"/>
            <a:ext cx="190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 由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658800" y="98280"/>
            <a:ext cx="358128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5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1800360" y="392040"/>
                <a:ext cx="2057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Text Box 7"/>
          <p:cNvSpPr/>
          <p:nvPr/>
        </p:nvSpPr>
        <p:spPr>
          <a:xfrm>
            <a:off x="706320" y="1782720"/>
            <a:ext cx="190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 由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2"/>
          <p:cNvGraphicFramePr/>
          <p:nvPr/>
        </p:nvGraphicFramePr>
        <p:xfrm>
          <a:off x="1285920" y="2227320"/>
          <a:ext cx="47242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27320"/>
                    <a:ext cx="4724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2825640" y="3168720"/>
          <a:ext cx="41911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5640" y="3168720"/>
                    <a:ext cx="4191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Object 20"/>
              <p:cNvSpPr txBox="1"/>
              <p:nvPr/>
            </p:nvSpPr>
            <p:spPr>
              <a:xfrm>
                <a:off x="2836800" y="4064040"/>
                <a:ext cx="350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9"/>
              <p:cNvSpPr txBox="1"/>
              <p:nvPr/>
            </p:nvSpPr>
            <p:spPr>
              <a:xfrm>
                <a:off x="2846520" y="5018040"/>
                <a:ext cx="30477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4024440" y="1019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3945240" y="189612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945240" y="274392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762120" y="1143000"/>
            <a:ext cx="80517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陈希孺院士赠言学好数学重在多做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762120" y="2286000"/>
            <a:ext cx="805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物理、化学、生物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实证科学，离不开实验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好像没有实验。其实不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学的实验就是习题。如果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好数学有什么经验，那么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习题就是最重要的一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5351400" y="2438280"/>
            <a:ext cx="3462480" cy="3446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658800" y="98280"/>
            <a:ext cx="444672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6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8"/>
              <p:cNvSpPr txBox="1"/>
              <p:nvPr/>
            </p:nvSpPr>
            <p:spPr>
              <a:xfrm>
                <a:off x="1790640" y="447840"/>
                <a:ext cx="2781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Text Box 7"/>
          <p:cNvSpPr/>
          <p:nvPr/>
        </p:nvSpPr>
        <p:spPr>
          <a:xfrm>
            <a:off x="706320" y="1782720"/>
            <a:ext cx="7980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分母是质因式，改写被积函数分子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0"/>
          <p:cNvGraphicFramePr/>
          <p:nvPr/>
        </p:nvGraphicFramePr>
        <p:xfrm>
          <a:off x="2021040" y="175248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175248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203480" y="2627280"/>
                <a:ext cx="2286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7"/>
          <p:cNvSpPr/>
          <p:nvPr/>
        </p:nvSpPr>
        <p:spPr>
          <a:xfrm>
            <a:off x="3581280" y="2730600"/>
            <a:ext cx="4724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这里      正好是分母的导数）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5"/>
              <p:cNvSpPr txBox="1"/>
              <p:nvPr/>
            </p:nvSpPr>
            <p:spPr>
              <a:xfrm>
                <a:off x="4562640" y="280188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62120" y="3389400"/>
            <a:ext cx="1447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样就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558800" y="3314880"/>
                <a:ext cx="4191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21"/>
          <p:cNvGraphicFramePr/>
          <p:nvPr/>
        </p:nvGraphicFramePr>
        <p:xfrm>
          <a:off x="3495600" y="4591080"/>
          <a:ext cx="3429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5600" y="4591080"/>
                    <a:ext cx="3429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23"/>
          <p:cNvGraphicFramePr/>
          <p:nvPr/>
        </p:nvGraphicFramePr>
        <p:xfrm>
          <a:off x="3505320" y="5553000"/>
          <a:ext cx="36576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553000"/>
                    <a:ext cx="3657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"/>
          <p:cNvGraphicFramePr/>
          <p:nvPr/>
        </p:nvGraphicFramePr>
        <p:xfrm>
          <a:off x="1447920" y="457200"/>
          <a:ext cx="51051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5105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3"/>
          <p:cNvGraphicFramePr/>
          <p:nvPr/>
        </p:nvGraphicFramePr>
        <p:xfrm>
          <a:off x="1447920" y="1219320"/>
          <a:ext cx="46479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219320"/>
                    <a:ext cx="4647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5"/>
          <p:cNvSpPr/>
          <p:nvPr/>
        </p:nvSpPr>
        <p:spPr>
          <a:xfrm>
            <a:off x="685800" y="1905120"/>
            <a:ext cx="5257800" cy="1937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5"/>
          <p:cNvGraphicFramePr/>
          <p:nvPr/>
        </p:nvGraphicFramePr>
        <p:xfrm>
          <a:off x="1601640" y="2219400"/>
          <a:ext cx="39625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1640" y="2219400"/>
                    <a:ext cx="3962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7"/>
          <p:cNvSpPr/>
          <p:nvPr/>
        </p:nvSpPr>
        <p:spPr>
          <a:xfrm>
            <a:off x="609480" y="3581280"/>
            <a:ext cx="4343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真分式分解法，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652320" y="4162320"/>
          <a:ext cx="46483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320" y="4162320"/>
                    <a:ext cx="4648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7"/>
          <p:cNvSpPr/>
          <p:nvPr/>
        </p:nvSpPr>
        <p:spPr>
          <a:xfrm>
            <a:off x="5326200" y="4421160"/>
            <a:ext cx="377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中       是待定系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1"/>
              <p:cNvSpPr txBox="1"/>
              <p:nvPr/>
            </p:nvSpPr>
            <p:spPr>
              <a:xfrm>
                <a:off x="6170760" y="4497480"/>
                <a:ext cx="11826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7"/>
          <p:cNvSpPr/>
          <p:nvPr/>
        </p:nvSpPr>
        <p:spPr>
          <a:xfrm>
            <a:off x="762120" y="5538960"/>
            <a:ext cx="144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分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3"/>
              <p:cNvSpPr txBox="1"/>
              <p:nvPr/>
            </p:nvSpPr>
            <p:spPr>
              <a:xfrm>
                <a:off x="2665440" y="5580000"/>
                <a:ext cx="4935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7"/>
          <p:cNvSpPr/>
          <p:nvPr/>
        </p:nvSpPr>
        <p:spPr>
          <a:xfrm>
            <a:off x="819000" y="609480"/>
            <a:ext cx="733428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令      得      ；令     得            ；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比较  的系数得         ，得       ，从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152360" y="636480"/>
                <a:ext cx="98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2425680" y="687240"/>
                <a:ext cx="927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3886200" y="617400"/>
                <a:ext cx="80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5019840" y="711360"/>
                <a:ext cx="188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981000" y="1255680"/>
                <a:ext cx="897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4237200" y="1238400"/>
                <a:ext cx="1420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6267600" y="1228680"/>
                <a:ext cx="101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0"/>
              <p:cNvSpPr txBox="1"/>
              <p:nvPr/>
            </p:nvSpPr>
            <p:spPr>
              <a:xfrm>
                <a:off x="2685960" y="1160640"/>
                <a:ext cx="433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1"/>
          <p:cNvGraphicFramePr/>
          <p:nvPr/>
        </p:nvGraphicFramePr>
        <p:xfrm>
          <a:off x="1600200" y="1981080"/>
          <a:ext cx="51055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5105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3"/>
              <p:cNvSpPr txBox="1"/>
              <p:nvPr/>
            </p:nvSpPr>
            <p:spPr>
              <a:xfrm>
                <a:off x="1657440" y="3200400"/>
                <a:ext cx="5257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2" name="Text Box 7"/>
          <p:cNvSpPr/>
          <p:nvPr/>
        </p:nvSpPr>
        <p:spPr>
          <a:xfrm>
            <a:off x="1143000" y="4343400"/>
            <a:ext cx="4114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式第二个积分是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因此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5"/>
          <p:cNvGraphicFramePr/>
          <p:nvPr/>
        </p:nvGraphicFramePr>
        <p:xfrm>
          <a:off x="933480" y="5141880"/>
          <a:ext cx="7543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5141880"/>
                    <a:ext cx="7543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685800" y="762120"/>
            <a:ext cx="7467480" cy="483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上面介绍的是有理函数积分的一般方法，实际计算比较麻烦，因此解题时应优先考虑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它简便方法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如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求       时，就不必将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因式分解为          ，把      化为部分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式进行运算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而可以直接用凑微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总而言之，有理函数积分的常规办法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是在其它简单积分法都不适合的情况下才采用的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571920" y="2332080"/>
                <a:ext cx="1371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2590920" y="3218040"/>
          <a:ext cx="1752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1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5022720" y="2924280"/>
                <a:ext cx="121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9"/>
          <p:cNvGraphicFramePr/>
          <p:nvPr/>
        </p:nvGraphicFramePr>
        <p:xfrm>
          <a:off x="2222640" y="4219560"/>
          <a:ext cx="41907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2640" y="4219560"/>
                    <a:ext cx="4190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36196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矩形 3"/>
          <p:cNvSpPr/>
          <p:nvPr/>
        </p:nvSpPr>
        <p:spPr>
          <a:xfrm>
            <a:off x="484200" y="4876920"/>
            <a:ext cx="76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数学要多做习题，边做边思索。先知其然，然后知其所以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步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48420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苏步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19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200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浙江温州平阳人，祖籍福建省泉州市，中国科学院院士，中国著名的数学家、教育家，中国微分几何学派创始人，被誉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东方国度上灿烂的数学明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东方第一几何学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之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752480" y="31950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有理函数、真分式、假分式、简单分式、部分分式等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将真分式分解成若干部分分式之和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熟练掌握四类部分分式的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14400" y="149544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54640" y="149652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掌握有理函数积分的计算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14400" y="340056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743200" y="319644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严密的逻辑思维能力，培养学生严谨的学习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培养学生观察能力和分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培养学生的不怕困难，勇于面对难题的自信和勇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76720" y="1905120"/>
            <a:ext cx="44956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有理函数、部分分式等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有理函数的积分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352680" y="3733920"/>
            <a:ext cx="452592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有理函数化为整式与若干部分分式之和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5800" y="990720"/>
          <a:ext cx="7543800" cy="137160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提问与思考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什么是整式、真分式、假分式？并判断下列分式分别是什么类型的分式？之间有何关系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4"/>
          <p:cNvGrpSpPr/>
          <p:nvPr/>
        </p:nvGrpSpPr>
        <p:grpSpPr>
          <a:xfrm>
            <a:off x="1762200" y="2743200"/>
            <a:ext cx="5292720" cy="1066680"/>
            <a:chOff x="1762200" y="2743200"/>
            <a:chExt cx="5292720" cy="1066680"/>
          </a:xfrm>
        </p:grpSpPr>
        <mc:AlternateContent>
          <mc:Choice xmlns:a14="http://schemas.microsoft.com/office/drawing/2010/main" Requires="a14">
            <p:sp>
              <p:nvSpPr>
                <p:cNvPr id="77" name="Object 78"/>
                <p:cNvSpPr txBox="1"/>
                <p:nvPr/>
              </p:nvSpPr>
              <p:spPr>
                <a:xfrm>
                  <a:off x="1762200" y="2743200"/>
                  <a:ext cx="228600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84"/>
                <p:cNvSpPr txBox="1"/>
                <p:nvPr/>
              </p:nvSpPr>
              <p:spPr>
                <a:xfrm>
                  <a:off x="4124520" y="3009600"/>
                  <a:ext cx="8222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86"/>
                <p:cNvSpPr txBox="1"/>
                <p:nvPr/>
              </p:nvSpPr>
              <p:spPr>
                <a:xfrm>
                  <a:off x="5005440" y="2800080"/>
                  <a:ext cx="20494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0" name=""/>
          <p:cNvGraphicFramePr/>
          <p:nvPr/>
        </p:nvGraphicFramePr>
        <p:xfrm>
          <a:off x="838080" y="4419720"/>
          <a:ext cx="7543800" cy="9442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一般地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任何假分式都可以分解为一个整式与一个真分式的和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838080" y="609480"/>
          <a:ext cx="7512120" cy="517680"/>
        </p:xfrm>
        <a:graphic>
          <a:graphicData uri="http://schemas.openxmlformats.org/drawingml/2006/table">
            <a:tbl>
              <a:tblPr/>
              <a:tblGrid>
                <a:gridCol w="7512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观察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观察下列等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83" name="组合 29"/>
          <p:cNvGrpSpPr/>
          <p:nvPr/>
        </p:nvGrpSpPr>
        <p:grpSpPr>
          <a:xfrm>
            <a:off x="1746360" y="1550880"/>
            <a:ext cx="4857480" cy="4267440"/>
            <a:chOff x="1746360" y="1550880"/>
            <a:chExt cx="4857480" cy="4267440"/>
          </a:xfrm>
        </p:grpSpPr>
        <mc:AlternateContent>
          <mc:Choice xmlns:a14="http://schemas.microsoft.com/office/drawing/2010/main" Requires="a14">
            <p:sp>
              <p:nvSpPr>
                <p:cNvPr id="84" name="Object 27"/>
                <p:cNvSpPr txBox="1"/>
                <p:nvPr/>
              </p:nvSpPr>
              <p:spPr>
                <a:xfrm>
                  <a:off x="1746360" y="1550880"/>
                  <a:ext cx="464796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Object 28"/>
                <p:cNvSpPr txBox="1"/>
                <p:nvPr/>
              </p:nvSpPr>
              <p:spPr>
                <a:xfrm>
                  <a:off x="1822320" y="2922480"/>
                  <a:ext cx="4267080" cy="12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" name="Object 29"/>
                <p:cNvSpPr txBox="1"/>
                <p:nvPr/>
              </p:nvSpPr>
              <p:spPr>
                <a:xfrm>
                  <a:off x="1803600" y="4523040"/>
                  <a:ext cx="48002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6"/>
          <p:cNvSpPr/>
          <p:nvPr/>
        </p:nvSpPr>
        <p:spPr>
          <a:xfrm>
            <a:off x="685800" y="106668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部分分式：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形如以下分式的称为部分分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"/>
          <p:cNvGrpSpPr/>
          <p:nvPr/>
        </p:nvGrpSpPr>
        <p:grpSpPr>
          <a:xfrm>
            <a:off x="2092320" y="1981080"/>
            <a:ext cx="5603760" cy="1067040"/>
            <a:chOff x="2092320" y="1981080"/>
            <a:chExt cx="5603760" cy="1067040"/>
          </a:xfrm>
        </p:grpSpPr>
        <mc:AlternateContent>
          <mc:Choice xmlns:a14="http://schemas.microsoft.com/office/drawing/2010/main" Requires="a14">
            <p:sp>
              <p:nvSpPr>
                <p:cNvPr id="90" name="Object 5"/>
                <p:cNvSpPr txBox="1"/>
                <p:nvPr/>
              </p:nvSpPr>
              <p:spPr>
                <a:xfrm>
                  <a:off x="2092320" y="1981080"/>
                  <a:ext cx="121284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Object 6"/>
                <p:cNvSpPr txBox="1"/>
                <p:nvPr/>
              </p:nvSpPr>
              <p:spPr>
                <a:xfrm>
                  <a:off x="3340080" y="1981080"/>
                  <a:ext cx="176688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（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7"/>
                <p:cNvSpPr txBox="1"/>
                <p:nvPr/>
              </p:nvSpPr>
              <p:spPr>
                <a:xfrm>
                  <a:off x="5931000" y="1981080"/>
                  <a:ext cx="176508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（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den>
                      </m:f>
                      <m:r>
                        <m:t xml:space="preserve">；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Object 8"/>
                <p:cNvSpPr txBox="1"/>
                <p:nvPr/>
              </p:nvSpPr>
              <p:spPr>
                <a:xfrm>
                  <a:off x="5262480" y="2436840"/>
                  <a:ext cx="66168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⋯</m:t>
                      </m:r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组合 17"/>
          <p:cNvGrpSpPr/>
          <p:nvPr/>
        </p:nvGrpSpPr>
        <p:grpSpPr>
          <a:xfrm>
            <a:off x="380880" y="3429000"/>
            <a:ext cx="8491680" cy="1144440"/>
            <a:chOff x="380880" y="3429000"/>
            <a:chExt cx="8491680" cy="1144440"/>
          </a:xfrm>
        </p:grpSpPr>
        <mc:AlternateContent>
          <mc:Choice xmlns:a14="http://schemas.microsoft.com/office/drawing/2010/main" Requires="a14">
            <p:sp>
              <p:nvSpPr>
                <p:cNvPr id="95" name="Object 9"/>
                <p:cNvSpPr txBox="1"/>
                <p:nvPr/>
              </p:nvSpPr>
              <p:spPr>
                <a:xfrm>
                  <a:off x="380880" y="3429000"/>
                  <a:ext cx="228132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x</m:t>
                          </m:r>
                          <m:r>
                            <m:t xml:space="preserve">+</m:t>
                          </m:r>
                          <m:r>
                            <m:t xml:space="preserve">q</m:t>
                          </m:r>
                        </m:den>
                      </m:f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11"/>
                <p:cNvSpPr txBox="1"/>
                <p:nvPr/>
              </p:nvSpPr>
              <p:spPr>
                <a:xfrm>
                  <a:off x="2666880" y="3429000"/>
                  <a:ext cx="287028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（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x</m:t>
                          </m:r>
                          <m:r>
                            <m:t xml:space="preserve">+</m:t>
                          </m:r>
                          <m:r>
                            <m:t xml:space="preserve">q</m:t>
                          </m:r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12"/>
                <p:cNvSpPr txBox="1"/>
                <p:nvPr/>
              </p:nvSpPr>
              <p:spPr>
                <a:xfrm>
                  <a:off x="6148440" y="3438360"/>
                  <a:ext cx="272412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（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x</m:t>
                          </m:r>
                          <m:r>
                            <m:t xml:space="preserve">+</m:t>
                          </m:r>
                          <m:r>
                            <m:t xml:space="preserve">q</m:t>
                          </m:r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Object 13"/>
                <p:cNvSpPr txBox="1"/>
                <p:nvPr/>
              </p:nvSpPr>
              <p:spPr>
                <a:xfrm>
                  <a:off x="5524920" y="3881520"/>
                  <a:ext cx="66204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⋯</m:t>
                      </m:r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组合 16"/>
          <p:cNvGrpSpPr/>
          <p:nvPr/>
        </p:nvGrpSpPr>
        <p:grpSpPr>
          <a:xfrm>
            <a:off x="2895480" y="4952880"/>
            <a:ext cx="3657600" cy="1166400"/>
            <a:chOff x="2895480" y="4952880"/>
            <a:chExt cx="3657600" cy="1166400"/>
          </a:xfrm>
        </p:grpSpPr>
        <mc:AlternateContent>
          <mc:Choice xmlns:a14="http://schemas.microsoft.com/office/drawing/2010/main" Requires="a14">
            <p:sp>
              <p:nvSpPr>
                <p:cNvPr id="100" name="Object 14"/>
                <p:cNvSpPr txBox="1"/>
                <p:nvPr/>
              </p:nvSpPr>
              <p:spPr>
                <a:xfrm>
                  <a:off x="3809880" y="4952880"/>
                  <a:ext cx="242892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q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Text Box 26"/>
            <p:cNvSpPr/>
            <p:nvPr/>
          </p:nvSpPr>
          <p:spPr>
            <a:xfrm>
              <a:off x="2895480" y="4981680"/>
              <a:ext cx="365760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其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8-04-05T03:03:21Z</dcterms:modified>
  <cp:revision>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