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EBE-0E30-41CB-B106-9ACBDA15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CAF-73DD-4B42-9E31-57BED170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C53-FF09-41C6-8D1C-DAE71D2E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57C-AFF3-4B31-A7B2-415250BE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309-2713-4CA6-8244-076B2DB3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B2E-D453-4395-A8F2-4A94CB0F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634-44C5-4B6E-926E-CEC02855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4EB-7770-4E96-9F80-8B7D096C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B7D-D439-435E-B845-4DDBD926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369-73AF-4EC6-A865-3C5DA5A4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FF0-8B45-4596-A139-C06205DF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56F-AAA9-49BC-B7F4-6A71F820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AFE3-3529-4E02-BFC8-EAE6FE06D5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43160" y="242892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楷体"/>
                <a:ea typeface="楷体"/>
              </a:rPr>
              <a:t>2.1 </a:t>
            </a:r>
            <a:r>
              <a:rPr b="1" lang="zh-CN" sz="6600" spc="-1" strike="noStrike">
                <a:solidFill>
                  <a:srgbClr val="cc0000"/>
                </a:solidFill>
                <a:latin typeface="楷体"/>
                <a:ea typeface="楷体"/>
              </a:rPr>
              <a:t>导数的概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7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8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8"/>
          <p:cNvSpPr/>
          <p:nvPr/>
        </p:nvSpPr>
        <p:spPr>
          <a:xfrm>
            <a:off x="755640" y="1063800"/>
            <a:ext cx="6945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函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y=C(C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常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导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755640" y="2436840"/>
            <a:ext cx="6945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函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y=x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导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755640" y="3886200"/>
            <a:ext cx="6945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正弦函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y=sinx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导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679320" y="757080"/>
            <a:ext cx="66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2.1.4 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导数的几何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14280" y="1673280"/>
            <a:ext cx="6481800" cy="926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80808"/>
                </a:solidFill>
                <a:latin typeface="楷体"/>
                <a:ea typeface="楷体"/>
              </a:rPr>
              <a:t>y=f(x)</a:t>
            </a:r>
            <a:r>
              <a:rPr b="1" lang="zh-CN" sz="2400" spc="-1" strike="noStrike">
                <a:solidFill>
                  <a:srgbClr val="080808"/>
                </a:solidFill>
                <a:latin typeface="楷体"/>
                <a:ea typeface="楷体"/>
              </a:rPr>
              <a:t>是在点</a:t>
            </a:r>
            <a:r>
              <a:rPr b="1" lang="zh-CN" sz="2400" spc="-1" strike="noStrike">
                <a:solidFill>
                  <a:srgbClr val="080808"/>
                </a:solidFill>
                <a:latin typeface="楷体"/>
                <a:ea typeface="楷体"/>
              </a:rPr>
              <a:t>x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楷体"/>
                <a:ea typeface="楷体"/>
              </a:rPr>
              <a:t>0</a:t>
            </a:r>
            <a:r>
              <a:rPr b="1" lang="zh-CN" sz="2400" spc="-1" strike="noStrike">
                <a:solidFill>
                  <a:srgbClr val="080808"/>
                </a:solidFill>
                <a:latin typeface="楷体"/>
                <a:ea typeface="楷体"/>
              </a:rPr>
              <a:t>处的导数就是该曲线在点</a:t>
            </a:r>
            <a:r>
              <a:rPr b="1" lang="zh-CN" sz="2400" spc="-1" strike="noStrike">
                <a:solidFill>
                  <a:srgbClr val="080808"/>
                </a:solidFill>
                <a:latin typeface="楷体"/>
                <a:ea typeface="楷体"/>
              </a:rPr>
              <a:t>M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楷体"/>
                <a:ea typeface="楷体"/>
              </a:rPr>
              <a:t>0</a:t>
            </a:r>
            <a:r>
              <a:rPr b="1" lang="zh-CN" sz="2400" spc="-1" strike="noStrike">
                <a:solidFill>
                  <a:srgbClr val="080808"/>
                </a:solidFill>
                <a:latin typeface="楷体"/>
                <a:ea typeface="楷体"/>
              </a:rPr>
              <a:t>处的切线的斜率，即</a:t>
            </a:r>
            <a:r>
              <a:rPr b="1" lang="zh-CN" sz="2400" spc="-1" strike="noStrike">
                <a:solidFill>
                  <a:srgbClr val="080808"/>
                </a:solidFill>
                <a:latin typeface="楷体"/>
                <a:ea typeface="楷体"/>
              </a:rPr>
              <a:t>k=f'(x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楷体"/>
                <a:ea typeface="楷体"/>
              </a:rPr>
              <a:t>0</a:t>
            </a:r>
            <a:r>
              <a:rPr b="1" lang="zh-CN" sz="2400" spc="-1" strike="noStrike">
                <a:solidFill>
                  <a:srgbClr val="080808"/>
                </a:solidFill>
                <a:latin typeface="楷体"/>
                <a:ea typeface="楷体"/>
              </a:rPr>
              <a:t>),</a:t>
            </a:r>
            <a:r>
              <a:rPr b="1" lang="zh-CN" sz="2400" spc="-1" strike="noStrike">
                <a:solidFill>
                  <a:srgbClr val="080808"/>
                </a:solidFill>
                <a:latin typeface="楷体"/>
                <a:ea typeface="楷体"/>
              </a:rPr>
              <a:t>这就是导数的几何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755640" y="113976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2.1.5  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可导与连续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5640" y="266544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定理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函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y=f(x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一定点处可导，则它在这点处一定连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831960" y="1979640"/>
            <a:ext cx="2976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可导一定连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831960" y="4192560"/>
            <a:ext cx="3052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连续不一定可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863640" y="1008000"/>
            <a:ext cx="7448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55640" y="3048120"/>
            <a:ext cx="4503600" cy="125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讨论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y=f(x)=|x|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3960720" y="3352680"/>
                <a:ext cx="5936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9"/>
          <p:cNvSpPr/>
          <p:nvPr/>
        </p:nvSpPr>
        <p:spPr>
          <a:xfrm>
            <a:off x="5106960" y="3048120"/>
            <a:ext cx="3894120" cy="1244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x=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连续性和可导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755640" y="1063800"/>
            <a:ext cx="6945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函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y=C(C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常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导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4267080" y="3276720"/>
            <a:ext cx="10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&gt;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4267080" y="3809880"/>
            <a:ext cx="12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1062000" y="1063800"/>
            <a:ext cx="76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导数显示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汽车的车速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1031760" y="2055960"/>
            <a:ext cx="7394760" cy="423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31960" y="604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84240" y="205596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84240" y="388764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664000" y="1365840"/>
            <a:ext cx="587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理解函数导数概念及其实际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掌握函数导数的几何意义和物理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理解并熟记一元函数可导与连续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664000" y="4172400"/>
            <a:ext cx="587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掌握用定义求导数的方法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会利用导数的几何意义和物理意义解决相应的实际问题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会判断已知一元函数在所给点处的可导性和连续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79320" y="2817720"/>
            <a:ext cx="15242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359080" y="2347560"/>
            <a:ext cx="633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通过导数概念的形成过程，让学生掌握从具体到抽象，特殊到一般的思维方法；从感性到理性的辩证唯物主义观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训练通过合作与交流，让学生感受探索的乐趣与成功的喜悦，体会数学的理性与严谨，激发学生对数学知识的热爱，养成实事求是的科学态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培养学生正确认识量变与质变、运动与静止等辩证唯物主义观点，形成正确的数学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55640" y="1901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55640" y="39639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4880" y="1444680"/>
            <a:ext cx="4654440" cy="1373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函数导数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利用定义求导数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函数可导与连续的概念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044880" y="3809880"/>
            <a:ext cx="460224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导数概念的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利用定义求导数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rc 21"/>
          <p:cNvSpPr/>
          <p:nvPr/>
        </p:nvSpPr>
        <p:spPr>
          <a:xfrm flipV="1">
            <a:off x="2435400" y="1638000"/>
            <a:ext cx="4044600" cy="2060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743920" y="19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9640" y="331920"/>
            <a:ext cx="792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5800" y="304920"/>
            <a:ext cx="554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871560" y="1090440"/>
            <a:ext cx="69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6099120" y="242568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988920" y="2607840"/>
            <a:ext cx="6635880" cy="17542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2"/>
          <p:cNvCxnSpPr/>
          <p:nvPr/>
        </p:nvCxnSpPr>
        <p:spPr>
          <a:xfrm>
            <a:off x="8762760" y="5257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Line 13"/>
          <p:cNvSpPr/>
          <p:nvPr/>
        </p:nvSpPr>
        <p:spPr>
          <a:xfrm flipH="1" flipV="1">
            <a:off x="4573440" y="3343320"/>
            <a:ext cx="129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14"/>
          <p:cNvSpPr/>
          <p:nvPr/>
        </p:nvSpPr>
        <p:spPr>
          <a:xfrm flipV="1" rot="18240000">
            <a:off x="1499040" y="3981960"/>
            <a:ext cx="130320" cy="318960"/>
          </a:xfrm>
          <a:custGeom>
            <a:avLst/>
            <a:gdLst>
              <a:gd name="textAreaLeft" fmla="*/ 0 w 130320"/>
              <a:gd name="textAreaRight" fmla="*/ 130680 w 130320"/>
              <a:gd name="textAreaTop" fmla="*/ 360 h 318960"/>
              <a:gd name="textAreaBottom" fmla="*/ 319680 h 318960"/>
            </a:gdLst>
            <a:ahLst/>
            <a:rect l="textAreaLeft" t="textAreaTop" r="textAreaRight" b="textAreaBottom"/>
            <a:pathLst>
              <a:path fill="none" w="14736" h="19846">
                <a:moveTo>
                  <a:pt x="8526" y="-1"/>
                </a:moveTo>
                <a:cubicBezTo>
                  <a:pt x="10814" y="982"/>
                  <a:pt x="12915" y="2354"/>
                  <a:pt x="14735" y="4053"/>
                </a:cubicBezTo>
              </a:path>
              <a:path stroke="0" w="14736" h="19846">
                <a:moveTo>
                  <a:pt x="8526" y="-1"/>
                </a:moveTo>
                <a:cubicBezTo>
                  <a:pt x="10814" y="982"/>
                  <a:pt x="12915" y="2354"/>
                  <a:pt x="14735" y="4053"/>
                </a:cubicBezTo>
                <a:lnTo>
                  <a:pt x="0" y="19846"/>
                </a:lnTo>
                <a:lnTo>
                  <a:pt x="852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1671480" y="392760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 flipV="1">
            <a:off x="2282760" y="1892160"/>
            <a:ext cx="4808520" cy="2820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4573440" y="3381480"/>
            <a:ext cx="1525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18"/>
          <p:cNvSpPr/>
          <p:nvPr/>
        </p:nvSpPr>
        <p:spPr>
          <a:xfrm rot="360000">
            <a:off x="3401640" y="4041720"/>
            <a:ext cx="206280" cy="219240"/>
          </a:xfrm>
          <a:custGeom>
            <a:avLst/>
            <a:gdLst>
              <a:gd name="textAreaLeft" fmla="*/ 0 w 206280"/>
              <a:gd name="textAreaRight" fmla="*/ 206640 w 2062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fill="none" w="20016" h="21600">
                <a:moveTo>
                  <a:pt x="-1" y="0"/>
                </a:moveTo>
                <a:cubicBezTo>
                  <a:pt x="8794" y="0"/>
                  <a:pt x="16711" y="5332"/>
                  <a:pt x="20016" y="13481"/>
                </a:cubicBezTo>
              </a:path>
              <a:path stroke="0" w="20016" h="21600">
                <a:moveTo>
                  <a:pt x="-1" y="0"/>
                </a:moveTo>
                <a:cubicBezTo>
                  <a:pt x="8794" y="0"/>
                  <a:pt x="16711" y="5332"/>
                  <a:pt x="20016" y="1348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75080" y="3840120"/>
            <a:ext cx="1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076560" y="4152960"/>
            <a:ext cx="1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箭头 264"/>
          <p:cNvSpPr/>
          <p:nvPr/>
        </p:nvSpPr>
        <p:spPr>
          <a:xfrm flipV="1">
            <a:off x="3351240" y="1509840"/>
            <a:ext cx="1440" cy="358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箭头 266"/>
          <p:cNvSpPr/>
          <p:nvPr/>
        </p:nvSpPr>
        <p:spPr>
          <a:xfrm>
            <a:off x="907920" y="4181400"/>
            <a:ext cx="71755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4413240" y="4108320"/>
            <a:ext cx="52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5"/>
              <p:cNvSpPr txBox="1"/>
              <p:nvPr/>
            </p:nvSpPr>
            <p:spPr>
              <a:xfrm>
                <a:off x="5718240" y="4226040"/>
                <a:ext cx="8380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26"/>
              <p:cNvSpPr txBox="1"/>
              <p:nvPr/>
            </p:nvSpPr>
            <p:spPr>
              <a:xfrm>
                <a:off x="5202360" y="3354480"/>
                <a:ext cx="36180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28"/>
              <p:cNvSpPr txBox="1"/>
              <p:nvPr/>
            </p:nvSpPr>
            <p:spPr>
              <a:xfrm>
                <a:off x="6318360" y="2760840"/>
                <a:ext cx="3776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Text Box 29"/>
          <p:cNvSpPr/>
          <p:nvPr/>
        </p:nvSpPr>
        <p:spPr>
          <a:xfrm>
            <a:off x="5992920" y="13161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7651800" y="243036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1"/>
          <p:cNvSpPr/>
          <p:nvPr/>
        </p:nvSpPr>
        <p:spPr>
          <a:xfrm>
            <a:off x="4359240" y="3060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2"/>
          <p:cNvSpPr/>
          <p:nvPr/>
        </p:nvSpPr>
        <p:spPr>
          <a:xfrm>
            <a:off x="5861160" y="2187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3"/>
          <p:cNvSpPr/>
          <p:nvPr/>
        </p:nvSpPr>
        <p:spPr>
          <a:xfrm>
            <a:off x="7840800" y="415620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4"/>
          <p:cNvSpPr/>
          <p:nvPr/>
        </p:nvSpPr>
        <p:spPr>
          <a:xfrm>
            <a:off x="3067200" y="1504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7"/>
          <p:cNvSpPr/>
          <p:nvPr/>
        </p:nvSpPr>
        <p:spPr>
          <a:xfrm>
            <a:off x="762120" y="914400"/>
            <a:ext cx="2367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.1.1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引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大括号 38"/>
          <p:cNvSpPr/>
          <p:nvPr/>
        </p:nvSpPr>
        <p:spPr>
          <a:xfrm>
            <a:off x="6114960" y="242892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3960 h 990720"/>
              <a:gd name="textAreaBottom" fmla="*/ 9867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282760" y="5108400"/>
                <a:ext cx="4349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，</m:t>
                            </m:r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，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，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Text Box 4"/>
          <p:cNvSpPr/>
          <p:nvPr/>
        </p:nvSpPr>
        <p:spPr>
          <a:xfrm>
            <a:off x="660240" y="681120"/>
            <a:ext cx="7785360" cy="364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0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设函数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y=f(x)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点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某一领域内有定义，当自变量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点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处有改变量     时，相应地函数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y=f(x)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也有改变量：                    ，如果当        时，  的极限存在。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存在，则称该极限值为函数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f(x)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点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处的导数，记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7377120" y="1216080"/>
                <a:ext cx="533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1424160" y="2208240"/>
                <a:ext cx="4349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7223040" y="2208240"/>
                <a:ext cx="11448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1500120" y="2589120"/>
                <a:ext cx="459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9"/>
              <p:cNvSpPr txBox="1"/>
              <p:nvPr/>
            </p:nvSpPr>
            <p:spPr>
              <a:xfrm>
                <a:off x="965160" y="3276720"/>
                <a:ext cx="71755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1595520" y="3048120"/>
                <a:ext cx="1587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，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，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3122640" y="3048120"/>
                <a:ext cx="47480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或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，即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10"/>
          <p:cNvSpPr/>
          <p:nvPr/>
        </p:nvSpPr>
        <p:spPr>
          <a:xfrm>
            <a:off x="1023840" y="4351320"/>
            <a:ext cx="6370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907920" y="452520"/>
            <a:ext cx="6945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函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y=x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x=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处的导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907920" y="1673280"/>
            <a:ext cx="7097760" cy="3080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f(x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a,b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内可导，那么对应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a,b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的每一个确定的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，对应着一个确定的导数值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x)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样就确定了一个新的函数，称为函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y=f(x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导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显然，函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y=f(x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点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x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处的导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f'(x0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就是导函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f'(x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x=x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处的函数值，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5"/>
              <p:cNvSpPr txBox="1"/>
              <p:nvPr/>
            </p:nvSpPr>
            <p:spPr>
              <a:xfrm>
                <a:off x="6099120" y="3963960"/>
                <a:ext cx="17892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9"/>
          <p:cNvSpPr/>
          <p:nvPr/>
        </p:nvSpPr>
        <p:spPr>
          <a:xfrm>
            <a:off x="831960" y="1521000"/>
            <a:ext cx="7556400" cy="460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函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y=f(x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导数可分为以下三个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838080" y="1949400"/>
            <a:ext cx="762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33400" y="1698480"/>
            <a:ext cx="755496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改变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算比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取极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3044880" y="3276720"/>
                <a:ext cx="36860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4"/>
              <p:cNvSpPr txBox="1"/>
              <p:nvPr/>
            </p:nvSpPr>
            <p:spPr>
              <a:xfrm>
                <a:off x="2664000" y="4421160"/>
                <a:ext cx="5190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3"/>
              <p:cNvSpPr txBox="1"/>
              <p:nvPr/>
            </p:nvSpPr>
            <p:spPr>
              <a:xfrm>
                <a:off x="3044880" y="2436840"/>
                <a:ext cx="3457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 Box 26"/>
          <p:cNvSpPr/>
          <p:nvPr/>
        </p:nvSpPr>
        <p:spPr>
          <a:xfrm>
            <a:off x="831960" y="757080"/>
            <a:ext cx="2367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.1.3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求导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06:38:44Z</dcterms:created>
  <dc:creator/>
  <dc:description/>
  <cp:keywords/>
  <dc:language>en-US</dc:language>
  <cp:lastModifiedBy>PC</cp:lastModifiedBy>
  <dcterms:modified xsi:type="dcterms:W3CDTF">2018-04-09T14:22:38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