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.jpeg" ContentType="image/jpeg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393-D82F-45BB-AA52-BBB0E3C5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27A-66BC-4484-A745-EC8BE146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C0F-5929-4CF7-9889-B831DED1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D74-F93E-4E08-A810-CAB2D42F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EC5-ADC9-4B57-A294-BA1537AD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DC9-DBF4-418D-B57E-099F2976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092-E772-45B8-9EEB-4D39C331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5CE-9D46-4590-BEFB-95280BA5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637-002C-415B-92A0-B6EF3900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1F8-1ADD-4045-A43D-D88C7F5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AE2-175B-497F-967D-0819A644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BCD-8F31-4B50-A2A8-2098B158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701E-AE14-48F1-B9E1-6791CE7FB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7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4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2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6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7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8"/>
          <p:cNvSpPr/>
          <p:nvPr/>
        </p:nvSpPr>
        <p:spPr>
          <a:xfrm>
            <a:off x="1190520" y="2019240"/>
            <a:ext cx="76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楷体"/>
                <a:ea typeface="楷体"/>
              </a:rPr>
              <a:t>2.8 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函数图形的描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129528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数学解题策略：分类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1295280" y="2828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用分类讨论，往往能使复杂的问题简单化。分类的过程，可培养学生思考的周密性，条理性，而分类讨论，又促进学生研究问题，探索规律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838080" y="533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143000" y="137160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219320" y="28954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769480" y="1983240"/>
            <a:ext cx="41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理解曲线的水平与垂直渐近线的定义，会求曲线的渐近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会作已知函数的图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322720" y="3630960"/>
            <a:ext cx="280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会求曲线的水平渐近线和垂直渐近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能比较准确地作出函数的图像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95280" y="4724280"/>
            <a:ext cx="152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1542960" y="5410080"/>
            <a:ext cx="653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通过函数图像的描绘，培养学生综合运用知识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3200400" y="1676520"/>
            <a:ext cx="501012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曲线的水平渐近线和垂直渐近线的定义及求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函数图像的描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3741120" y="3753000"/>
            <a:ext cx="167436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函数图像的描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6858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.12.1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曲线的水平渐近线和垂直渐近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6"/>
          <p:cNvGrpSpPr/>
          <p:nvPr/>
        </p:nvGrpSpPr>
        <p:grpSpPr>
          <a:xfrm>
            <a:off x="961920" y="1409760"/>
            <a:ext cx="6934320" cy="1922760"/>
            <a:chOff x="961920" y="1409760"/>
            <a:chExt cx="6934320" cy="1922760"/>
          </a:xfrm>
        </p:grpSpPr>
        <p:sp>
          <p:nvSpPr>
            <p:cNvPr id="66" name="TextBox 7"/>
            <p:cNvSpPr/>
            <p:nvPr/>
          </p:nvSpPr>
          <p:spPr>
            <a:xfrm>
              <a:off x="961920" y="1409760"/>
              <a:ext cx="6934320" cy="192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定义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1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如果当自变量     （有时仅当       或      ）时函数    以常量  为极限，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那么称直线    为曲线      的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水平渐近线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3981240" y="1523880"/>
              <a:ext cx="8762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8" descr=""/>
            <p:cNvPicPr/>
            <p:nvPr/>
          </p:nvPicPr>
          <p:blipFill>
            <a:blip r:embed="rId2"/>
            <a:stretch/>
          </p:blipFill>
          <p:spPr>
            <a:xfrm>
              <a:off x="6220080" y="1495440"/>
              <a:ext cx="1066680" cy="3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9" descr=""/>
            <p:cNvPicPr/>
            <p:nvPr/>
          </p:nvPicPr>
          <p:blipFill>
            <a:blip r:embed="rId3"/>
            <a:stretch/>
          </p:blipFill>
          <p:spPr>
            <a:xfrm>
              <a:off x="1314360" y="1895400"/>
              <a:ext cx="10476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0" descr=""/>
            <p:cNvPicPr/>
            <p:nvPr/>
          </p:nvPicPr>
          <p:blipFill>
            <a:blip r:embed="rId4"/>
            <a:stretch/>
          </p:blipFill>
          <p:spPr>
            <a:xfrm>
              <a:off x="3504960" y="1847520"/>
              <a:ext cx="6094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1" descr=""/>
            <p:cNvPicPr/>
            <p:nvPr/>
          </p:nvPicPr>
          <p:blipFill>
            <a:blip r:embed="rId5"/>
            <a:stretch/>
          </p:blipFill>
          <p:spPr>
            <a:xfrm>
              <a:off x="5086440" y="18284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2" descr=""/>
            <p:cNvPicPr/>
            <p:nvPr/>
          </p:nvPicPr>
          <p:blipFill>
            <a:blip r:embed="rId6"/>
            <a:stretch/>
          </p:blipFill>
          <p:spPr>
            <a:xfrm>
              <a:off x="3476520" y="2171520"/>
              <a:ext cx="14774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3" descr=""/>
            <p:cNvPicPr/>
            <p:nvPr/>
          </p:nvPicPr>
          <p:blipFill>
            <a:blip r:embed="rId7"/>
            <a:stretch/>
          </p:blipFill>
          <p:spPr>
            <a:xfrm>
              <a:off x="2562120" y="2933280"/>
              <a:ext cx="714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4" descr=""/>
            <p:cNvPicPr/>
            <p:nvPr/>
          </p:nvPicPr>
          <p:blipFill>
            <a:blip r:embed="rId8"/>
            <a:stretch/>
          </p:blipFill>
          <p:spPr>
            <a:xfrm>
              <a:off x="4143240" y="2933280"/>
              <a:ext cx="92052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Box 18"/>
          <p:cNvSpPr/>
          <p:nvPr/>
        </p:nvSpPr>
        <p:spPr>
          <a:xfrm>
            <a:off x="914400" y="3809880"/>
            <a:ext cx="693432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定义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当自变量     （有时仅当       或      ）时函数    为无穷大，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么称直线    为曲线      的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垂直渐近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9"/>
          <a:stretch/>
        </p:blipFill>
        <p:spPr>
          <a:xfrm>
            <a:off x="3457440" y="4248000"/>
            <a:ext cx="609840" cy="3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10"/>
          <a:stretch/>
        </p:blipFill>
        <p:spPr>
          <a:xfrm>
            <a:off x="4095720" y="5334120"/>
            <a:ext cx="920880" cy="38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"/>
          <p:cNvPicPr/>
          <p:nvPr/>
        </p:nvPicPr>
        <p:blipFill>
          <a:blip r:embed="rId11"/>
          <a:stretch/>
        </p:blipFill>
        <p:spPr>
          <a:xfrm>
            <a:off x="3905280" y="3809880"/>
            <a:ext cx="97452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6660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"/>
          <p:cNvPicPr/>
          <p:nvPr/>
        </p:nvPicPr>
        <p:blipFill>
          <a:blip r:embed="rId13"/>
          <a:stretch/>
        </p:blipFill>
        <p:spPr>
          <a:xfrm>
            <a:off x="1324080" y="4162320"/>
            <a:ext cx="96660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"/>
          <p:cNvPicPr/>
          <p:nvPr/>
        </p:nvPicPr>
        <p:blipFill>
          <a:blip r:embed="rId14"/>
          <a:stretch/>
        </p:blipFill>
        <p:spPr>
          <a:xfrm>
            <a:off x="3467160" y="458136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"/>
          <p:cNvPicPr/>
          <p:nvPr/>
        </p:nvPicPr>
        <p:blipFill>
          <a:blip r:embed="rId15"/>
          <a:stretch/>
        </p:blipFill>
        <p:spPr>
          <a:xfrm>
            <a:off x="2514600" y="5295960"/>
            <a:ext cx="735120" cy="45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1143000" y="1219320"/>
            <a:ext cx="62485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求下列曲线的水平渐近线或垂直渐近线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523880" y="2666880"/>
            <a:ext cx="33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438280" y="2543040"/>
            <a:ext cx="113688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2428920" y="3371760"/>
            <a:ext cx="96660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2400480" y="4010040"/>
            <a:ext cx="22032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762120" y="6858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.12.2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函数图形的描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1447920"/>
            <a:ext cx="7315200" cy="31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利用导数描绘函数图形的一般步骤如下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确定函数      的定义域，考察函数的奇偶性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求出函数的一阶导数    和二阶导数    ，解出方程   和        在函数定义域内的全部实根，同时求出         不存在的点  ，即求出可能的极值点和拐点的横坐标，把函数定义域划分为几个部分区间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考察在各个部分区间内          的符号，列表确定函数的单调性和极值，曲线的凹凸性和拐点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确定曲线的水平渐近线和垂直渐近线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需要时计算一些辅助点，特别是曲线和坐标轴的交点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作       的图形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638440" y="1828800"/>
            <a:ext cx="73656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886200" y="2124000"/>
            <a:ext cx="50004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5657760" y="2124000"/>
            <a:ext cx="5335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7467480" y="2133720"/>
            <a:ext cx="83844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5"/>
          <a:stretch/>
        </p:blipFill>
        <p:spPr>
          <a:xfrm>
            <a:off x="1219320" y="2448000"/>
            <a:ext cx="9903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6"/>
          <a:stretch/>
        </p:blipFill>
        <p:spPr>
          <a:xfrm>
            <a:off x="6515280" y="2438280"/>
            <a:ext cx="12189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7"/>
          <a:stretch/>
        </p:blipFill>
        <p:spPr>
          <a:xfrm>
            <a:off x="1962000" y="2752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8"/>
          <a:stretch/>
        </p:blipFill>
        <p:spPr>
          <a:xfrm>
            <a:off x="4191120" y="3343320"/>
            <a:ext cx="12189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9"/>
          <a:stretch/>
        </p:blipFill>
        <p:spPr>
          <a:xfrm>
            <a:off x="1924200" y="4572000"/>
            <a:ext cx="736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219320" y="1371600"/>
            <a:ext cx="693396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出函数             的图形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23464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219320" y="2895480"/>
            <a:ext cx="693396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出函数           的图形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3581280" y="2943360"/>
            <a:ext cx="1981440" cy="425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1219320" y="4267080"/>
            <a:ext cx="693396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4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出函数           的图形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3657600" y="4076640"/>
            <a:ext cx="1830240" cy="838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4-03T03:16:14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