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2CC-E99C-436F-90B2-0BA1F024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632C-D8BE-4F25-AA55-5C9FBC7D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33E-8465-4B9C-AFA9-23D4FEA5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AB09-37FD-46AF-B4B5-90C44610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A98-F124-4ED3-9FD6-0C505CCF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4B2-895B-443E-B786-EC71A99F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8F7D-A8FD-4EA6-B6D2-00C5AD39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4B16-1189-424A-9D23-19E553B7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D4B-AFD7-4A52-AB7D-F30AE98F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5E9-DF8A-417E-AA0E-AE30F699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CE1-4709-4E85-8D38-29288450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70E-EC6E-4202-B4C9-DA7AA3C7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223D-6783-4228-BAC3-E5AC0CD289C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42840" y="2286000"/>
            <a:ext cx="723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楷体"/>
                <a:ea typeface="楷体"/>
              </a:rPr>
              <a:t>2.2 </a:t>
            </a: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函数的求导法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43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16"/>
            <p:cNvSpPr/>
            <p:nvPr/>
          </p:nvSpPr>
          <p:spPr>
            <a:xfrm>
              <a:off x="67608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8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9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4572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百米冲刺的数学模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" descr=""/>
          <p:cNvPicPr/>
          <p:nvPr/>
        </p:nvPicPr>
        <p:blipFill>
          <a:blip r:embed="rId1"/>
          <a:stretch/>
        </p:blipFill>
        <p:spPr>
          <a:xfrm>
            <a:off x="609480" y="1639800"/>
            <a:ext cx="4267440" cy="2952720"/>
          </a:xfrm>
          <a:prstGeom prst="rect">
            <a:avLst/>
          </a:prstGeom>
          <a:ln w="0">
            <a:noFill/>
          </a:ln>
        </p:spPr>
      </p:pic>
      <p:sp>
        <p:nvSpPr>
          <p:cNvPr id="50" name="直接连接符 18"/>
          <p:cNvSpPr/>
          <p:nvPr/>
        </p:nvSpPr>
        <p:spPr>
          <a:xfrm>
            <a:off x="6186600" y="2629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9"/>
          <p:cNvSpPr/>
          <p:nvPr/>
        </p:nvSpPr>
        <p:spPr>
          <a:xfrm>
            <a:off x="8397720" y="3484440"/>
            <a:ext cx="365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0" descr=""/>
          <p:cNvPicPr/>
          <p:nvPr/>
        </p:nvPicPr>
        <p:blipFill>
          <a:blip r:embed="rId2"/>
          <a:stretch/>
        </p:blipFill>
        <p:spPr>
          <a:xfrm>
            <a:off x="5065560" y="1828800"/>
            <a:ext cx="4087800" cy="249876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31"/>
          <p:cNvSpPr/>
          <p:nvPr/>
        </p:nvSpPr>
        <p:spPr>
          <a:xfrm>
            <a:off x="1028880" y="505296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建立这种“百米赛跑数学模型”对提高成绩很有用处。事实上，用凯勒的理论训练赛跑运动员，确实取得了很好的效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38080" y="9144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990720" y="213372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知识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990720" y="358128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2666880" y="20941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理解并识记函数和、差、积、商的求导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990720" y="5029200"/>
            <a:ext cx="16002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素质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2743200" y="5058000"/>
            <a:ext cx="58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训练学生的数学计算能力和培养耐心、细致的学习习惯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2666880" y="338148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熟练应用函数和、差、积、商的求导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识记并熟练应用基本求导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755640" y="1901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55640" y="396396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971800" y="1828800"/>
            <a:ext cx="533700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导数和、差、积、商的求导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971800" y="4038480"/>
            <a:ext cx="533700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导数和、差、积、商的求导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57200" y="838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2.2.1   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函数的和、差、积、商的求导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838080" y="175140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定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设函数      与       在点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处可导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838080" y="2603520"/>
            <a:ext cx="7086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法则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函数    在点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处可导，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法则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函数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u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点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处可导，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楷体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法则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函数      在点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处可导，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2743200" y="1812960"/>
                <a:ext cx="9907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7"/>
              <p:cNvSpPr txBox="1"/>
              <p:nvPr/>
            </p:nvSpPr>
            <p:spPr>
              <a:xfrm>
                <a:off x="3962520" y="1828800"/>
                <a:ext cx="10666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2438280" y="2666880"/>
                <a:ext cx="62244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±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5334120" y="2666880"/>
                <a:ext cx="1523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±</m:t>
                    </m:r>
                    <m:r>
                      <m:t xml:space="preserve">v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/>
                    </m:sSup>
                    <m:r>
                      <m:t xml:space="preserve">±</m:t>
                    </m:r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0"/>
              <p:cNvSpPr txBox="1"/>
              <p:nvPr/>
            </p:nvSpPr>
            <p:spPr>
              <a:xfrm>
                <a:off x="5105520" y="3352680"/>
                <a:ext cx="1600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v</m:t>
                            </m:r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/>
                    </m:sSup>
                    <m:r>
                      <m:t xml:space="preserve">v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e>
                      <m:sup/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5715000" y="4038480"/>
                <a:ext cx="1981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  <m:r>
                          <m:t xml:space="preserve">v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v</m:t>
                            </m:r>
                          </m:e>
                          <m:sup/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2"/>
              <p:cNvSpPr txBox="1"/>
              <p:nvPr/>
            </p:nvSpPr>
            <p:spPr>
              <a:xfrm>
                <a:off x="2514600" y="4038480"/>
                <a:ext cx="8380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1295280"/>
            <a:ext cx="6476760" cy="825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楷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求函数                              的导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5"/>
              <p:cNvSpPr txBox="1"/>
              <p:nvPr/>
            </p:nvSpPr>
            <p:spPr>
              <a:xfrm>
                <a:off x="3124080" y="1295280"/>
                <a:ext cx="2514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Text Box 6"/>
          <p:cNvSpPr/>
          <p:nvPr/>
        </p:nvSpPr>
        <p:spPr>
          <a:xfrm>
            <a:off x="1447920" y="2819520"/>
            <a:ext cx="6476760" cy="825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楷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求函数                                  的导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7"/>
              <p:cNvSpPr txBox="1"/>
              <p:nvPr/>
            </p:nvSpPr>
            <p:spPr>
              <a:xfrm>
                <a:off x="3124080" y="2819520"/>
                <a:ext cx="27432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Text Box 8"/>
          <p:cNvSpPr/>
          <p:nvPr/>
        </p:nvSpPr>
        <p:spPr>
          <a:xfrm>
            <a:off x="1447920" y="4267080"/>
            <a:ext cx="64767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楷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求函数                 的导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9"/>
              <p:cNvSpPr txBox="1"/>
              <p:nvPr/>
            </p:nvSpPr>
            <p:spPr>
              <a:xfrm>
                <a:off x="3200400" y="4302000"/>
                <a:ext cx="1295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1:13:45Z</dcterms:created>
  <dc:creator/>
  <dc:description/>
  <cp:keywords/>
  <dc:language>en-US</dc:language>
  <cp:lastModifiedBy>PC</cp:lastModifiedBy>
  <dcterms:modified xsi:type="dcterms:W3CDTF">2018-04-09T14:45:59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