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media/image11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0820-710F-4F49-8B37-6830AC3A8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0D68-2C2D-4B7D-9070-D995D0139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3180-5370-4555-B227-DA447E5A3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A724-DE38-4B8D-9330-EDF14A1E2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420B-09AC-4010-9A95-EC1AF5EBF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A831-A1F0-4C9F-B4B8-C58D5503C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DB5F-1BEA-4168-AF4E-9DADD0DE0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F393-F38E-4AF0-8C7C-0841B3C74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D78C-9D7B-433C-BDF5-39710C7C7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4A9A-BCD1-4585-B54C-B9A81574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3DDB-D7CF-4335-ACC0-B3ECB2892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EC2D-B852-4EA9-8752-EE6A6AFD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497EC-120C-49C8-AEA2-F3512DC06EA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0.wmf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685800" y="1781280"/>
            <a:ext cx="7924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楷体"/>
                <a:ea typeface="楷体"/>
              </a:rPr>
              <a:t>3.10 </a:t>
            </a:r>
            <a:r>
              <a:rPr b="1" lang="zh-CN" sz="6000" spc="-1" strike="noStrike">
                <a:solidFill>
                  <a:srgbClr val="cc0000"/>
                </a:solidFill>
                <a:latin typeface="楷体"/>
                <a:ea typeface="楷体"/>
              </a:rPr>
              <a:t>定积分的换元积分法和分部积分法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8"/>
          <p:cNvSpPr/>
          <p:nvPr/>
        </p:nvSpPr>
        <p:spPr>
          <a:xfrm>
            <a:off x="809640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1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组合 14"/>
          <p:cNvGrpSpPr/>
          <p:nvPr/>
        </p:nvGrpSpPr>
        <p:grpSpPr>
          <a:xfrm>
            <a:off x="228600" y="5610240"/>
            <a:ext cx="7848720" cy="609480"/>
            <a:chOff x="228600" y="5610240"/>
            <a:chExt cx="7848720" cy="609480"/>
          </a:xfrm>
        </p:grpSpPr>
        <p:pic>
          <p:nvPicPr>
            <p:cNvPr id="44" name="Picture 12" descr="E:\学校\数学教研室\课件\201062115254125115.jpg"/>
            <p:cNvPicPr/>
            <p:nvPr/>
          </p:nvPicPr>
          <p:blipFill>
            <a:blip r:embed="rId1"/>
            <a:stretch/>
          </p:blipFill>
          <p:spPr>
            <a:xfrm>
              <a:off x="237960" y="5610240"/>
              <a:ext cx="53316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Box 16"/>
            <p:cNvSpPr/>
            <p:nvPr/>
          </p:nvSpPr>
          <p:spPr>
            <a:xfrm>
              <a:off x="676080" y="577188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方正舒体"/>
                  <a:ea typeface="方正舒体"/>
                </a:rPr>
                <a:t>山西职业技术学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直接连接符 8"/>
            <p:cNvSpPr/>
            <p:nvPr/>
          </p:nvSpPr>
          <p:spPr>
            <a:xfrm>
              <a:off x="237960" y="6162840"/>
              <a:ext cx="2514600" cy="1440"/>
            </a:xfrm>
            <a:prstGeom prst="line">
              <a:avLst/>
            </a:prstGeom>
            <a:ln w="255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直接连接符 9"/>
            <p:cNvSpPr/>
            <p:nvPr/>
          </p:nvSpPr>
          <p:spPr>
            <a:xfrm flipV="1">
              <a:off x="228600" y="6210360"/>
              <a:ext cx="7848720" cy="9360"/>
            </a:xfrm>
            <a:prstGeom prst="line">
              <a:avLst/>
            </a:prstGeom>
            <a:ln w="255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30780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1231560" y="1478880"/>
            <a:ext cx="219240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楷体"/>
                <a:ea typeface="楷体"/>
              </a:rPr>
              <a:t>例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计算下列定积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0" y="32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2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3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5"/>
          <p:cNvSpPr/>
          <p:nvPr/>
        </p:nvSpPr>
        <p:spPr>
          <a:xfrm>
            <a:off x="0" y="32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1553400" y="2535120"/>
            <a:ext cx="5649120" cy="1963800"/>
            <a:chOff x="1553400" y="2535120"/>
            <a:chExt cx="5649120" cy="1963800"/>
          </a:xfrm>
        </p:grpSpPr>
        <p:sp>
          <p:nvSpPr>
            <p:cNvPr id="98" name="Rectangle 17"/>
            <p:cNvSpPr/>
            <p:nvPr/>
          </p:nvSpPr>
          <p:spPr>
            <a:xfrm>
              <a:off x="1553400" y="2738880"/>
              <a:ext cx="52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⑴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9" name="Object 18"/>
            <p:cNvGraphicFramePr/>
            <p:nvPr/>
          </p:nvGraphicFramePr>
          <p:xfrm>
            <a:off x="2009880" y="2600280"/>
            <a:ext cx="1611360" cy="708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0" name="Object 1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09880" y="2600280"/>
                      <a:ext cx="1611360" cy="70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1" name="Rectangle 19"/>
            <p:cNvSpPr/>
            <p:nvPr/>
          </p:nvSpPr>
          <p:spPr>
            <a:xfrm>
              <a:off x="4731120" y="2648520"/>
              <a:ext cx="60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2" name="Object 20"/>
            <p:cNvGraphicFramePr/>
            <p:nvPr/>
          </p:nvGraphicFramePr>
          <p:xfrm>
            <a:off x="2006640" y="3825720"/>
            <a:ext cx="2417760" cy="673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3" name="Object 20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006640" y="3825720"/>
                      <a:ext cx="2417760" cy="67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Object 21"/>
            <p:cNvGraphicFramePr/>
            <p:nvPr/>
          </p:nvGraphicFramePr>
          <p:xfrm>
            <a:off x="5369040" y="3833640"/>
            <a:ext cx="1833480" cy="577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5" name="Object 21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369040" y="3833640"/>
                      <a:ext cx="1833480" cy="577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6" name="Rectangle 22"/>
            <p:cNvSpPr/>
            <p:nvPr/>
          </p:nvSpPr>
          <p:spPr>
            <a:xfrm>
              <a:off x="1580400" y="3974040"/>
              <a:ext cx="52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⑶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4903200" y="3908880"/>
              <a:ext cx="52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⑷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8" name="Object 24"/>
            <p:cNvGraphicFramePr/>
            <p:nvPr/>
          </p:nvGraphicFramePr>
          <p:xfrm>
            <a:off x="5229360" y="2535120"/>
            <a:ext cx="1700280" cy="747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9" name="Object 2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229360" y="2535120"/>
                      <a:ext cx="1700280" cy="74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0" name="TextBox 8"/>
          <p:cNvSpPr/>
          <p:nvPr/>
        </p:nvSpPr>
        <p:spPr>
          <a:xfrm>
            <a:off x="809640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8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30780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1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2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4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5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6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7"/>
          <p:cNvSpPr/>
          <p:nvPr/>
        </p:nvSpPr>
        <p:spPr>
          <a:xfrm>
            <a:off x="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8"/>
          <p:cNvSpPr/>
          <p:nvPr/>
        </p:nvSpPr>
        <p:spPr>
          <a:xfrm>
            <a:off x="771120" y="1360080"/>
            <a:ext cx="802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楷体"/>
                <a:ea typeface="楷体"/>
              </a:rPr>
              <a:t>解</a:t>
            </a:r>
            <a:r>
              <a:rPr b="1" lang="en-US" sz="2400" spc="-1" strike="noStrike">
                <a:solidFill>
                  <a:srgbClr val="cc0000"/>
                </a:solidFill>
                <a:latin typeface="楷体"/>
                <a:ea typeface="楷体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9"/>
          <p:cNvSpPr/>
          <p:nvPr/>
        </p:nvSpPr>
        <p:spPr>
          <a:xfrm>
            <a:off x="1321560" y="1370520"/>
            <a:ext cx="5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Object 20"/>
          <p:cNvGraphicFramePr/>
          <p:nvPr/>
        </p:nvGraphicFramePr>
        <p:xfrm>
          <a:off x="1754280" y="1147680"/>
          <a:ext cx="5891040" cy="81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4280" y="1147680"/>
                    <a:ext cx="5891040" cy="8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Rectangle 21"/>
          <p:cNvSpPr/>
          <p:nvPr/>
        </p:nvSpPr>
        <p:spPr>
          <a:xfrm>
            <a:off x="1199160" y="219672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⑵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设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22"/>
              <p:cNvSpPr txBox="1"/>
              <p:nvPr/>
            </p:nvSpPr>
            <p:spPr>
              <a:xfrm>
                <a:off x="2189160" y="2195640"/>
                <a:ext cx="129384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e>
                    </m:rad>
                    <m:r>
                      <m:t xml:space="preserve">=</m:t>
                    </m:r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33" name="Object 23"/>
          <p:cNvGraphicFramePr/>
          <p:nvPr/>
        </p:nvGraphicFramePr>
        <p:xfrm>
          <a:off x="3490920" y="2306520"/>
          <a:ext cx="271440" cy="21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4" name="Object 2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0920" y="2306520"/>
                    <a:ext cx="271440" cy="2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Object 24"/>
          <p:cNvGraphicFramePr/>
          <p:nvPr/>
        </p:nvGraphicFramePr>
        <p:xfrm>
          <a:off x="3773520" y="2189160"/>
          <a:ext cx="2587680" cy="39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6" name="Object 2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73520" y="2189160"/>
                    <a:ext cx="258768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Rectangle 25"/>
          <p:cNvSpPr/>
          <p:nvPr/>
        </p:nvSpPr>
        <p:spPr>
          <a:xfrm>
            <a:off x="6244200" y="2170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6"/>
          <p:cNvSpPr/>
          <p:nvPr/>
        </p:nvSpPr>
        <p:spPr>
          <a:xfrm>
            <a:off x="1904040" y="27680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Object 27"/>
          <p:cNvGraphicFramePr/>
          <p:nvPr/>
        </p:nvGraphicFramePr>
        <p:xfrm>
          <a:off x="2266920" y="2838600"/>
          <a:ext cx="954000" cy="392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0" name="Object 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66920" y="2838600"/>
                    <a:ext cx="95400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28"/>
          <p:cNvGraphicFramePr/>
          <p:nvPr/>
        </p:nvGraphicFramePr>
        <p:xfrm>
          <a:off x="3206880" y="2882880"/>
          <a:ext cx="307800" cy="246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2" name="Object 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06880" y="2882880"/>
                    <a:ext cx="307800" cy="2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Object 29"/>
          <p:cNvGraphicFramePr/>
          <p:nvPr/>
        </p:nvGraphicFramePr>
        <p:xfrm>
          <a:off x="3489480" y="2840040"/>
          <a:ext cx="1012680" cy="371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4" name="Object 2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489480" y="2840040"/>
                    <a:ext cx="101268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Rectangle 30"/>
          <p:cNvSpPr/>
          <p:nvPr/>
        </p:nvSpPr>
        <p:spPr>
          <a:xfrm>
            <a:off x="2007000" y="34189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则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31"/>
          <p:cNvGraphicFramePr/>
          <p:nvPr/>
        </p:nvGraphicFramePr>
        <p:xfrm>
          <a:off x="2433600" y="3151080"/>
          <a:ext cx="5719680" cy="863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47" name="Object 3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433600" y="3151080"/>
                    <a:ext cx="571968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Text Box 32"/>
          <p:cNvSpPr/>
          <p:nvPr/>
        </p:nvSpPr>
        <p:spPr>
          <a:xfrm>
            <a:off x="1157760" y="41464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34"/>
          <p:cNvGraphicFramePr/>
          <p:nvPr/>
        </p:nvGraphicFramePr>
        <p:xfrm>
          <a:off x="1866960" y="4121280"/>
          <a:ext cx="6334200" cy="7016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1" name="Object 3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866960" y="4121280"/>
                    <a:ext cx="633420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Text Box 35"/>
          <p:cNvSpPr/>
          <p:nvPr/>
        </p:nvSpPr>
        <p:spPr>
          <a:xfrm>
            <a:off x="1188000" y="50115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6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37"/>
          <p:cNvGraphicFramePr/>
          <p:nvPr/>
        </p:nvGraphicFramePr>
        <p:xfrm>
          <a:off x="1971720" y="5141880"/>
          <a:ext cx="6342120" cy="5778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55" name="Object 37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971720" y="5141880"/>
                    <a:ext cx="634212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TextBox 8"/>
          <p:cNvSpPr/>
          <p:nvPr/>
        </p:nvSpPr>
        <p:spPr>
          <a:xfrm>
            <a:off x="809640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9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1022400" y="990720"/>
            <a:ext cx="2025720" cy="6426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类比推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8"/>
          <p:cNvSpPr/>
          <p:nvPr/>
        </p:nvSpPr>
        <p:spPr>
          <a:xfrm>
            <a:off x="809640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2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3"/>
          <p:cNvSpPr/>
          <p:nvPr/>
        </p:nvSpPr>
        <p:spPr>
          <a:xfrm>
            <a:off x="1022400" y="1981080"/>
            <a:ext cx="743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类比推理是根据两个或两类对象有部分属性相同，从而推出它们的其他属性也相同的推理。简称类推、类比。这是数学发现与数学解题的重要手段之一，著名哲学家康德曾指出：“每当理智缺乏可靠的论证思路时，类比这个方法往往指引我们前进。”在数学中，常可以由命题的条件相似，去猜想结论的相似；由命题的形式相似，去猜想论证推理方法的相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1"/>
          <p:cNvSpPr/>
          <p:nvPr/>
        </p:nvSpPr>
        <p:spPr>
          <a:xfrm>
            <a:off x="762120" y="49528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知识不能单从经验中得出，而只能从理智的发现与观察到的事实两者的比较中得出。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爱因斯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图片 2" descr=""/>
          <p:cNvPicPr/>
          <p:nvPr/>
        </p:nvPicPr>
        <p:blipFill>
          <a:blip r:embed="rId1"/>
          <a:stretch/>
        </p:blipFill>
        <p:spPr>
          <a:xfrm>
            <a:off x="5410080" y="1143000"/>
            <a:ext cx="2855880" cy="2625840"/>
          </a:xfrm>
          <a:prstGeom prst="rect">
            <a:avLst/>
          </a:prstGeom>
          <a:ln w="0">
            <a:noFill/>
          </a:ln>
        </p:spPr>
      </p:pic>
      <p:sp>
        <p:nvSpPr>
          <p:cNvPr id="53" name="矩形 1"/>
          <p:cNvSpPr/>
          <p:nvPr/>
        </p:nvSpPr>
        <p:spPr>
          <a:xfrm>
            <a:off x="762120" y="671400"/>
            <a:ext cx="7696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阿尔伯特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·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爱因斯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(1879.3.14-1955.4.18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犹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裔物理学家。他于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879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年出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于德国乌尔姆市的一个犹太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家庭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父母均为犹太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9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年毕业于苏黎世联邦理工学院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入瑞士国籍。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90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年，获苏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世大学哲学博士学位，爱因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坦提出光子假设，成功解释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光电效应，因此获得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92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年诺贝尔物理奖，同年，创立狭义相对论。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91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年创立广义相对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838080" y="91440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"/>
              </a:rPr>
              <a:t>教学目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990720" y="1905120"/>
            <a:ext cx="1523880" cy="459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知识目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219320" y="29545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SzPct val="102884"/>
              <a:buBlip>
                <a:blip r:embed="rId1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掌握常义定积分的计算方法（换元积分法和分部积分法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961920" y="4295880"/>
            <a:ext cx="1524240" cy="459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技能目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4374000" y="3884040"/>
            <a:ext cx="259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SzPct val="102884"/>
              <a:buBlip>
                <a:blip r:embed="rId2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能熟练地求常义定积分的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会应用定积分的计算解决一些实际问题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8"/>
          <p:cNvSpPr/>
          <p:nvPr/>
        </p:nvSpPr>
        <p:spPr>
          <a:xfrm>
            <a:off x="809640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2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800280" y="2533680"/>
            <a:ext cx="1523880" cy="459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素质目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2629080" y="227124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SzPct val="102884"/>
              <a:buBlip>
                <a:blip r:embed="rId1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体会事物间的相互转化、对立统一的辩证关系，培养学生辩证唯物主义观点，提高理性思维能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SzPct val="102884"/>
              <a:buBlip>
                <a:blip r:embed="rId2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在对被积函数的等价变形过程中体会数学的简约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SzPct val="102884"/>
              <a:buBlip>
                <a:blip r:embed="rId3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训练学生严密的逻辑思维能力，培养学生严谨的学习态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8"/>
          <p:cNvSpPr/>
          <p:nvPr/>
        </p:nvSpPr>
        <p:spPr>
          <a:xfrm>
            <a:off x="809640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3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990720" y="19051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"/>
              </a:rPr>
              <a:t>教学重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990720" y="37018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"/>
              </a:rPr>
              <a:t>教学难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3276720" y="1828800"/>
            <a:ext cx="4876560" cy="5205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熟练掌握并应用定积分的换元积分法与分部积分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3322800" y="3597120"/>
            <a:ext cx="4906800" cy="5205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熟练应用定积分的换元积分法与分部积分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8"/>
          <p:cNvSpPr/>
          <p:nvPr/>
        </p:nvSpPr>
        <p:spPr>
          <a:xfrm>
            <a:off x="809640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4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663480" y="1219320"/>
            <a:ext cx="588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楷体"/>
                <a:ea typeface="楷体"/>
              </a:rPr>
              <a:t>3.10.1  </a:t>
            </a:r>
            <a:r>
              <a:rPr b="1" lang="zh-CN" sz="3200" spc="-1" strike="noStrike">
                <a:solidFill>
                  <a:srgbClr val="cc3300"/>
                </a:solidFill>
                <a:latin typeface="楷体"/>
                <a:ea typeface="楷体"/>
              </a:rPr>
              <a:t>常义定积分的概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914400" y="2438280"/>
            <a:ext cx="70866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当一元函数定积分的积分区间有限及被积函数有界时的定积分，称为</a:t>
            </a:r>
            <a:r>
              <a:rPr b="1" lang="zh-CN" sz="2800" spc="-1" strike="noStrike">
                <a:solidFill>
                  <a:srgbClr val="cc0000"/>
                </a:solidFill>
                <a:latin typeface="楷体"/>
                <a:ea typeface="楷体"/>
              </a:rPr>
              <a:t>常义定积分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（即通常意义下的积分）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8"/>
          <p:cNvSpPr/>
          <p:nvPr/>
        </p:nvSpPr>
        <p:spPr>
          <a:xfrm>
            <a:off x="809640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5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533520" y="109692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楷体"/>
                <a:ea typeface="楷体"/>
              </a:rPr>
              <a:t>3.10.2  </a:t>
            </a:r>
            <a:r>
              <a:rPr b="1" lang="zh-CN" sz="3200" spc="-1" strike="noStrike">
                <a:solidFill>
                  <a:srgbClr val="cc3300"/>
                </a:solidFill>
                <a:latin typeface="楷体"/>
                <a:ea typeface="楷体"/>
              </a:rPr>
              <a:t>定积分换元计算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Object 4"/>
          <p:cNvGraphicFramePr/>
          <p:nvPr/>
        </p:nvGraphicFramePr>
        <p:xfrm>
          <a:off x="838080" y="2133720"/>
          <a:ext cx="746784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133720"/>
                    <a:ext cx="74678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Object 5"/>
          <p:cNvGraphicFramePr/>
          <p:nvPr/>
        </p:nvGraphicFramePr>
        <p:xfrm>
          <a:off x="1143000" y="3657600"/>
          <a:ext cx="6934320" cy="152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3657600"/>
                    <a:ext cx="6934320" cy="15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Text Box 3"/>
          <p:cNvSpPr/>
          <p:nvPr/>
        </p:nvSpPr>
        <p:spPr>
          <a:xfrm>
            <a:off x="961920" y="361944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楷体"/>
                <a:ea typeface="楷体"/>
              </a:rPr>
              <a:t>注意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8"/>
          <p:cNvSpPr/>
          <p:nvPr/>
        </p:nvSpPr>
        <p:spPr>
          <a:xfrm>
            <a:off x="809640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6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533520" y="10969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楷体"/>
                <a:ea typeface="楷体"/>
              </a:rPr>
              <a:t>3.10.3  </a:t>
            </a:r>
            <a:r>
              <a:rPr b="1" lang="zh-CN" sz="2400" spc="-1" strike="noStrike">
                <a:solidFill>
                  <a:srgbClr val="cc3300"/>
                </a:solidFill>
                <a:latin typeface="楷体"/>
                <a:ea typeface="楷体"/>
              </a:rPr>
              <a:t>定积分分部积分计算过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1295280" y="3565440"/>
            <a:ext cx="6553440" cy="3988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楷体"/>
                <a:ea typeface="楷体"/>
              </a:rPr>
              <a:t>注意：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其中已积出的前部分可先直接算值，不必等到最后一起运算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Object 4"/>
          <p:cNvGraphicFramePr/>
          <p:nvPr/>
        </p:nvGraphicFramePr>
        <p:xfrm>
          <a:off x="1676520" y="2209680"/>
          <a:ext cx="548640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209680"/>
                    <a:ext cx="54864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TextBox 8"/>
          <p:cNvSpPr/>
          <p:nvPr/>
        </p:nvSpPr>
        <p:spPr>
          <a:xfrm>
            <a:off x="809640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7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4T02:43:33Z</dcterms:created>
  <dc:creator/>
  <dc:description/>
  <cp:keywords/>
  <dc:language>en-US</dc:language>
  <cp:lastModifiedBy>Windows User</cp:lastModifiedBy>
  <dcterms:modified xsi:type="dcterms:W3CDTF">2018-04-05T03:30:35Z</dcterms:modified>
  <cp:revision>1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047</vt:lpwstr>
  </property>
  <property fmtid="{D5CDD505-2E9C-101B-9397-08002B2CF9AE}" pid="3" name="Version">
    <vt:r8>1</vt:r8>
  </property>
</Properties>
</file>