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25E-6713-4755-8EBD-DEA70FF7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7B9-F42C-46F5-BBD9-F806D45B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582-9A6A-4623-9159-15A691E2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93D-8184-4FE3-8A07-46B92F40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7F3-E24D-49E1-BD08-647C5305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B0A-EE35-4B65-A848-288820B5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D08-2A83-426A-A4F9-A84CD3CE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6DB-43BC-49F6-BE7E-3159B83E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99C-7753-4476-AC34-C7A7EBBF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73D-298A-4C73-8893-52CA8D08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827-00C2-4B67-A6C9-8E85FD08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929-2884-4080-BD11-78985364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AF87-E64D-4981-BEEF-82B5167EE6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600" y="2209680"/>
            <a:ext cx="888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楷体"/>
                <a:ea typeface="楷体"/>
              </a:rPr>
              <a:t>2.3 </a:t>
            </a: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复合函数的求导法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3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8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9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2071800" y="8380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介绍第三次数学危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6248520" y="1981080"/>
            <a:ext cx="2719440" cy="35816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3"/>
          <p:cNvSpPr/>
          <p:nvPr/>
        </p:nvSpPr>
        <p:spPr>
          <a:xfrm>
            <a:off x="990720" y="1981080"/>
            <a:ext cx="458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罗素悖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理发师悖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某村的一个理发师宣称，他给且只给村里自己不给自己刮脸的人刮脸，问：理发师是否给自己刮脸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三次数学危机的实质是界定集合的说法有问题，犯了自我指谓，恶性循环的错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38080" y="914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90720" y="21337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990720" y="358128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666880" y="20941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掌握复合函数求导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990720" y="5029200"/>
            <a:ext cx="16002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2743200" y="5058000"/>
            <a:ext cx="58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训练学生的数学计算能力和培养耐心、细致的学习习惯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2666880" y="319824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会求复合函数的导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识记并熟练应用基本求导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55640" y="1901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55640" y="39639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971800" y="1828800"/>
            <a:ext cx="533700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复合函数的求导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971800" y="4038480"/>
            <a:ext cx="460224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复合函数的求导法则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85800" y="1828800"/>
            <a:ext cx="8001000" cy="3050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定理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2  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函数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一个复合函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即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        在点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处有导数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对应点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处有导数          则复合函数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点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处的导数也存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而且            ，或写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3124080" y="1905120"/>
                <a:ext cx="19368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，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6400800" y="2286000"/>
                <a:ext cx="22096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，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3429000" y="2819520"/>
                <a:ext cx="1371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1143000" y="2438280"/>
                <a:ext cx="1295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9"/>
              <p:cNvSpPr txBox="1"/>
              <p:nvPr/>
            </p:nvSpPr>
            <p:spPr>
              <a:xfrm>
                <a:off x="3276720" y="2438280"/>
                <a:ext cx="1152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0"/>
              <p:cNvSpPr txBox="1"/>
              <p:nvPr/>
            </p:nvSpPr>
            <p:spPr>
              <a:xfrm>
                <a:off x="6477120" y="2895480"/>
                <a:ext cx="14475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4419720" y="3352680"/>
                <a:ext cx="18288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838080" y="4038480"/>
                <a:ext cx="1752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u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Text Box 13"/>
          <p:cNvSpPr/>
          <p:nvPr/>
        </p:nvSpPr>
        <p:spPr>
          <a:xfrm>
            <a:off x="685800" y="762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2.2.2 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复合函数的求导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38080" y="1523880"/>
            <a:ext cx="5105520" cy="762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函数           的导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2717640" y="1282680"/>
                <a:ext cx="16765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Text Box 5"/>
          <p:cNvSpPr/>
          <p:nvPr/>
        </p:nvSpPr>
        <p:spPr>
          <a:xfrm>
            <a:off x="838080" y="3276720"/>
            <a:ext cx="5181840" cy="838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函数           的导数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2817720" y="3200400"/>
                <a:ext cx="16020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1:13:45Z</dcterms:created>
  <dc:creator/>
  <dc:description/>
  <cp:keywords/>
  <dc:language>en-US</dc:language>
  <cp:lastModifiedBy>PC</cp:lastModifiedBy>
  <dcterms:modified xsi:type="dcterms:W3CDTF">2018-04-03T02:41:01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