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3.jpeg" ContentType="image/jpeg"/>
  <Override PartName="/ppt/media/image28.wmf" ContentType="image/x-wmf"/>
  <Override PartName="/ppt/media/image65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B04-E3A9-45E9-B3FE-FFC6775B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A79-9592-4923-920B-DD32F6D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D9D-7C8C-4592-90FA-03716D93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267-1C9A-4AD0-B9A7-9A738F1A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217-4665-4BF1-BA50-B6806972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5A9-30ED-4144-A627-B07216B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2A3-3D3A-43AB-AA1F-CD8EC2F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C14-1158-4A05-8FAE-26D859D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326-C5F8-4D66-9A3E-0E59150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C78-A21D-42A5-B435-D0CBF3B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2F6-6B82-4387-BAB5-2C0DD22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F2E-A659-4933-9CE2-6DE99DC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0ACD-AC0A-45FD-ADFA-B10551AF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7.wmf"/><Relationship Id="rId3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295280" y="243828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3.8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定积分的性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4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6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7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808200"/>
          <a:ext cx="7467840" cy="521172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56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4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如果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则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推论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1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如果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则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推论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2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5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（定积分的估值定理）设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分别为函数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区间上的最大值与最小值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3"/>
          <p:cNvGraphicFramePr/>
          <p:nvPr/>
        </p:nvGraphicFramePr>
        <p:xfrm>
          <a:off x="2228760" y="819000"/>
          <a:ext cx="1828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819000"/>
                    <a:ext cx="182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2905200" y="1752480"/>
          <a:ext cx="1981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0" y="175248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17"/>
          <p:cNvGraphicFramePr/>
          <p:nvPr/>
        </p:nvGraphicFramePr>
        <p:xfrm>
          <a:off x="5372280" y="1600200"/>
          <a:ext cx="179064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1600200"/>
                    <a:ext cx="1790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9"/>
          <p:cNvGraphicFramePr/>
          <p:nvPr/>
        </p:nvGraphicFramePr>
        <p:xfrm>
          <a:off x="2933640" y="2590920"/>
          <a:ext cx="23623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3640" y="2590920"/>
                    <a:ext cx="2362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1"/>
          <p:cNvGraphicFramePr/>
          <p:nvPr/>
        </p:nvGraphicFramePr>
        <p:xfrm>
          <a:off x="5962680" y="251460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2680" y="251460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3"/>
          <p:cNvGraphicFramePr/>
          <p:nvPr/>
        </p:nvGraphicFramePr>
        <p:xfrm>
          <a:off x="2162160" y="3352680"/>
          <a:ext cx="365760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2160" y="3352680"/>
                    <a:ext cx="3657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5"/>
          <p:cNvGraphicFramePr/>
          <p:nvPr/>
        </p:nvGraphicFramePr>
        <p:xfrm>
          <a:off x="6095880" y="4343400"/>
          <a:ext cx="76212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4343400"/>
                    <a:ext cx="762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7"/>
          <p:cNvGraphicFramePr/>
          <p:nvPr/>
        </p:nvGraphicFramePr>
        <p:xfrm>
          <a:off x="1647720" y="4800600"/>
          <a:ext cx="6858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5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47720" y="480060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29"/>
          <p:cNvGraphicFramePr/>
          <p:nvPr/>
        </p:nvGraphicFramePr>
        <p:xfrm>
          <a:off x="2733840" y="4800600"/>
          <a:ext cx="6858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33840" y="480060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1"/>
          <p:cNvGraphicFramePr/>
          <p:nvPr/>
        </p:nvGraphicFramePr>
        <p:xfrm>
          <a:off x="2857680" y="5181480"/>
          <a:ext cx="327636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57680" y="5181480"/>
                    <a:ext cx="3276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5800" y="228600"/>
          <a:ext cx="7467480" cy="1920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证明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因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，由性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的推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推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再由定积分的线性性质和性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2685960" y="257040"/>
          <a:ext cx="18288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257040"/>
                    <a:ext cx="1828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2733840" y="628560"/>
          <a:ext cx="29718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3840" y="628560"/>
                    <a:ext cx="2971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2"/>
          <p:cNvGraphicFramePr/>
          <p:nvPr/>
        </p:nvGraphicFramePr>
        <p:xfrm>
          <a:off x="2629080" y="1523880"/>
          <a:ext cx="335268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9080" y="1523880"/>
                    <a:ext cx="3352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09480" y="2104920"/>
          <a:ext cx="7467840" cy="155412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（定积分中值定理）设函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闭区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连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则在积分区间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至少存在一个点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使下式成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5143680" y="2152800"/>
          <a:ext cx="6094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3680" y="2152800"/>
                    <a:ext cx="609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6"/>
          <p:cNvGraphicFramePr/>
          <p:nvPr/>
        </p:nvGraphicFramePr>
        <p:xfrm>
          <a:off x="638280" y="2525760"/>
          <a:ext cx="76176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8280" y="2525760"/>
                    <a:ext cx="761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238640" y="2523960"/>
          <a:ext cx="76212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8640" y="252396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9"/>
          <p:cNvGraphicFramePr/>
          <p:nvPr/>
        </p:nvGraphicFramePr>
        <p:xfrm>
          <a:off x="7496280" y="2505240"/>
          <a:ext cx="30456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4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96280" y="2505240"/>
                    <a:ext cx="304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2514600" y="3009960"/>
          <a:ext cx="37339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3009960"/>
                    <a:ext cx="3733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85800" y="3809880"/>
          <a:ext cx="7467480" cy="28353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证明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因为函数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闭区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连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所以由闭区间上连续函数的最大值与最小值定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存在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分别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的最小值与最大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性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即                  ，由闭区间上连续函数的介值定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存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使得                  ，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23"/>
          <p:cNvGraphicFramePr/>
          <p:nvPr/>
        </p:nvGraphicFramePr>
        <p:xfrm>
          <a:off x="3324240" y="3886200"/>
          <a:ext cx="45720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24240" y="3886200"/>
                    <a:ext cx="457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25"/>
          <p:cNvGraphicFramePr/>
          <p:nvPr/>
        </p:nvGraphicFramePr>
        <p:xfrm>
          <a:off x="4829040" y="3867120"/>
          <a:ext cx="5335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29040" y="3867120"/>
                    <a:ext cx="53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27"/>
          <p:cNvGraphicFramePr/>
          <p:nvPr/>
        </p:nvGraphicFramePr>
        <p:xfrm>
          <a:off x="5086440" y="4210200"/>
          <a:ext cx="76176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7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86440" y="4210200"/>
                    <a:ext cx="7617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9"/>
          <p:cNvGraphicFramePr/>
          <p:nvPr/>
        </p:nvGraphicFramePr>
        <p:xfrm>
          <a:off x="6562800" y="4210200"/>
          <a:ext cx="45720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9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2800" y="4210200"/>
                    <a:ext cx="457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30"/>
          <p:cNvGraphicFramePr/>
          <p:nvPr/>
        </p:nvGraphicFramePr>
        <p:xfrm>
          <a:off x="3648240" y="4572000"/>
          <a:ext cx="266688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648240" y="4572000"/>
                    <a:ext cx="2666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2"/>
          <p:cNvGraphicFramePr/>
          <p:nvPr/>
        </p:nvGraphicFramePr>
        <p:xfrm>
          <a:off x="1066680" y="4971960"/>
          <a:ext cx="2286000" cy="609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5" name="Object 3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66680" y="4971960"/>
                    <a:ext cx="2286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34"/>
          <p:cNvGraphicFramePr/>
          <p:nvPr/>
        </p:nvGraphicFramePr>
        <p:xfrm>
          <a:off x="1066680" y="5695920"/>
          <a:ext cx="1447920" cy="380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8" name="Object 3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66680" y="5695920"/>
                    <a:ext cx="144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36"/>
          <p:cNvGraphicFramePr/>
          <p:nvPr/>
        </p:nvGraphicFramePr>
        <p:xfrm>
          <a:off x="3305160" y="5581800"/>
          <a:ext cx="2133720" cy="609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1" name="Object 3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05160" y="5581800"/>
                    <a:ext cx="2133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8"/>
          <p:cNvGraphicFramePr/>
          <p:nvPr/>
        </p:nvGraphicFramePr>
        <p:xfrm>
          <a:off x="2800440" y="6076800"/>
          <a:ext cx="3429000" cy="609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24" name="Object 3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00440" y="6076800"/>
                    <a:ext cx="3429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666720" y="838080"/>
            <a:ext cx="7162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试估计定积分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范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733320" y="188604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    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增函数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3400560" y="781200"/>
          <a:ext cx="12952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0560" y="781200"/>
                    <a:ext cx="1295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9"/>
          <p:cNvGraphicFramePr/>
          <p:nvPr/>
        </p:nvGraphicFramePr>
        <p:xfrm>
          <a:off x="1857240" y="1905120"/>
          <a:ext cx="24386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905120"/>
                    <a:ext cx="243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1"/>
          <p:cNvGraphicFramePr/>
          <p:nvPr/>
        </p:nvGraphicFramePr>
        <p:xfrm>
          <a:off x="5095800" y="1933560"/>
          <a:ext cx="38124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5800" y="1933560"/>
                    <a:ext cx="3812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3"/>
          <p:cNvGraphicFramePr/>
          <p:nvPr/>
        </p:nvGraphicFramePr>
        <p:xfrm>
          <a:off x="2743200" y="2647800"/>
          <a:ext cx="27432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647800"/>
                    <a:ext cx="2743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矩形 14"/>
          <p:cNvSpPr/>
          <p:nvPr/>
        </p:nvSpPr>
        <p:spPr>
          <a:xfrm>
            <a:off x="1693080" y="3705120"/>
            <a:ext cx="2009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定积分的估值定理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15"/>
          <p:cNvGraphicFramePr/>
          <p:nvPr/>
        </p:nvGraphicFramePr>
        <p:xfrm>
          <a:off x="2886120" y="4552920"/>
          <a:ext cx="259092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6120" y="4552920"/>
                    <a:ext cx="2590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Box 8"/>
          <p:cNvSpPr/>
          <p:nvPr/>
        </p:nvSpPr>
        <p:spPr>
          <a:xfrm>
            <a:off x="803268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838080" y="619200"/>
            <a:ext cx="49532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较下列各对定积分的大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8"/>
          <p:cNvGraphicFramePr/>
          <p:nvPr/>
        </p:nvGraphicFramePr>
        <p:xfrm>
          <a:off x="1752480" y="1295280"/>
          <a:ext cx="2210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22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矩形 9"/>
          <p:cNvSpPr/>
          <p:nvPr/>
        </p:nvSpPr>
        <p:spPr>
          <a:xfrm>
            <a:off x="1174680" y="1419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0"/>
          <p:cNvSpPr/>
          <p:nvPr/>
        </p:nvSpPr>
        <p:spPr>
          <a:xfrm>
            <a:off x="1203480" y="2743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1"/>
          <p:cNvSpPr/>
          <p:nvPr/>
        </p:nvSpPr>
        <p:spPr>
          <a:xfrm>
            <a:off x="117468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10"/>
          <p:cNvGraphicFramePr/>
          <p:nvPr/>
        </p:nvGraphicFramePr>
        <p:xfrm>
          <a:off x="1733400" y="1952640"/>
          <a:ext cx="1981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1952640"/>
                    <a:ext cx="1981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2"/>
          <p:cNvGraphicFramePr/>
          <p:nvPr/>
        </p:nvGraphicFramePr>
        <p:xfrm>
          <a:off x="1752480" y="2562120"/>
          <a:ext cx="19051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562120"/>
                    <a:ext cx="1905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7"/>
          <p:cNvSpPr/>
          <p:nvPr/>
        </p:nvSpPr>
        <p:spPr>
          <a:xfrm>
            <a:off x="990720" y="3260880"/>
            <a:ext cx="7086600" cy="28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而由性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而由性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由性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推论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4"/>
          <p:cNvGraphicFramePr/>
          <p:nvPr/>
        </p:nvGraphicFramePr>
        <p:xfrm>
          <a:off x="2238480" y="3400560"/>
          <a:ext cx="190476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8480" y="3400560"/>
                    <a:ext cx="19047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6"/>
          <p:cNvGraphicFramePr/>
          <p:nvPr/>
        </p:nvGraphicFramePr>
        <p:xfrm>
          <a:off x="4905360" y="3362400"/>
          <a:ext cx="12193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05360" y="3362400"/>
                    <a:ext cx="12193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8"/>
          <p:cNvGraphicFramePr/>
          <p:nvPr/>
        </p:nvGraphicFramePr>
        <p:xfrm>
          <a:off x="2990880" y="3762360"/>
          <a:ext cx="20574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90880" y="3762360"/>
                    <a:ext cx="2057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25"/>
          <p:cNvGraphicFramePr/>
          <p:nvPr/>
        </p:nvGraphicFramePr>
        <p:xfrm>
          <a:off x="4933800" y="4267080"/>
          <a:ext cx="114300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33800" y="4267080"/>
                    <a:ext cx="1143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0"/>
          <p:cNvGraphicFramePr/>
          <p:nvPr/>
        </p:nvGraphicFramePr>
        <p:xfrm>
          <a:off x="2295360" y="4286160"/>
          <a:ext cx="175284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95360" y="4286160"/>
                    <a:ext cx="1752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32"/>
          <p:cNvGraphicFramePr/>
          <p:nvPr/>
        </p:nvGraphicFramePr>
        <p:xfrm>
          <a:off x="3029040" y="4648320"/>
          <a:ext cx="2057400" cy="53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29040" y="4648320"/>
                    <a:ext cx="2057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34"/>
          <p:cNvGraphicFramePr/>
          <p:nvPr/>
        </p:nvGraphicFramePr>
        <p:xfrm>
          <a:off x="2257560" y="5038560"/>
          <a:ext cx="167616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57560" y="5038560"/>
                    <a:ext cx="1676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36"/>
          <p:cNvGraphicFramePr/>
          <p:nvPr/>
        </p:nvGraphicFramePr>
        <p:xfrm>
          <a:off x="3086280" y="5477040"/>
          <a:ext cx="2133360" cy="618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1" name="Object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86280" y="5477040"/>
                    <a:ext cx="21333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Box 8"/>
          <p:cNvSpPr/>
          <p:nvPr/>
        </p:nvSpPr>
        <p:spPr>
          <a:xfrm>
            <a:off x="803268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838080" y="685800"/>
            <a:ext cx="67820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估计定积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1019160" y="1533600"/>
            <a:ext cx="961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8"/>
          <p:cNvGraphicFramePr/>
          <p:nvPr/>
        </p:nvGraphicFramePr>
        <p:xfrm>
          <a:off x="3505320" y="619200"/>
          <a:ext cx="1904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19200"/>
                    <a:ext cx="1904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20"/>
          <p:cNvGraphicFramePr/>
          <p:nvPr/>
        </p:nvGraphicFramePr>
        <p:xfrm>
          <a:off x="2428920" y="1581120"/>
          <a:ext cx="2438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1581120"/>
                    <a:ext cx="2438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1295280" y="2438280"/>
            <a:ext cx="962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22"/>
          <p:cNvGraphicFramePr/>
          <p:nvPr/>
        </p:nvGraphicFramePr>
        <p:xfrm>
          <a:off x="2666880" y="2581200"/>
          <a:ext cx="23623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81200"/>
                    <a:ext cx="2362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矩形 24"/>
          <p:cNvSpPr/>
          <p:nvPr/>
        </p:nvSpPr>
        <p:spPr>
          <a:xfrm>
            <a:off x="2005920" y="3352680"/>
            <a:ext cx="2009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而由积分估值定理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24"/>
          <p:cNvGraphicFramePr/>
          <p:nvPr/>
        </p:nvGraphicFramePr>
        <p:xfrm>
          <a:off x="2666880" y="4191120"/>
          <a:ext cx="327672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191120"/>
                    <a:ext cx="3276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Box 8"/>
          <p:cNvSpPr/>
          <p:nvPr/>
        </p:nvSpPr>
        <p:spPr>
          <a:xfrm>
            <a:off x="803268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33560" y="619200"/>
            <a:ext cx="74358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微积分学在中国的最早传播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李善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33560" y="2313000"/>
            <a:ext cx="51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善兰，浙江海宁人，清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家，他翻译了许多数学著作，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不只是抄录整理，而是基于对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积分等数学内容的深入理解以及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传统数学的承袭进行再加工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造，其中所创设的一些名词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量、微分、积分、代数学、数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轴、曲率、曲线、极大、极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穷、根、方程式等，沿用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6321600" y="2590920"/>
            <a:ext cx="2133360" cy="259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905040" y="982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我最大快乐的，不是已懂得知识，而是不断的学习；不是已有的东西，而是不断的获取；不是已达到的高度，而是继续不断的攀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6019920" y="101916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905040" y="4419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约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卡尔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弗里德里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高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英语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Johann Carl Friedrich Gaus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拉丁语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arolus Fridericus Gaus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77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）， 德国著名数学家、物理学家、天文学家、大地测量学家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79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进入不伦瑞克科技大学。独立发现了二项式定理的一般形式、数论上的“二次互反律”、素数定理、及算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何平均数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79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高斯进入哥廷根大学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79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得到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正十七边形尺规作图之理论与方法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清晨去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2880" y="32979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学生掌握定积分的六个性质及两个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在定积分计算中利用定积分的性质，及运用定积分的性质进行一些判断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14400" y="12952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14400" y="39625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3593160" y="217008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运算中会熟练运用定积分的相关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592360" y="375840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严密的逻辑思维能力，培养学生严谨的学习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培养学生观察能力和分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培养学生的不怕困难，勇于面对难题的自信和勇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28840" y="1990800"/>
            <a:ext cx="236232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定积分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274920" y="3762360"/>
            <a:ext cx="315432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定积分的性质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5640" y="571680"/>
          <a:ext cx="7397640" cy="2225520"/>
        </p:xfrm>
        <a:graphic>
          <a:graphicData uri="http://schemas.openxmlformats.org/drawingml/2006/table">
            <a:tbl>
              <a:tblPr/>
              <a:tblGrid>
                <a:gridCol w="739764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回顾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定积分的定义及几何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于极限、求和等运算都具有线性性质，所以定积分也具有线性性质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0"/>
              <p:cNvSpPr txBox="1"/>
              <p:nvPr/>
            </p:nvSpPr>
            <p:spPr>
              <a:xfrm>
                <a:off x="2682720" y="1049400"/>
                <a:ext cx="3200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72" name=""/>
          <p:cNvGraphicFramePr/>
          <p:nvPr/>
        </p:nvGraphicFramePr>
        <p:xfrm>
          <a:off x="696960" y="2914560"/>
          <a:ext cx="7467480" cy="350532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定积分的性质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被积函数的常数因子可以提到积分号外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两个函数和（差）的定积分等于各个函数定积分的和（差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7"/>
          <p:cNvGraphicFramePr/>
          <p:nvPr/>
        </p:nvGraphicFramePr>
        <p:xfrm>
          <a:off x="2695680" y="3838680"/>
          <a:ext cx="38098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3838680"/>
                    <a:ext cx="3809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9"/>
          <p:cNvGraphicFramePr/>
          <p:nvPr/>
        </p:nvGraphicFramePr>
        <p:xfrm>
          <a:off x="2590920" y="5514840"/>
          <a:ext cx="4190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514840"/>
                    <a:ext cx="4190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838080" y="914400"/>
          <a:ext cx="7512120" cy="2225520"/>
        </p:xfrm>
        <a:graphic>
          <a:graphicData uri="http://schemas.openxmlformats.org/drawingml/2006/table">
            <a:tbl>
              <a:tblPr/>
              <a:tblGrid>
                <a:gridCol w="751212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证明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0"/>
          <p:cNvGraphicFramePr/>
          <p:nvPr/>
        </p:nvGraphicFramePr>
        <p:xfrm>
          <a:off x="1866960" y="866880"/>
          <a:ext cx="44956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866880"/>
                    <a:ext cx="44956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2"/>
          <p:cNvGraphicFramePr/>
          <p:nvPr/>
        </p:nvGraphicFramePr>
        <p:xfrm>
          <a:off x="3733920" y="1647720"/>
          <a:ext cx="33526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47720"/>
                    <a:ext cx="3352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4"/>
          <p:cNvGraphicFramePr/>
          <p:nvPr/>
        </p:nvGraphicFramePr>
        <p:xfrm>
          <a:off x="3753000" y="2438280"/>
          <a:ext cx="2895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2438280"/>
                    <a:ext cx="289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838080" y="3505320"/>
          <a:ext cx="7543800" cy="19810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可将线性性质推广为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26"/>
          <p:cNvGraphicFramePr/>
          <p:nvPr/>
        </p:nvGraphicFramePr>
        <p:xfrm>
          <a:off x="2085840" y="4010040"/>
          <a:ext cx="36576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5840" y="4010040"/>
                    <a:ext cx="3657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8"/>
          <p:cNvGraphicFramePr/>
          <p:nvPr/>
        </p:nvGraphicFramePr>
        <p:xfrm>
          <a:off x="1828800" y="4695840"/>
          <a:ext cx="42670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4695840"/>
                    <a:ext cx="4267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838080" y="533520"/>
          <a:ext cx="7467840" cy="179856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性质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定积分对区间的可加性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不论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的相对位置如何，恒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9"/>
          <p:cNvGraphicFramePr/>
          <p:nvPr/>
        </p:nvGraphicFramePr>
        <p:xfrm>
          <a:off x="2533680" y="1467000"/>
          <a:ext cx="38862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1467000"/>
                    <a:ext cx="3886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1"/>
          <p:cNvGraphicFramePr/>
          <p:nvPr/>
        </p:nvGraphicFramePr>
        <p:xfrm>
          <a:off x="6467400" y="609480"/>
          <a:ext cx="914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609480"/>
                    <a:ext cx="91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2362320"/>
          <a:ext cx="7467840" cy="411480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证明：先考虑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的情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因为定积分存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所以积分和的极限与分法无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为一分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于是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的积分和可以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为分界点分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的积分和之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上式两边取极限即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同上可得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（其它情况类似可得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13"/>
          <p:cNvGraphicFramePr/>
          <p:nvPr/>
        </p:nvGraphicFramePr>
        <p:xfrm>
          <a:off x="2476440" y="2419200"/>
          <a:ext cx="114300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440" y="2419200"/>
                    <a:ext cx="1143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5"/>
          <p:cNvGraphicFramePr/>
          <p:nvPr/>
        </p:nvGraphicFramePr>
        <p:xfrm>
          <a:off x="3143160" y="2781360"/>
          <a:ext cx="30492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781360"/>
                    <a:ext cx="3049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7"/>
          <p:cNvGraphicFramePr/>
          <p:nvPr/>
        </p:nvGraphicFramePr>
        <p:xfrm>
          <a:off x="5086440" y="2733840"/>
          <a:ext cx="60948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6440" y="2733840"/>
                    <a:ext cx="609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9"/>
          <p:cNvGraphicFramePr/>
          <p:nvPr/>
        </p:nvGraphicFramePr>
        <p:xfrm>
          <a:off x="7496280" y="2781360"/>
          <a:ext cx="304560" cy="2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96280" y="2781360"/>
                    <a:ext cx="30456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0"/>
          <p:cNvGraphicFramePr/>
          <p:nvPr/>
        </p:nvGraphicFramePr>
        <p:xfrm>
          <a:off x="2266920" y="3048120"/>
          <a:ext cx="60948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6920" y="3048120"/>
                    <a:ext cx="609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2"/>
          <p:cNvGraphicFramePr/>
          <p:nvPr/>
        </p:nvGraphicFramePr>
        <p:xfrm>
          <a:off x="2962440" y="3048120"/>
          <a:ext cx="685800" cy="30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62440" y="3048120"/>
                    <a:ext cx="6858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4"/>
          <p:cNvGraphicFramePr/>
          <p:nvPr/>
        </p:nvGraphicFramePr>
        <p:xfrm>
          <a:off x="2352600" y="3352680"/>
          <a:ext cx="365760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52600" y="3352680"/>
                    <a:ext cx="3657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26"/>
          <p:cNvGraphicFramePr/>
          <p:nvPr/>
        </p:nvGraphicFramePr>
        <p:xfrm>
          <a:off x="4048200" y="3809880"/>
          <a:ext cx="312408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48200" y="3809880"/>
                    <a:ext cx="312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8"/>
          <p:cNvGraphicFramePr/>
          <p:nvPr/>
        </p:nvGraphicFramePr>
        <p:xfrm>
          <a:off x="1162080" y="4552920"/>
          <a:ext cx="914400" cy="3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62080" y="455292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0"/>
          <p:cNvGraphicFramePr/>
          <p:nvPr/>
        </p:nvGraphicFramePr>
        <p:xfrm>
          <a:off x="3495600" y="4467240"/>
          <a:ext cx="29718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5600" y="4467240"/>
                    <a:ext cx="2971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2"/>
          <p:cNvGraphicFramePr/>
          <p:nvPr/>
        </p:nvGraphicFramePr>
        <p:xfrm>
          <a:off x="2971800" y="5095800"/>
          <a:ext cx="2895480" cy="533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7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971800" y="5095800"/>
                    <a:ext cx="2895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4"/>
          <p:cNvGraphicFramePr/>
          <p:nvPr/>
        </p:nvGraphicFramePr>
        <p:xfrm>
          <a:off x="2819520" y="5705640"/>
          <a:ext cx="327636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Object 3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819520" y="5705640"/>
                    <a:ext cx="3276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8"/>
          <p:cNvSpPr/>
          <p:nvPr/>
        </p:nvSpPr>
        <p:spPr>
          <a:xfrm>
            <a:off x="808992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8-04-05T03:18:12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