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E7E-EAB2-4A4C-98FD-8C79812E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A64-9558-45C6-9AD2-A0DD356F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129-2D80-4CC8-94B9-3398F338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3B5-A10F-4144-8C8C-75A6A158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56B-3B79-4543-98EC-3D3FEA9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969-557C-4B96-9FC6-1DC4DFC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3C6-A820-49F6-B99F-F309C8D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5D0-1AB2-49AC-AFC7-B781C95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4DB-0B81-4DF2-98F1-CC77AFAB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EDD-A67D-49C8-8A92-C622B652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4EF-15F4-456C-B6C9-239119B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3D4-18A6-47DC-BD63-B369A163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20DD-B3C0-4A85-80E5-57ABA85493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35000" y="20570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楷体"/>
                <a:ea typeface="楷体"/>
              </a:rPr>
              <a:t>3.5 </a:t>
            </a:r>
            <a:r>
              <a:rPr b="1" lang="zh-CN" sz="6600" spc="-1" strike="noStrike">
                <a:solidFill>
                  <a:srgbClr val="c00000"/>
                </a:solidFill>
                <a:latin typeface="楷体"/>
                <a:ea typeface="楷体"/>
              </a:rPr>
              <a:t>分部积分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49500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10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1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762120"/>
            <a:ext cx="38102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积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2908440" y="692280"/>
                <a:ext cx="14605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4"/>
          <p:cNvSpPr/>
          <p:nvPr/>
        </p:nvSpPr>
        <p:spPr>
          <a:xfrm>
            <a:off x="838080" y="1390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1828800" y="1403280"/>
                <a:ext cx="1130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3689280" y="1384200"/>
                <a:ext cx="25783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390680" y="2141640"/>
                <a:ext cx="1371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2749680" y="2141640"/>
                <a:ext cx="2819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1257480" y="3475080"/>
                <a:ext cx="3924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10"/>
          <p:cNvSpPr/>
          <p:nvPr/>
        </p:nvSpPr>
        <p:spPr>
          <a:xfrm>
            <a:off x="1397160" y="28195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再次使用分部积分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473120" y="2819520"/>
            <a:ext cx="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2"/>
              <p:cNvSpPr txBox="1"/>
              <p:nvPr/>
            </p:nvSpPr>
            <p:spPr>
              <a:xfrm>
                <a:off x="5359320" y="3003480"/>
                <a:ext cx="9651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3"/>
              <p:cNvSpPr txBox="1"/>
              <p:nvPr/>
            </p:nvSpPr>
            <p:spPr>
              <a:xfrm>
                <a:off x="6553080" y="2851200"/>
                <a:ext cx="15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14"/>
          <p:cNvSpPr/>
          <p:nvPr/>
        </p:nvSpPr>
        <p:spPr>
          <a:xfrm>
            <a:off x="1122480" y="4121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5"/>
          <p:cNvGrpSpPr/>
          <p:nvPr/>
        </p:nvGrpSpPr>
        <p:grpSpPr>
          <a:xfrm>
            <a:off x="1066680" y="4143240"/>
            <a:ext cx="7010280" cy="1373760"/>
            <a:chOff x="1066680" y="4143240"/>
            <a:chExt cx="7010280" cy="1373760"/>
          </a:xfrm>
        </p:grpSpPr>
        <p:sp>
          <p:nvSpPr>
            <p:cNvPr id="140" name="Text Box 16"/>
            <p:cNvSpPr/>
            <p:nvPr/>
          </p:nvSpPr>
          <p:spPr>
            <a:xfrm>
              <a:off x="1066680" y="4143240"/>
              <a:ext cx="7010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被积函数是幂函数和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余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弦函数或幂函数和指数函数的乘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就考虑设幂函数为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使其降幂一次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假定幂指数是正整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7"/>
                <p:cNvSpPr txBox="1"/>
                <p:nvPr/>
              </p:nvSpPr>
              <p:spPr>
                <a:xfrm>
                  <a:off x="1885680" y="5181480"/>
                  <a:ext cx="2397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2133720" y="685800"/>
                <a:ext cx="1523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4" name="Object 3"/>
          <p:cNvGraphicFramePr/>
          <p:nvPr/>
        </p:nvGraphicFramePr>
        <p:xfrm>
          <a:off x="2367000" y="1784520"/>
          <a:ext cx="502452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784520"/>
                    <a:ext cx="50245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4"/>
          <p:cNvGraphicFramePr/>
          <p:nvPr/>
        </p:nvGraphicFramePr>
        <p:xfrm>
          <a:off x="2286000" y="2639880"/>
          <a:ext cx="548640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639880"/>
                    <a:ext cx="54864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2286000" y="3886200"/>
                <a:ext cx="2819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6"/>
          <p:cNvSpPr/>
          <p:nvPr/>
        </p:nvSpPr>
        <p:spPr>
          <a:xfrm>
            <a:off x="990720" y="867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1599480"/>
            <a:ext cx="83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748680" y="3419280"/>
            <a:ext cx="2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838080" y="7239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积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952720" y="693720"/>
                <a:ext cx="2336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ta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4"/>
          <p:cNvSpPr/>
          <p:nvPr/>
        </p:nvSpPr>
        <p:spPr>
          <a:xfrm>
            <a:off x="838080" y="1352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1600200" y="1352520"/>
            <a:ext cx="2603520" cy="533520"/>
            <a:chOff x="1600200" y="1352520"/>
            <a:chExt cx="2603520" cy="533520"/>
          </a:xfrm>
        </p:grpSpPr>
        <p:sp>
          <p:nvSpPr>
            <p:cNvPr id="157" name="Text Box 6"/>
            <p:cNvSpPr/>
            <p:nvPr/>
          </p:nvSpPr>
          <p:spPr>
            <a:xfrm>
              <a:off x="1600200" y="1352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7"/>
                <p:cNvSpPr txBox="1"/>
                <p:nvPr/>
              </p:nvSpPr>
              <p:spPr>
                <a:xfrm>
                  <a:off x="2108160" y="1504800"/>
                  <a:ext cx="20955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tan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4635360" y="1181160"/>
                <a:ext cx="2489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1174680" y="2141640"/>
                <a:ext cx="2247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ta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3390840" y="1981080"/>
                <a:ext cx="49276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1219320" y="2857680"/>
                <a:ext cx="4698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1224000" y="3848040"/>
                <a:ext cx="52322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3"/>
              <p:cNvSpPr txBox="1"/>
              <p:nvPr/>
            </p:nvSpPr>
            <p:spPr>
              <a:xfrm>
                <a:off x="1230480" y="4800600"/>
                <a:ext cx="5627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990720" y="4343400"/>
            <a:ext cx="7010280" cy="1278000"/>
            <a:chOff x="990720" y="4343400"/>
            <a:chExt cx="7010280" cy="1278000"/>
          </a:xfrm>
        </p:grpSpPr>
        <p:sp>
          <p:nvSpPr>
            <p:cNvPr id="167" name="Text Box 3"/>
            <p:cNvSpPr/>
            <p:nvPr/>
          </p:nvSpPr>
          <p:spPr>
            <a:xfrm>
              <a:off x="990720" y="4343400"/>
              <a:ext cx="701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被积函数是幂函数和对数函数或幂函数和反三角函数的乘积，就考虑设对数函数或反三角函数为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Object 4"/>
                <p:cNvSpPr txBox="1"/>
                <p:nvPr/>
              </p:nvSpPr>
              <p:spPr>
                <a:xfrm>
                  <a:off x="3963960" y="5369040"/>
                  <a:ext cx="2397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Group 5"/>
          <p:cNvGrpSpPr/>
          <p:nvPr/>
        </p:nvGrpSpPr>
        <p:grpSpPr>
          <a:xfrm>
            <a:off x="838080" y="738360"/>
            <a:ext cx="3848040" cy="633240"/>
            <a:chOff x="838080" y="738360"/>
            <a:chExt cx="3848040" cy="633240"/>
          </a:xfrm>
        </p:grpSpPr>
        <p:sp>
          <p:nvSpPr>
            <p:cNvPr id="170" name="Text Box 6"/>
            <p:cNvSpPr/>
            <p:nvPr/>
          </p:nvSpPr>
          <p:spPr>
            <a:xfrm>
              <a:off x="838080" y="78912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求积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Object 7"/>
                <p:cNvSpPr txBox="1"/>
                <p:nvPr/>
              </p:nvSpPr>
              <p:spPr>
                <a:xfrm>
                  <a:off x="2921040" y="738360"/>
                  <a:ext cx="176508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rPr>
                              <m:lit/>
                              <m:nor/>
                            </m:rPr>
                            <m:t xml:space="preserve">x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Text Box 8"/>
          <p:cNvSpPr/>
          <p:nvPr/>
        </p:nvSpPr>
        <p:spPr>
          <a:xfrm>
            <a:off x="838080" y="1523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1600200" y="1359000"/>
            <a:ext cx="4357800" cy="927000"/>
            <a:chOff x="1600200" y="1359000"/>
            <a:chExt cx="4357800" cy="927000"/>
          </a:xfrm>
        </p:grpSpPr>
        <mc:AlternateContent>
          <mc:Choice xmlns:a14="http://schemas.microsoft.com/office/drawing/2010/main" Requires="a14">
            <p:sp>
              <p:nvSpPr>
                <p:cNvPr id="174" name="Object 10"/>
                <p:cNvSpPr txBox="1"/>
                <p:nvPr/>
              </p:nvSpPr>
              <p:spPr>
                <a:xfrm>
                  <a:off x="1600200" y="1673280"/>
                  <a:ext cx="1333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3227400" y="1359000"/>
                  <a:ext cx="273060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v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Group 12"/>
          <p:cNvGrpSpPr/>
          <p:nvPr/>
        </p:nvGrpSpPr>
        <p:grpSpPr>
          <a:xfrm>
            <a:off x="1447920" y="2235240"/>
            <a:ext cx="4876200" cy="888840"/>
            <a:chOff x="1447920" y="2235240"/>
            <a:chExt cx="4876200" cy="888840"/>
          </a:xfrm>
        </p:grpSpPr>
        <mc:AlternateContent>
          <mc:Choice xmlns:a14="http://schemas.microsoft.com/office/drawing/2010/main" Requires="a14">
            <p:sp>
              <p:nvSpPr>
                <p:cNvPr id="177" name="Object 13"/>
                <p:cNvSpPr txBox="1"/>
                <p:nvPr/>
              </p:nvSpPr>
              <p:spPr>
                <a:xfrm>
                  <a:off x="1447920" y="2387520"/>
                  <a:ext cx="166320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rPr>
                              <m:lit/>
                              <m:nor/>
                            </m:rPr>
                            <m:t xml:space="preserve">x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14"/>
                <p:cNvSpPr txBox="1"/>
                <p:nvPr/>
              </p:nvSpPr>
              <p:spPr>
                <a:xfrm>
                  <a:off x="3124080" y="2235240"/>
                  <a:ext cx="320004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Object 15"/>
              <p:cNvSpPr txBox="1"/>
              <p:nvPr/>
            </p:nvSpPr>
            <p:spPr>
              <a:xfrm>
                <a:off x="1371600" y="3149640"/>
                <a:ext cx="35179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 Box 16"/>
          <p:cNvSpPr/>
          <p:nvPr/>
        </p:nvSpPr>
        <p:spPr>
          <a:xfrm>
            <a:off x="106668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12880" y="762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积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2940120" y="692280"/>
                <a:ext cx="18795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4"/>
          <p:cNvSpPr/>
          <p:nvPr/>
        </p:nvSpPr>
        <p:spPr>
          <a:xfrm>
            <a:off x="838080" y="15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1600200" y="1523880"/>
                <a:ext cx="1778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3429000" y="1523880"/>
                <a:ext cx="1841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219320" y="2286000"/>
                <a:ext cx="3632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219320" y="3009960"/>
                <a:ext cx="361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4876920" y="3048120"/>
                <a:ext cx="3378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0"/>
              <p:cNvSpPr txBox="1"/>
              <p:nvPr/>
            </p:nvSpPr>
            <p:spPr>
              <a:xfrm>
                <a:off x="1219320" y="3809880"/>
                <a:ext cx="5232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1219320" y="4648320"/>
                <a:ext cx="4927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4343400" y="4572000"/>
            <a:ext cx="1905120" cy="685800"/>
          </a:xfrm>
          <a:prstGeom prst="rect">
            <a:avLst/>
          </a:prstGeom>
          <a:noFill/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1447920" y="1447920"/>
            <a:ext cx="1981080" cy="685800"/>
          </a:xfrm>
          <a:prstGeom prst="rect">
            <a:avLst/>
          </a:prstGeom>
          <a:noFill/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009800" y="5562720"/>
                <a:ext cx="2082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5"/>
              <p:cNvSpPr txBox="1"/>
              <p:nvPr/>
            </p:nvSpPr>
            <p:spPr>
              <a:xfrm>
                <a:off x="3054240" y="5334120"/>
                <a:ext cx="3619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6"/>
          <p:cNvSpPr/>
          <p:nvPr/>
        </p:nvSpPr>
        <p:spPr>
          <a:xfrm>
            <a:off x="6248520" y="4648320"/>
            <a:ext cx="2438280" cy="520560"/>
          </a:xfrm>
          <a:prstGeom prst="rect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注意循环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7621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部积分公式中选    的法则我们可以总结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733920" y="1295280"/>
          <a:ext cx="415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295280"/>
                    <a:ext cx="41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4"/>
          <p:cNvSpPr/>
          <p:nvPr/>
        </p:nvSpPr>
        <p:spPr>
          <a:xfrm>
            <a:off x="2041560" y="2362680"/>
            <a:ext cx="23875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151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指幂弦幂只选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151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反幂对幂不选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151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指弦同在可任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151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一旦选中要固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151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600200" y="26668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11240" y="1143000"/>
            <a:ext cx="439884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数学解题策略：转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19160" y="2057400"/>
            <a:ext cx="74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转化思路是将一个新问题归结为另一比较熟悉且容易解决的问题，从而达到解决问题的目的。矛盾的对立面在一定条件下可相互转化，高等数学中就有许多数学矛盾，比如：一元与高元、一阶与高阶、规则与不规则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762120" y="914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你不能解决这个提出的问题，环视一下四周，找一个适宜的有关的问题。辅助问题可能提供方法论的帮助。它可能提供解的方法、解的轮廓，或是提示我们应从哪一个方向着手工作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波利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矩形 3"/>
          <p:cNvSpPr/>
          <p:nvPr/>
        </p:nvSpPr>
        <p:spPr>
          <a:xfrm>
            <a:off x="4952880" y="48769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波利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Poly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7-198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美籍匈牙利数学家。生于布达佩斯，卒于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266724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1960" y="1458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楷体"/>
                <a:ea typeface="楷体"/>
              </a:rPr>
              <a:t>知识目标</a:t>
            </a:r>
            <a:r>
              <a:rPr b="1" lang="zh-CN" sz="2000" spc="-1" strike="noStrike">
                <a:solidFill>
                  <a:srgbClr val="d60093"/>
                </a:solidFill>
                <a:latin typeface="楷体"/>
                <a:ea typeface="楷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理解分部积分法的思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能针对不同类型函数之积的被积函数，正确选取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熟练掌握分部积分法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楷体"/>
                <a:ea typeface="楷体"/>
              </a:rPr>
              <a:t>技能目标</a:t>
            </a:r>
            <a:r>
              <a:rPr b="1" lang="zh-CN" sz="2000" spc="-1" strike="noStrike">
                <a:solidFill>
                  <a:srgbClr val="d60093"/>
                </a:solidFill>
                <a:latin typeface="楷体"/>
                <a:ea typeface="楷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本节课的学习掌握用分部积分解决实际问题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楷体"/>
                <a:ea typeface="楷体"/>
              </a:rPr>
              <a:t>素质目标</a:t>
            </a:r>
            <a:r>
              <a:rPr b="1" lang="zh-CN" sz="2000" spc="-1" strike="noStrike">
                <a:solidFill>
                  <a:srgbClr val="d60093"/>
                </a:solidFill>
                <a:latin typeface="楷体"/>
                <a:ea typeface="楷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分部积分法的应用，体会不定积分解法的多样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实例的引入，体现了从特殊到一般，从感性到理性的辩证唯物主义观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29560" y="2190600"/>
            <a:ext cx="609480" cy="425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3352680" y="3657600"/>
            <a:ext cx="4572000" cy="947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部积分法针对不同类型函数乘积的积分，适当选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7381800" y="4162320"/>
          <a:ext cx="60984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1800" y="4162320"/>
                    <a:ext cx="60984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矩形 6"/>
          <p:cNvSpPr/>
          <p:nvPr/>
        </p:nvSpPr>
        <p:spPr>
          <a:xfrm>
            <a:off x="1523160" y="198108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352680" y="1981080"/>
            <a:ext cx="4496040" cy="776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部积分法的基本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部积分法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523160" y="358128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90720" y="106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分部积分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133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面我们在复合函数微分法的基础上，得到了换元积分法。换元积分法是积分的一种基本方法。本节我们将介绍另一种基本积分方法——分部积分法，它是两个函数乘积的微分法则的逆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724280" y="4572000"/>
            <a:ext cx="3124440" cy="685800"/>
          </a:xfrm>
          <a:prstGeom prst="rect">
            <a:avLst/>
          </a:prstGeom>
          <a:solidFill>
            <a:srgbClr val="ff0000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17640" y="160020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981080" y="1600200"/>
                <a:ext cx="1778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Text Box 5"/>
          <p:cNvSpPr/>
          <p:nvPr/>
        </p:nvSpPr>
        <p:spPr>
          <a:xfrm>
            <a:off x="917640" y="229068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解决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666880" y="2320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两个函数乘积的求导法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952560" y="3063960"/>
          <a:ext cx="7475400" cy="64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3063960"/>
                    <a:ext cx="7475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Object 8"/>
              <p:cNvSpPr txBox="1"/>
              <p:nvPr/>
            </p:nvSpPr>
            <p:spPr>
              <a:xfrm>
                <a:off x="984240" y="3733920"/>
                <a:ext cx="265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9"/>
              <p:cNvSpPr txBox="1"/>
              <p:nvPr/>
            </p:nvSpPr>
            <p:spPr>
              <a:xfrm>
                <a:off x="4336920" y="3733920"/>
                <a:ext cx="265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1023840" y="4656240"/>
                <a:ext cx="3479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952880" y="4572000"/>
                <a:ext cx="2882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12"/>
          <p:cNvSpPr/>
          <p:nvPr/>
        </p:nvSpPr>
        <p:spPr>
          <a:xfrm>
            <a:off x="5105520" y="5486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部积分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838080" y="45720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分部积分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V="1">
            <a:off x="6095880" y="5257440"/>
            <a:ext cx="0" cy="30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912240" y="520560"/>
            <a:ext cx="7863480" cy="662400"/>
            <a:chOff x="912240" y="520560"/>
            <a:chExt cx="7863480" cy="662400"/>
          </a:xfrm>
        </p:grpSpPr>
        <p:sp>
          <p:nvSpPr>
            <p:cNvPr id="84" name="Text Box 3"/>
            <p:cNvSpPr/>
            <p:nvPr/>
          </p:nvSpPr>
          <p:spPr>
            <a:xfrm>
              <a:off x="912240" y="520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"/>
            <p:cNvSpPr/>
            <p:nvPr/>
          </p:nvSpPr>
          <p:spPr>
            <a:xfrm>
              <a:off x="1079280" y="60156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部积分公式的特点：等式两边 </a:t>
              </a:r>
              <a:r>
                <a:rPr b="1" i="1" lang="zh-CN" sz="32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,</a:t>
              </a:r>
              <a:r>
                <a:rPr b="1" i="1" lang="zh-CN" sz="3200" spc="-1" strike="noStrike">
                  <a:solidFill>
                    <a:srgbClr val="0000ff"/>
                  </a:solidFill>
                  <a:latin typeface="Times New Roman"/>
                </a:rPr>
                <a:t>v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互换位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"/>
          <p:cNvGrpSpPr/>
          <p:nvPr/>
        </p:nvGrpSpPr>
        <p:grpSpPr>
          <a:xfrm>
            <a:off x="2495520" y="1104840"/>
            <a:ext cx="5546880" cy="596880"/>
            <a:chOff x="2495520" y="1104840"/>
            <a:chExt cx="5546880" cy="596880"/>
          </a:xfrm>
        </p:grpSpPr>
        <p:sp>
          <p:nvSpPr>
            <p:cNvPr id="87" name="Text Box 6"/>
            <p:cNvSpPr/>
            <p:nvPr/>
          </p:nvSpPr>
          <p:spPr>
            <a:xfrm>
              <a:off x="2495520" y="114912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部积分公式的作用：当左边的积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7"/>
                <p:cNvSpPr txBox="1"/>
                <p:nvPr/>
              </p:nvSpPr>
              <p:spPr>
                <a:xfrm>
                  <a:off x="7210440" y="1104840"/>
                  <a:ext cx="8319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udv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Group 8"/>
          <p:cNvGrpSpPr/>
          <p:nvPr/>
        </p:nvGrpSpPr>
        <p:grpSpPr>
          <a:xfrm>
            <a:off x="2211840" y="1714680"/>
            <a:ext cx="5688000" cy="609480"/>
            <a:chOff x="2211840" y="1714680"/>
            <a:chExt cx="5688000" cy="609480"/>
          </a:xfrm>
        </p:grpSpPr>
        <p:sp>
          <p:nvSpPr>
            <p:cNvPr id="90" name="Text Box 9"/>
            <p:cNvSpPr/>
            <p:nvPr/>
          </p:nvSpPr>
          <p:spPr>
            <a:xfrm>
              <a:off x="2211840" y="171468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不易求得，而右边的积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0"/>
                <p:cNvSpPr txBox="1"/>
                <p:nvPr/>
              </p:nvSpPr>
              <p:spPr>
                <a:xfrm>
                  <a:off x="5691240" y="1727280"/>
                  <a:ext cx="8139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v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2" name="Text Box 11"/>
            <p:cNvSpPr/>
            <p:nvPr/>
          </p:nvSpPr>
          <p:spPr>
            <a:xfrm>
              <a:off x="6865560" y="1714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容易求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2"/>
          <p:cNvSpPr/>
          <p:nvPr/>
        </p:nvSpPr>
        <p:spPr>
          <a:xfrm>
            <a:off x="1419120" y="22478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分部积分公式——化难为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974880" y="3535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积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3070080" y="3505320"/>
                <a:ext cx="18162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 Box 15"/>
          <p:cNvSpPr/>
          <p:nvPr/>
        </p:nvSpPr>
        <p:spPr>
          <a:xfrm>
            <a:off x="974880" y="4203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651040" y="4189320"/>
            <a:ext cx="1981080" cy="520560"/>
            <a:chOff x="2651040" y="4189320"/>
            <a:chExt cx="1981080" cy="520560"/>
          </a:xfrm>
        </p:grpSpPr>
        <p:sp>
          <p:nvSpPr>
            <p:cNvPr id="98" name="Text Box 17"/>
            <p:cNvSpPr/>
            <p:nvPr/>
          </p:nvSpPr>
          <p:spPr>
            <a:xfrm>
              <a:off x="2651040" y="41893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18"/>
                <p:cNvSpPr txBox="1"/>
                <p:nvPr/>
              </p:nvSpPr>
              <p:spPr>
                <a:xfrm>
                  <a:off x="3120840" y="4373640"/>
                  <a:ext cx="15112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Object 19"/>
              <p:cNvSpPr txBox="1"/>
              <p:nvPr/>
            </p:nvSpPr>
            <p:spPr>
              <a:xfrm>
                <a:off x="5064120" y="4030560"/>
                <a:ext cx="2616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0"/>
              <p:cNvSpPr txBox="1"/>
              <p:nvPr/>
            </p:nvSpPr>
            <p:spPr>
              <a:xfrm>
                <a:off x="1495440" y="4991040"/>
                <a:ext cx="1701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1"/>
              <p:cNvSpPr txBox="1"/>
              <p:nvPr/>
            </p:nvSpPr>
            <p:spPr>
              <a:xfrm>
                <a:off x="3298680" y="4818240"/>
                <a:ext cx="3746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3" name="Group 22"/>
          <p:cNvGrpSpPr/>
          <p:nvPr/>
        </p:nvGrpSpPr>
        <p:grpSpPr>
          <a:xfrm>
            <a:off x="1432080" y="5821200"/>
            <a:ext cx="6172200" cy="520560"/>
            <a:chOff x="1432080" y="5821200"/>
            <a:chExt cx="6172200" cy="520560"/>
          </a:xfrm>
        </p:grpSpPr>
        <p:sp>
          <p:nvSpPr>
            <p:cNvPr id="104" name="Text Box 23"/>
            <p:cNvSpPr/>
            <p:nvPr/>
          </p:nvSpPr>
          <p:spPr>
            <a:xfrm>
              <a:off x="1432080" y="5821200"/>
              <a:ext cx="61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显然，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选择不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积分更难进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4"/>
                <p:cNvSpPr txBox="1"/>
                <p:nvPr/>
              </p:nvSpPr>
              <p:spPr>
                <a:xfrm>
                  <a:off x="2498760" y="5897520"/>
                  <a:ext cx="6955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Text Box 25"/>
          <p:cNvSpPr/>
          <p:nvPr/>
        </p:nvSpPr>
        <p:spPr>
          <a:xfrm>
            <a:off x="885960" y="2871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例题分类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38080" y="457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514600" y="474840"/>
            <a:ext cx="1498680" cy="520560"/>
            <a:chOff x="2514600" y="474840"/>
            <a:chExt cx="1498680" cy="520560"/>
          </a:xfrm>
        </p:grpSpPr>
        <p:sp>
          <p:nvSpPr>
            <p:cNvPr id="110" name="Text Box 4"/>
            <p:cNvSpPr/>
            <p:nvPr/>
          </p:nvSpPr>
          <p:spPr>
            <a:xfrm>
              <a:off x="2514600" y="4748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5"/>
                <p:cNvSpPr txBox="1"/>
                <p:nvPr/>
              </p:nvSpPr>
              <p:spPr>
                <a:xfrm>
                  <a:off x="3048120" y="658800"/>
                  <a:ext cx="965160" cy="31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295880" y="582480"/>
                <a:ext cx="33526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1359000" y="1136520"/>
                <a:ext cx="1701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3035160" y="1168560"/>
                <a:ext cx="1803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4832280" y="1149480"/>
                <a:ext cx="3060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1403280" y="2043000"/>
                <a:ext cx="32130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11"/>
          <p:cNvSpPr/>
          <p:nvPr/>
        </p:nvSpPr>
        <p:spPr>
          <a:xfrm>
            <a:off x="2520360" y="2971800"/>
            <a:ext cx="491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部积分公式运用成败的关键是恰当地选择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来说， 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的原则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470960" y="4221000"/>
            <a:ext cx="24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容易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813320" y="4876920"/>
            <a:ext cx="4550040" cy="604800"/>
            <a:chOff x="1813320" y="4876920"/>
            <a:chExt cx="4550040" cy="604800"/>
          </a:xfrm>
        </p:grpSpPr>
        <p:sp>
          <p:nvSpPr>
            <p:cNvPr id="120" name="Text Box 14"/>
            <p:cNvSpPr/>
            <p:nvPr/>
          </p:nvSpPr>
          <p:spPr>
            <a:xfrm>
              <a:off x="1813320" y="4924440"/>
              <a:ext cx="455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新积分         较旧积分         容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Object 15"/>
            <p:cNvGraphicFramePr/>
            <p:nvPr/>
          </p:nvGraphicFramePr>
          <p:xfrm>
            <a:off x="3200400" y="4876920"/>
            <a:ext cx="762120" cy="60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4876920"/>
                      <a:ext cx="76212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Object 16"/>
            <p:cNvGraphicFramePr/>
            <p:nvPr/>
          </p:nvGraphicFramePr>
          <p:xfrm>
            <a:off x="5410080" y="4876920"/>
            <a:ext cx="762120" cy="60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4876920"/>
                      <a:ext cx="76212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TextBox 8"/>
          <p:cNvSpPr/>
          <p:nvPr/>
        </p:nvSpPr>
        <p:spPr>
          <a:xfrm>
            <a:off x="805824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1:15:35Z</dcterms:created>
  <dc:creator/>
  <dc:description/>
  <cp:keywords/>
  <dc:language>en-US</dc:language>
  <cp:lastModifiedBy>Windows User</cp:lastModifiedBy>
  <dcterms:modified xsi:type="dcterms:W3CDTF">2018-04-05T03:00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