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14.wmf" ContentType="image/x-wmf"/>
  <Override PartName="/ppt/media/image39.wmf" ContentType="image/x-wmf"/>
  <Override PartName="/ppt/media/image9.wmf" ContentType="image/x-wmf"/>
  <Override PartName="/ppt/media/image48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60.wmf" ContentType="image/x-wmf"/>
  <Override PartName="/ppt/media/image25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3.jpeg" ContentType="image/jpeg"/>
  <Override PartName="/ppt/media/image28.wmf" ContentType="image/x-wmf"/>
  <Override PartName="/ppt/media/image27.wmf" ContentType="image/x-wmf"/>
  <Override PartName="/ppt/media/image58.wmf" ContentType="image/x-wmf"/>
  <Override PartName="/ppt/media/image21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C993-0F02-48AB-B872-6C578A2388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85F7-D427-4424-8097-DB51940B7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AFE-4177-4393-BD57-70F8C488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17E-1AFF-4E31-8C5D-39B83DE0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167-0053-4DF3-B142-6BA8521F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A58-7F14-46D2-8948-5BB5AC64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F50-B81C-49A4-BEF1-D185AB8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62F-7965-4E86-99B1-1BB59FE0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F37-E80C-48DF-9B86-E6732BE3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EAF-3D02-4E24-B9A5-AC0BD704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151-F510-4983-8576-5CDE8505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A33-DE48-4426-B580-D0F2A1EE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A4F-5950-4C10-9312-0D3BFBD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C2D-2866-4A69-9593-22673801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256-E16B-4FA6-A49D-040E580A2F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24.wmf"/><Relationship Id="rId17" Type="http://schemas.openxmlformats.org/officeDocument/2006/relationships/image" Target="../media/image25.wmf"/><Relationship Id="rId18" Type="http://schemas.openxmlformats.org/officeDocument/2006/relationships/image" Target="../media/image24.wmf"/><Relationship Id="rId19" Type="http://schemas.openxmlformats.org/officeDocument/2006/relationships/image" Target="../media/image25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6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13.wmf"/><Relationship Id="rId6" Type="http://schemas.openxmlformats.org/officeDocument/2006/relationships/image" Target="../media/image18.wmf"/><Relationship Id="rId7" Type="http://schemas.openxmlformats.org/officeDocument/2006/relationships/image" Target="../media/image17.wmf"/><Relationship Id="rId8" Type="http://schemas.openxmlformats.org/officeDocument/2006/relationships/image" Target="../media/image21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10.wmf"/><Relationship Id="rId9" Type="http://schemas.openxmlformats.org/officeDocument/2006/relationships/image" Target="../media/image47.wmf"/><Relationship Id="rId10" Type="http://schemas.openxmlformats.org/officeDocument/2006/relationships/image" Target="../media/image48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60.wmf"/><Relationship Id="rId10" Type="http://schemas.openxmlformats.org/officeDocument/2006/relationships/image" Target="../media/image6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914400" y="2209680"/>
            <a:ext cx="502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46480" y="2214000"/>
            <a:ext cx="44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2.5 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中值定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51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16"/>
            <p:cNvSpPr/>
            <p:nvPr/>
          </p:nvSpPr>
          <p:spPr>
            <a:xfrm>
              <a:off x="676080" y="5771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8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9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685800" y="533520"/>
            <a:ext cx="754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注意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定理的三个条件中有一个不满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定理的结论就可能不成立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图中四个图形均不存在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38320" cy="457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8"/>
          <p:cNvGraphicFramePr/>
          <p:nvPr/>
        </p:nvGraphicFramePr>
        <p:xfrm>
          <a:off x="6477120" y="1676520"/>
          <a:ext cx="12794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1676520"/>
                    <a:ext cx="12794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10"/>
          <p:cNvGrpSpPr/>
          <p:nvPr/>
        </p:nvGrpSpPr>
        <p:grpSpPr>
          <a:xfrm>
            <a:off x="1447920" y="2209680"/>
            <a:ext cx="5724360" cy="4235400"/>
            <a:chOff x="1447920" y="2209680"/>
            <a:chExt cx="5724360" cy="4235400"/>
          </a:xfrm>
        </p:grpSpPr>
        <p:sp>
          <p:nvSpPr>
            <p:cNvPr id="123" name="AutoShape 11"/>
            <p:cNvSpPr/>
            <p:nvPr/>
          </p:nvSpPr>
          <p:spPr>
            <a:xfrm>
              <a:off x="1447920" y="2209680"/>
              <a:ext cx="572436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5357880" y="2643120"/>
              <a:ext cx="836640" cy="48384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080" h="624">
                  <a:moveTo>
                    <a:pt x="0" y="624"/>
                  </a:moveTo>
                  <a:cubicBezTo>
                    <a:pt x="105" y="507"/>
                    <a:pt x="210" y="390"/>
                    <a:pt x="360" y="312"/>
                  </a:cubicBezTo>
                  <a:cubicBezTo>
                    <a:pt x="510" y="234"/>
                    <a:pt x="780" y="208"/>
                    <a:pt x="900" y="156"/>
                  </a:cubicBezTo>
                  <a:cubicBezTo>
                    <a:pt x="1020" y="104"/>
                    <a:pt x="1050" y="26"/>
                    <a:pt x="108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6194160" y="3140280"/>
              <a:ext cx="360" cy="24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>
              <a:off x="1726920" y="3298680"/>
              <a:ext cx="195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 flipV="1">
              <a:off x="2565360" y="2330640"/>
              <a:ext cx="0" cy="145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2145600" y="2514240"/>
              <a:ext cx="593280" cy="60480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765" h="780">
                  <a:moveTo>
                    <a:pt x="0" y="780"/>
                  </a:moveTo>
                  <a:cubicBezTo>
                    <a:pt x="65" y="758"/>
                    <a:pt x="278" y="727"/>
                    <a:pt x="390" y="660"/>
                  </a:cubicBezTo>
                  <a:cubicBezTo>
                    <a:pt x="502" y="593"/>
                    <a:pt x="612" y="485"/>
                    <a:pt x="675" y="375"/>
                  </a:cubicBezTo>
                  <a:cubicBezTo>
                    <a:pt x="738" y="265"/>
                    <a:pt x="746" y="78"/>
                    <a:pt x="765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2844720" y="2450880"/>
              <a:ext cx="603360" cy="7048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779" h="907">
                  <a:moveTo>
                    <a:pt x="779" y="907"/>
                  </a:moveTo>
                  <a:cubicBezTo>
                    <a:pt x="712" y="877"/>
                    <a:pt x="488" y="801"/>
                    <a:pt x="374" y="712"/>
                  </a:cubicBezTo>
                  <a:cubicBezTo>
                    <a:pt x="260" y="623"/>
                    <a:pt x="155" y="494"/>
                    <a:pt x="93" y="375"/>
                  </a:cubicBezTo>
                  <a:cubicBezTo>
                    <a:pt x="31" y="256"/>
                    <a:pt x="20" y="78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2797560" y="2330640"/>
              <a:ext cx="360" cy="968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2145600" y="3096360"/>
              <a:ext cx="720" cy="207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3425760" y="3165840"/>
              <a:ext cx="720" cy="12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4938120" y="3379320"/>
              <a:ext cx="1814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 flipV="1">
              <a:off x="5497560" y="2412360"/>
              <a:ext cx="0" cy="13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357160" y="3138120"/>
              <a:ext cx="360" cy="24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4950000" y="5356080"/>
              <a:ext cx="181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 flipV="1">
              <a:off x="5508720" y="4387680"/>
              <a:ext cx="0" cy="13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5357880" y="4630680"/>
              <a:ext cx="836640" cy="48240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080" h="624">
                  <a:moveTo>
                    <a:pt x="0" y="624"/>
                  </a:moveTo>
                  <a:cubicBezTo>
                    <a:pt x="65" y="561"/>
                    <a:pt x="263" y="337"/>
                    <a:pt x="390" y="244"/>
                  </a:cubicBezTo>
                  <a:cubicBezTo>
                    <a:pt x="517" y="151"/>
                    <a:pt x="650" y="105"/>
                    <a:pt x="765" y="64"/>
                  </a:cubicBezTo>
                  <a:cubicBezTo>
                    <a:pt x="880" y="23"/>
                    <a:pt x="1015" y="13"/>
                    <a:pt x="108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5369040" y="5113800"/>
              <a:ext cx="360" cy="24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206400" y="4629960"/>
              <a:ext cx="720" cy="36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6206400" y="4992840"/>
              <a:ext cx="720" cy="36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0"/>
            <p:cNvSpPr/>
            <p:nvPr/>
          </p:nvSpPr>
          <p:spPr>
            <a:xfrm>
              <a:off x="1761840" y="5344920"/>
              <a:ext cx="195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 flipV="1">
              <a:off x="2600280" y="4375800"/>
              <a:ext cx="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 rot="15345000">
              <a:off x="2124360" y="4473360"/>
              <a:ext cx="668520" cy="59724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765" h="780">
                  <a:moveTo>
                    <a:pt x="0" y="780"/>
                  </a:moveTo>
                  <a:cubicBezTo>
                    <a:pt x="65" y="758"/>
                    <a:pt x="278" y="727"/>
                    <a:pt x="390" y="660"/>
                  </a:cubicBezTo>
                  <a:cubicBezTo>
                    <a:pt x="502" y="593"/>
                    <a:pt x="612" y="485"/>
                    <a:pt x="675" y="375"/>
                  </a:cubicBezTo>
                  <a:cubicBezTo>
                    <a:pt x="738" y="265"/>
                    <a:pt x="746" y="78"/>
                    <a:pt x="765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3"/>
            <p:cNvSpPr/>
            <p:nvPr/>
          </p:nvSpPr>
          <p:spPr>
            <a:xfrm rot="6304800">
              <a:off x="2857680" y="4533480"/>
              <a:ext cx="628200" cy="539640"/>
            </a:xfrm>
            <a:custGeom>
              <a:avLst/>
              <a:gdLst>
                <a:gd name="textAreaLeft" fmla="*/ 0 w 628200"/>
                <a:gd name="textAreaRight" fmla="*/ 628200 w 6282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779" h="907">
                  <a:moveTo>
                    <a:pt x="779" y="907"/>
                  </a:moveTo>
                  <a:cubicBezTo>
                    <a:pt x="712" y="877"/>
                    <a:pt x="488" y="801"/>
                    <a:pt x="374" y="712"/>
                  </a:cubicBezTo>
                  <a:cubicBezTo>
                    <a:pt x="260" y="623"/>
                    <a:pt x="155" y="494"/>
                    <a:pt x="93" y="375"/>
                  </a:cubicBezTo>
                  <a:cubicBezTo>
                    <a:pt x="31" y="256"/>
                    <a:pt x="20" y="78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2832480" y="5061240"/>
              <a:ext cx="360" cy="28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2086920" y="4538160"/>
              <a:ext cx="1440" cy="80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3507120" y="4574880"/>
              <a:ext cx="720" cy="75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2122560" y="3719880"/>
              <a:ext cx="13960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264280" y="3719880"/>
              <a:ext cx="13492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2203920" y="5730840"/>
              <a:ext cx="125640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5555160" y="5707440"/>
              <a:ext cx="7444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4158000" y="6130800"/>
              <a:ext cx="8377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 flipH="1">
              <a:off x="6194880" y="2619360"/>
              <a:ext cx="10800" cy="53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43" descr=""/>
            <p:cNvPicPr/>
            <p:nvPr/>
          </p:nvPicPr>
          <p:blipFill>
            <a:blip r:embed="rId4"/>
            <a:stretch/>
          </p:blipFill>
          <p:spPr>
            <a:xfrm>
              <a:off x="5507640" y="5344200"/>
              <a:ext cx="1861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4" descr=""/>
            <p:cNvPicPr/>
            <p:nvPr/>
          </p:nvPicPr>
          <p:blipFill>
            <a:blip r:embed="rId5"/>
            <a:stretch/>
          </p:blipFill>
          <p:spPr>
            <a:xfrm>
              <a:off x="5507640" y="3375360"/>
              <a:ext cx="1861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5" descr=""/>
            <p:cNvPicPr/>
            <p:nvPr/>
          </p:nvPicPr>
          <p:blipFill>
            <a:blip r:embed="rId6"/>
            <a:stretch/>
          </p:blipFill>
          <p:spPr>
            <a:xfrm>
              <a:off x="2366280" y="3312720"/>
              <a:ext cx="18576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6" descr=""/>
            <p:cNvPicPr/>
            <p:nvPr/>
          </p:nvPicPr>
          <p:blipFill>
            <a:blip r:embed="rId7"/>
            <a:stretch/>
          </p:blipFill>
          <p:spPr>
            <a:xfrm>
              <a:off x="2389320" y="5381640"/>
              <a:ext cx="18576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7" descr=""/>
            <p:cNvPicPr/>
            <p:nvPr/>
          </p:nvPicPr>
          <p:blipFill>
            <a:blip r:embed="rId8"/>
            <a:stretch/>
          </p:blipFill>
          <p:spPr>
            <a:xfrm>
              <a:off x="3448080" y="3335760"/>
              <a:ext cx="21636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48" descr=""/>
            <p:cNvPicPr/>
            <p:nvPr/>
          </p:nvPicPr>
          <p:blipFill>
            <a:blip r:embed="rId9"/>
            <a:stretch/>
          </p:blipFill>
          <p:spPr>
            <a:xfrm>
              <a:off x="6578280" y="3417480"/>
              <a:ext cx="21636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9" descr=""/>
            <p:cNvPicPr/>
            <p:nvPr/>
          </p:nvPicPr>
          <p:blipFill>
            <a:blip r:embed="rId10"/>
            <a:stretch/>
          </p:blipFill>
          <p:spPr>
            <a:xfrm>
              <a:off x="3587760" y="5137200"/>
              <a:ext cx="21636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0" descr=""/>
            <p:cNvPicPr/>
            <p:nvPr/>
          </p:nvPicPr>
          <p:blipFill>
            <a:blip r:embed="rId11"/>
            <a:stretch/>
          </p:blipFill>
          <p:spPr>
            <a:xfrm>
              <a:off x="6508440" y="5393160"/>
              <a:ext cx="21636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51" descr=""/>
            <p:cNvPicPr/>
            <p:nvPr/>
          </p:nvPicPr>
          <p:blipFill>
            <a:blip r:embed="rId12"/>
            <a:stretch/>
          </p:blipFill>
          <p:spPr>
            <a:xfrm>
              <a:off x="5321520" y="4464720"/>
              <a:ext cx="170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2" descr=""/>
            <p:cNvPicPr/>
            <p:nvPr/>
          </p:nvPicPr>
          <p:blipFill>
            <a:blip r:embed="rId13"/>
            <a:stretch/>
          </p:blipFill>
          <p:spPr>
            <a:xfrm>
              <a:off x="2436120" y="4359960"/>
              <a:ext cx="170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3" descr=""/>
            <p:cNvPicPr/>
            <p:nvPr/>
          </p:nvPicPr>
          <p:blipFill>
            <a:blip r:embed="rId14"/>
            <a:stretch/>
          </p:blipFill>
          <p:spPr>
            <a:xfrm>
              <a:off x="2377800" y="2391120"/>
              <a:ext cx="170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54" descr=""/>
            <p:cNvPicPr/>
            <p:nvPr/>
          </p:nvPicPr>
          <p:blipFill>
            <a:blip r:embed="rId15"/>
            <a:stretch/>
          </p:blipFill>
          <p:spPr>
            <a:xfrm>
              <a:off x="5302080" y="2491200"/>
              <a:ext cx="1702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55"/>
            <p:cNvSpPr/>
            <p:nvPr/>
          </p:nvSpPr>
          <p:spPr>
            <a:xfrm>
              <a:off x="6170760" y="2610000"/>
              <a:ext cx="51840" cy="4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56" descr=""/>
            <p:cNvPicPr/>
            <p:nvPr/>
          </p:nvPicPr>
          <p:blipFill>
            <a:blip r:embed="rId16"/>
            <a:stretch/>
          </p:blipFill>
          <p:spPr>
            <a:xfrm>
              <a:off x="2075040" y="3312720"/>
              <a:ext cx="154800" cy="1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57" descr=""/>
            <p:cNvPicPr/>
            <p:nvPr/>
          </p:nvPicPr>
          <p:blipFill>
            <a:blip r:embed="rId17"/>
            <a:stretch/>
          </p:blipFill>
          <p:spPr>
            <a:xfrm>
              <a:off x="3355200" y="3289320"/>
              <a:ext cx="15480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8" descr=""/>
            <p:cNvPicPr/>
            <p:nvPr/>
          </p:nvPicPr>
          <p:blipFill>
            <a:blip r:embed="rId18"/>
            <a:stretch/>
          </p:blipFill>
          <p:spPr>
            <a:xfrm>
              <a:off x="5286600" y="3371040"/>
              <a:ext cx="154800" cy="1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9" descr=""/>
            <p:cNvPicPr/>
            <p:nvPr/>
          </p:nvPicPr>
          <p:blipFill>
            <a:blip r:embed="rId19"/>
            <a:stretch/>
          </p:blipFill>
          <p:spPr>
            <a:xfrm>
              <a:off x="6135840" y="3359160"/>
              <a:ext cx="15480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0" descr=""/>
            <p:cNvPicPr/>
            <p:nvPr/>
          </p:nvPicPr>
          <p:blipFill>
            <a:blip r:embed="rId20"/>
            <a:stretch/>
          </p:blipFill>
          <p:spPr>
            <a:xfrm>
              <a:off x="2017080" y="5353560"/>
              <a:ext cx="154800" cy="1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61" descr=""/>
            <p:cNvPicPr/>
            <p:nvPr/>
          </p:nvPicPr>
          <p:blipFill>
            <a:blip r:embed="rId21"/>
            <a:stretch/>
          </p:blipFill>
          <p:spPr>
            <a:xfrm>
              <a:off x="3436560" y="5335200"/>
              <a:ext cx="15480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2" descr=""/>
            <p:cNvPicPr/>
            <p:nvPr/>
          </p:nvPicPr>
          <p:blipFill>
            <a:blip r:embed="rId22"/>
            <a:stretch/>
          </p:blipFill>
          <p:spPr>
            <a:xfrm>
              <a:off x="5298480" y="5369760"/>
              <a:ext cx="154800" cy="1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3" descr=""/>
            <p:cNvPicPr/>
            <p:nvPr/>
          </p:nvPicPr>
          <p:blipFill>
            <a:blip r:embed="rId23"/>
            <a:stretch/>
          </p:blipFill>
          <p:spPr>
            <a:xfrm>
              <a:off x="6147720" y="5365440"/>
              <a:ext cx="15480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4" descr=""/>
            <p:cNvPicPr/>
            <p:nvPr/>
          </p:nvPicPr>
          <p:blipFill>
            <a:blip r:embed="rId24"/>
            <a:stretch/>
          </p:blipFill>
          <p:spPr>
            <a:xfrm>
              <a:off x="2761920" y="5335200"/>
              <a:ext cx="13932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6"/>
          <p:cNvSpPr/>
          <p:nvPr/>
        </p:nvSpPr>
        <p:spPr>
          <a:xfrm>
            <a:off x="1195560" y="170964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3"/>
          <p:cNvSpPr/>
          <p:nvPr/>
        </p:nvSpPr>
        <p:spPr>
          <a:xfrm>
            <a:off x="1042920" y="1100160"/>
            <a:ext cx="678204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二、拉格朗日（       ）中值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若函数      满足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闭区间     上连续；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开区间    内可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在      内至少存在一点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得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4"/>
          <p:cNvGraphicFramePr/>
          <p:nvPr/>
        </p:nvGraphicFramePr>
        <p:xfrm>
          <a:off x="3328920" y="1176480"/>
          <a:ext cx="99072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9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176480"/>
                    <a:ext cx="99072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Picture 96" descr=""/>
          <p:cNvPicPr/>
          <p:nvPr/>
        </p:nvPicPr>
        <p:blipFill>
          <a:blip r:embed="rId3"/>
          <a:stretch/>
        </p:blipFill>
        <p:spPr>
          <a:xfrm>
            <a:off x="1962000" y="1881360"/>
            <a:ext cx="1060560" cy="42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7" descr=""/>
          <p:cNvPicPr/>
          <p:nvPr/>
        </p:nvPicPr>
        <p:blipFill>
          <a:blip r:embed="rId4"/>
          <a:stretch/>
        </p:blipFill>
        <p:spPr>
          <a:xfrm>
            <a:off x="2952720" y="2606760"/>
            <a:ext cx="787320" cy="422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9" descr=""/>
          <p:cNvPicPr/>
          <p:nvPr/>
        </p:nvPicPr>
        <p:blipFill>
          <a:blip r:embed="rId5"/>
          <a:stretch/>
        </p:blipFill>
        <p:spPr>
          <a:xfrm>
            <a:off x="2962440" y="3336840"/>
            <a:ext cx="634680" cy="435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0" descr=""/>
          <p:cNvPicPr/>
          <p:nvPr/>
        </p:nvPicPr>
        <p:blipFill>
          <a:blip r:embed="rId6"/>
          <a:stretch/>
        </p:blipFill>
        <p:spPr>
          <a:xfrm>
            <a:off x="1712880" y="4075200"/>
            <a:ext cx="1054080" cy="423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1" descr=""/>
          <p:cNvPicPr/>
          <p:nvPr/>
        </p:nvPicPr>
        <p:blipFill>
          <a:blip r:embed="rId7"/>
          <a:stretch/>
        </p:blipFill>
        <p:spPr>
          <a:xfrm>
            <a:off x="4821120" y="4094280"/>
            <a:ext cx="330480" cy="382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3" descr=""/>
          <p:cNvPicPr/>
          <p:nvPr/>
        </p:nvPicPr>
        <p:blipFill>
          <a:blip r:embed="rId8"/>
          <a:stretch/>
        </p:blipFill>
        <p:spPr>
          <a:xfrm>
            <a:off x="5867280" y="3949560"/>
            <a:ext cx="2424240" cy="652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4" descr=""/>
          <p:cNvPicPr/>
          <p:nvPr/>
        </p:nvPicPr>
        <p:blipFill>
          <a:blip r:embed="rId9"/>
          <a:stretch/>
        </p:blipFill>
        <p:spPr>
          <a:xfrm>
            <a:off x="1401840" y="4807080"/>
            <a:ext cx="4978440" cy="4093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4"/>
          <p:cNvGrpSpPr/>
          <p:nvPr/>
        </p:nvGrpSpPr>
        <p:grpSpPr>
          <a:xfrm>
            <a:off x="990720" y="1371600"/>
            <a:ext cx="3962160" cy="3941640"/>
            <a:chOff x="990720" y="1371600"/>
            <a:chExt cx="3962160" cy="3941640"/>
          </a:xfrm>
        </p:grpSpPr>
        <p:sp>
          <p:nvSpPr>
            <p:cNvPr id="192" name="AutoShape 5"/>
            <p:cNvSpPr/>
            <p:nvPr/>
          </p:nvSpPr>
          <p:spPr>
            <a:xfrm>
              <a:off x="990720" y="1371600"/>
              <a:ext cx="3962160" cy="39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"/>
            <p:cNvSpPr/>
            <p:nvPr/>
          </p:nvSpPr>
          <p:spPr>
            <a:xfrm>
              <a:off x="990720" y="3519000"/>
              <a:ext cx="379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"/>
            <p:cNvSpPr/>
            <p:nvPr/>
          </p:nvSpPr>
          <p:spPr>
            <a:xfrm flipV="1">
              <a:off x="2329920" y="1583640"/>
              <a:ext cx="0" cy="26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1660320" y="1969200"/>
              <a:ext cx="2232360" cy="11624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1162440"/>
                <a:gd name="textAreaBottom" fmla="*/ 1162800 h 1162440"/>
              </a:gdLst>
              <a:ahLst/>
              <a:rect l="textAreaLeft" t="textAreaTop" r="textAreaRight" b="textAreaBottom"/>
              <a:pathLst>
                <a:path w="1800" h="936">
                  <a:moveTo>
                    <a:pt x="0" y="936"/>
                  </a:moveTo>
                  <a:cubicBezTo>
                    <a:pt x="90" y="728"/>
                    <a:pt x="180" y="520"/>
                    <a:pt x="360" y="468"/>
                  </a:cubicBezTo>
                  <a:cubicBezTo>
                    <a:pt x="540" y="416"/>
                    <a:pt x="900" y="598"/>
                    <a:pt x="1080" y="624"/>
                  </a:cubicBezTo>
                  <a:cubicBezTo>
                    <a:pt x="1260" y="650"/>
                    <a:pt x="1320" y="728"/>
                    <a:pt x="1440" y="624"/>
                  </a:cubicBezTo>
                  <a:cubicBezTo>
                    <a:pt x="1560" y="520"/>
                    <a:pt x="1680" y="260"/>
                    <a:pt x="180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V="1">
              <a:off x="1660320" y="1968840"/>
              <a:ext cx="2232360" cy="1162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 flipV="1">
              <a:off x="1660320" y="2431800"/>
              <a:ext cx="595080" cy="351000"/>
            </a:xfrm>
            <a:prstGeom prst="line">
              <a:avLst/>
            </a:prstGeom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"/>
            <p:cNvSpPr/>
            <p:nvPr/>
          </p:nvSpPr>
          <p:spPr>
            <a:xfrm flipV="1">
              <a:off x="3111120" y="2605320"/>
              <a:ext cx="595080" cy="351000"/>
            </a:xfrm>
            <a:prstGeom prst="line">
              <a:avLst/>
            </a:prstGeom>
            <a:ln w="255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1660320" y="313200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>
              <a:off x="3892680" y="1970640"/>
              <a:ext cx="0" cy="154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1660320" y="3132000"/>
              <a:ext cx="223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>
              <a:off x="2013480" y="2569680"/>
              <a:ext cx="1080" cy="96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16" descr=""/>
            <p:cNvPicPr/>
            <p:nvPr/>
          </p:nvPicPr>
          <p:blipFill>
            <a:blip r:embed="rId1"/>
            <a:stretch/>
          </p:blipFill>
          <p:spPr>
            <a:xfrm>
              <a:off x="1724760" y="2174040"/>
              <a:ext cx="345600" cy="4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7" descr=""/>
            <p:cNvPicPr/>
            <p:nvPr/>
          </p:nvPicPr>
          <p:blipFill>
            <a:blip r:embed="rId2"/>
            <a:stretch/>
          </p:blipFill>
          <p:spPr>
            <a:xfrm>
              <a:off x="3353040" y="2722680"/>
              <a:ext cx="3718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8"/>
            <p:cNvSpPr/>
            <p:nvPr/>
          </p:nvSpPr>
          <p:spPr>
            <a:xfrm>
              <a:off x="2329920" y="4468320"/>
              <a:ext cx="139500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9" descr=""/>
            <p:cNvPicPr/>
            <p:nvPr/>
          </p:nvPicPr>
          <p:blipFill>
            <a:blip r:embed="rId3"/>
            <a:stretch/>
          </p:blipFill>
          <p:spPr>
            <a:xfrm>
              <a:off x="1567440" y="3500640"/>
              <a:ext cx="248040" cy="2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0" descr=""/>
            <p:cNvPicPr/>
            <p:nvPr/>
          </p:nvPicPr>
          <p:blipFill>
            <a:blip r:embed="rId4"/>
            <a:stretch/>
          </p:blipFill>
          <p:spPr>
            <a:xfrm>
              <a:off x="3780720" y="3489120"/>
              <a:ext cx="248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1" descr=""/>
            <p:cNvPicPr/>
            <p:nvPr/>
          </p:nvPicPr>
          <p:blipFill>
            <a:blip r:embed="rId5"/>
            <a:stretch/>
          </p:blipFill>
          <p:spPr>
            <a:xfrm>
              <a:off x="2340000" y="3501720"/>
              <a:ext cx="29736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2" descr=""/>
            <p:cNvPicPr/>
            <p:nvPr/>
          </p:nvPicPr>
          <p:blipFill>
            <a:blip r:embed="rId6"/>
            <a:stretch/>
          </p:blipFill>
          <p:spPr>
            <a:xfrm>
              <a:off x="1306800" y="2982960"/>
              <a:ext cx="29736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3" descr=""/>
            <p:cNvPicPr/>
            <p:nvPr/>
          </p:nvPicPr>
          <p:blipFill>
            <a:blip r:embed="rId7"/>
            <a:stretch/>
          </p:blipFill>
          <p:spPr>
            <a:xfrm>
              <a:off x="3929760" y="1832760"/>
              <a:ext cx="297360" cy="3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4" descr=""/>
            <p:cNvPicPr/>
            <p:nvPr/>
          </p:nvPicPr>
          <p:blipFill>
            <a:blip r:embed="rId8"/>
            <a:stretch/>
          </p:blipFill>
          <p:spPr>
            <a:xfrm>
              <a:off x="1883520" y="3526560"/>
              <a:ext cx="24804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5" descr=""/>
            <p:cNvPicPr/>
            <p:nvPr/>
          </p:nvPicPr>
          <p:blipFill>
            <a:blip r:embed="rId9"/>
            <a:stretch/>
          </p:blipFill>
          <p:spPr>
            <a:xfrm>
              <a:off x="4283280" y="3564000"/>
              <a:ext cx="3456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6" descr=""/>
            <p:cNvPicPr/>
            <p:nvPr/>
          </p:nvPicPr>
          <p:blipFill>
            <a:blip r:embed="rId10"/>
            <a:stretch/>
          </p:blipFill>
          <p:spPr>
            <a:xfrm>
              <a:off x="2441520" y="1546200"/>
              <a:ext cx="27288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Text Box 28"/>
          <p:cNvSpPr/>
          <p:nvPr/>
        </p:nvSpPr>
        <p:spPr>
          <a:xfrm>
            <a:off x="5029200" y="1981080"/>
            <a:ext cx="31240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切线与弦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9" descr="3D人问号"/>
          <p:cNvPicPr/>
          <p:nvPr/>
        </p:nvPicPr>
        <p:blipFill>
          <a:blip r:embed="rId11"/>
          <a:stretch/>
        </p:blipFill>
        <p:spPr>
          <a:xfrm>
            <a:off x="4343400" y="5105520"/>
            <a:ext cx="522360" cy="7617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1"/>
          <p:cNvSpPr/>
          <p:nvPr/>
        </p:nvSpPr>
        <p:spPr>
          <a:xfrm>
            <a:off x="5029200" y="5105520"/>
            <a:ext cx="259092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如何用罗尔定理证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0"/>
          <p:cNvSpPr/>
          <p:nvPr/>
        </p:nvSpPr>
        <p:spPr>
          <a:xfrm>
            <a:off x="1069920" y="685800"/>
            <a:ext cx="685800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证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作辅助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从几何上看，   为弧   与弦   的纵坐标之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由定理假设易知    满足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在闭区间上      连续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在开区间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可导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此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由罗尔定理得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存在一点        使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                   证毕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1" descr=""/>
          <p:cNvPicPr/>
          <p:nvPr/>
        </p:nvPicPr>
        <p:blipFill>
          <a:blip r:embed="rId1"/>
          <a:stretch/>
        </p:blipFill>
        <p:spPr>
          <a:xfrm>
            <a:off x="3508200" y="576360"/>
            <a:ext cx="525168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32"/>
          <p:cNvGraphicFramePr/>
          <p:nvPr/>
        </p:nvGraphicFramePr>
        <p:xfrm>
          <a:off x="3176640" y="1468440"/>
          <a:ext cx="60624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76640" y="1468440"/>
                    <a:ext cx="6062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35"/>
          <p:cNvGraphicFramePr/>
          <p:nvPr/>
        </p:nvGraphicFramePr>
        <p:xfrm>
          <a:off x="5479920" y="1487520"/>
          <a:ext cx="48420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3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9920" y="1487520"/>
                    <a:ext cx="4842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6" name="Object 37"/>
              <p:cNvSpPr txBox="1"/>
              <p:nvPr/>
            </p:nvSpPr>
            <p:spPr>
              <a:xfrm>
                <a:off x="39844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27" name="Picture 38" descr=""/>
          <p:cNvPicPr/>
          <p:nvPr/>
        </p:nvPicPr>
        <p:blipFill>
          <a:blip r:embed="rId6"/>
          <a:stretch/>
        </p:blipFill>
        <p:spPr>
          <a:xfrm>
            <a:off x="4334040" y="14414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9" descr=""/>
          <p:cNvPicPr/>
          <p:nvPr/>
        </p:nvPicPr>
        <p:blipFill>
          <a:blip r:embed="rId7"/>
          <a:stretch/>
        </p:blipFill>
        <p:spPr>
          <a:xfrm>
            <a:off x="3316320" y="2173320"/>
            <a:ext cx="606240" cy="417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0" descr=""/>
          <p:cNvPicPr/>
          <p:nvPr/>
        </p:nvPicPr>
        <p:blipFill>
          <a:blip r:embed="rId8"/>
          <a:stretch/>
        </p:blipFill>
        <p:spPr>
          <a:xfrm>
            <a:off x="3505320" y="2922480"/>
            <a:ext cx="838080" cy="408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2" descr=""/>
          <p:cNvPicPr/>
          <p:nvPr/>
        </p:nvPicPr>
        <p:blipFill>
          <a:blip r:embed="rId9"/>
          <a:stretch/>
        </p:blipFill>
        <p:spPr>
          <a:xfrm>
            <a:off x="7089840" y="2895480"/>
            <a:ext cx="444600" cy="457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3" descr=""/>
          <p:cNvPicPr/>
          <p:nvPr/>
        </p:nvPicPr>
        <p:blipFill>
          <a:blip r:embed="rId10"/>
          <a:stretch/>
        </p:blipFill>
        <p:spPr>
          <a:xfrm>
            <a:off x="3005280" y="3657600"/>
            <a:ext cx="2209680" cy="384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4" descr=""/>
          <p:cNvPicPr/>
          <p:nvPr/>
        </p:nvPicPr>
        <p:blipFill>
          <a:blip r:embed="rId11"/>
          <a:stretch/>
        </p:blipFill>
        <p:spPr>
          <a:xfrm>
            <a:off x="5751360" y="4419720"/>
            <a:ext cx="131472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5" descr=""/>
          <p:cNvPicPr/>
          <p:nvPr/>
        </p:nvPicPr>
        <p:blipFill>
          <a:blip r:embed="rId12"/>
          <a:stretch/>
        </p:blipFill>
        <p:spPr>
          <a:xfrm>
            <a:off x="2133720" y="4800600"/>
            <a:ext cx="395928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46"/>
              <p:cNvSpPr txBox="1"/>
              <p:nvPr/>
            </p:nvSpPr>
            <p:spPr>
              <a:xfrm>
                <a:off x="1676520" y="5486400"/>
                <a:ext cx="221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Box 8"/>
          <p:cNvSpPr/>
          <p:nvPr/>
        </p:nvSpPr>
        <p:spPr>
          <a:xfrm>
            <a:off x="80503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066680" y="1219320"/>
            <a:ext cx="6553440" cy="2669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推论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函数      在区间      内任意一点的导数      都等于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函数     在         内是一个常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推论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函数      与      在区间       内任意一点的导数      与      都相等，则这两个函数在区间      内至多相差一个常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949320" cy="381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5334120" y="1271520"/>
            <a:ext cx="961920" cy="381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3"/>
          <a:stretch/>
        </p:blipFill>
        <p:spPr>
          <a:xfrm>
            <a:off x="2359080" y="1655640"/>
            <a:ext cx="952560" cy="381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4"/>
          <a:stretch/>
        </p:blipFill>
        <p:spPr>
          <a:xfrm>
            <a:off x="5562720" y="1630440"/>
            <a:ext cx="949320" cy="380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5"/>
          <a:stretch/>
        </p:blipFill>
        <p:spPr>
          <a:xfrm>
            <a:off x="6629400" y="1649520"/>
            <a:ext cx="939960" cy="380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6"/>
          <a:stretch/>
        </p:blipFill>
        <p:spPr>
          <a:xfrm>
            <a:off x="3429000" y="3084480"/>
            <a:ext cx="949320" cy="380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7"/>
          <a:stretch/>
        </p:blipFill>
        <p:spPr>
          <a:xfrm>
            <a:off x="4724280" y="3048120"/>
            <a:ext cx="94932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"/>
          <p:cNvPicPr/>
          <p:nvPr/>
        </p:nvPicPr>
        <p:blipFill>
          <a:blip r:embed="rId8"/>
          <a:stretch/>
        </p:blipFill>
        <p:spPr>
          <a:xfrm>
            <a:off x="6553080" y="3105000"/>
            <a:ext cx="957240" cy="381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"/>
          <p:cNvPicPr/>
          <p:nvPr/>
        </p:nvPicPr>
        <p:blipFill>
          <a:blip r:embed="rId9"/>
          <a:stretch/>
        </p:blipFill>
        <p:spPr>
          <a:xfrm>
            <a:off x="3633840" y="3441600"/>
            <a:ext cx="954000" cy="381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6" descr=""/>
          <p:cNvPicPr/>
          <p:nvPr/>
        </p:nvPicPr>
        <p:blipFill>
          <a:blip r:embed="rId10"/>
          <a:stretch/>
        </p:blipFill>
        <p:spPr>
          <a:xfrm>
            <a:off x="4861080" y="3449520"/>
            <a:ext cx="950760" cy="381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7" descr=""/>
          <p:cNvPicPr/>
          <p:nvPr/>
        </p:nvPicPr>
        <p:blipFill>
          <a:blip r:embed="rId11"/>
          <a:stretch/>
        </p:blipFill>
        <p:spPr>
          <a:xfrm>
            <a:off x="3581280" y="3836880"/>
            <a:ext cx="955800" cy="3812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8"/>
          <p:cNvSpPr/>
          <p:nvPr/>
        </p:nvSpPr>
        <p:spPr>
          <a:xfrm>
            <a:off x="80503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838080" y="1905120"/>
            <a:ext cx="7315200" cy="2494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验证拉格朗日定理对函数          在         上的正确性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明不等式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明等式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5049720" y="1932120"/>
            <a:ext cx="1623960" cy="38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6934320" y="1981080"/>
            <a:ext cx="950760" cy="381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3246480" y="2819520"/>
            <a:ext cx="4038480" cy="517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4"/>
          <a:stretch/>
        </p:blipFill>
        <p:spPr>
          <a:xfrm>
            <a:off x="2971800" y="3886200"/>
            <a:ext cx="255744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5"/>
          <a:stretch/>
        </p:blipFill>
        <p:spPr>
          <a:xfrm>
            <a:off x="5486400" y="4038480"/>
            <a:ext cx="1581120" cy="3812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8"/>
          <p:cNvSpPr/>
          <p:nvPr/>
        </p:nvSpPr>
        <p:spPr>
          <a:xfrm>
            <a:off x="80503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871560" y="1139760"/>
            <a:ext cx="739152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三、柯西（       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若函数     与     满足条件：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在闭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[    ]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连续；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在开区间      内可导；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在        内任意一点处     都不等于零；则至少存在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5"/>
          <p:cNvGraphicFramePr/>
          <p:nvPr/>
        </p:nvGraphicFramePr>
        <p:xfrm>
          <a:off x="2471760" y="1216080"/>
          <a:ext cx="10476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1760" y="1216080"/>
                    <a:ext cx="1047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Picture 7" descr=""/>
          <p:cNvPicPr/>
          <p:nvPr/>
        </p:nvPicPr>
        <p:blipFill>
          <a:blip r:embed="rId3"/>
          <a:stretch/>
        </p:blipFill>
        <p:spPr>
          <a:xfrm>
            <a:off x="1862280" y="1978200"/>
            <a:ext cx="849240" cy="338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4"/>
          <a:stretch/>
        </p:blipFill>
        <p:spPr>
          <a:xfrm>
            <a:off x="2895480" y="1935000"/>
            <a:ext cx="949320" cy="381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5"/>
          <a:stretch/>
        </p:blipFill>
        <p:spPr>
          <a:xfrm>
            <a:off x="7086600" y="1935000"/>
            <a:ext cx="709560" cy="38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"/>
          <p:cNvPicPr/>
          <p:nvPr/>
        </p:nvPicPr>
        <p:blipFill>
          <a:blip r:embed="rId6"/>
          <a:stretch/>
        </p:blipFill>
        <p:spPr>
          <a:xfrm>
            <a:off x="4164120" y="2298600"/>
            <a:ext cx="1033200" cy="41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"/>
          <p:cNvPicPr/>
          <p:nvPr/>
        </p:nvPicPr>
        <p:blipFill>
          <a:blip r:embed="rId7"/>
          <a:stretch/>
        </p:blipFill>
        <p:spPr>
          <a:xfrm>
            <a:off x="7351560" y="2279520"/>
            <a:ext cx="1033560" cy="414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"/>
          <p:cNvPicPr/>
          <p:nvPr/>
        </p:nvPicPr>
        <p:blipFill>
          <a:blip r:embed="rId8"/>
          <a:stretch/>
        </p:blipFill>
        <p:spPr>
          <a:xfrm>
            <a:off x="2743200" y="2620800"/>
            <a:ext cx="906480" cy="490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"/>
          <p:cNvPicPr/>
          <p:nvPr/>
        </p:nvPicPr>
        <p:blipFill>
          <a:blip r:embed="rId9"/>
          <a:stretch/>
        </p:blipFill>
        <p:spPr>
          <a:xfrm>
            <a:off x="963720" y="3060720"/>
            <a:ext cx="1412640" cy="414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/>
          <p:cNvPicPr/>
          <p:nvPr/>
        </p:nvPicPr>
        <p:blipFill>
          <a:blip r:embed="rId10"/>
          <a:stretch/>
        </p:blipFill>
        <p:spPr>
          <a:xfrm>
            <a:off x="2819520" y="3611520"/>
            <a:ext cx="2895480" cy="9111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8"/>
          <p:cNvSpPr/>
          <p:nvPr/>
        </p:nvSpPr>
        <p:spPr>
          <a:xfrm>
            <a:off x="80503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5867280" y="1208160"/>
            <a:ext cx="2800440" cy="364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1693080" y="725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数学家罗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990720" y="18288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尔是法国数学家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5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生于昂贝尔特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卒于巴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990720" y="32767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尔在数学上的成就主要是在代数方面，专长于丢番图方程的研究，发明了罗尔定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1882440" y="914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数学家拉格朗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2" descr=""/>
          <p:cNvPicPr/>
          <p:nvPr/>
        </p:nvPicPr>
        <p:blipFill>
          <a:blip r:embed="rId1"/>
          <a:stretch/>
        </p:blipFill>
        <p:spPr>
          <a:xfrm>
            <a:off x="6248520" y="2209680"/>
            <a:ext cx="25527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1447920" y="21733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拉格朗日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世纪之交法国最重要的数学家、物理学家，一个举世罕见的科学天才，是数学分析的开拓者，其主要贡献是：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变分法；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微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1693080" y="914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数学家柯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5715000" y="1533600"/>
            <a:ext cx="296064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矩形 3"/>
          <p:cNvSpPr/>
          <p:nvPr/>
        </p:nvSpPr>
        <p:spPr>
          <a:xfrm>
            <a:off x="914400" y="16146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柯西出生于巴黎，法国数学家。在数学领域，有很高的建树和造诣。很多数学的定理和公式也都以他的名字来称呼，如柯西不等式、柯西积分公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914400" y="33624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柯西提出极限定义的方法，把极限过程用不等式来刻画，后经魏尔斯特拉斯改进，成为现在所说的柯西极限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208880" y="831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143000" y="1979640"/>
            <a:ext cx="17524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297240" y="152388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熟悉罗尔中值定理，掌握拉格朗日中值定理，知道柯西中值定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能较好运用上述定理解决有关问题（如等式与不等式的证明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219320" y="3886200"/>
            <a:ext cx="160020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333600" y="38862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运用中值定理解决问题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如等式与不等式的证明等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1295280" y="1600200"/>
            <a:ext cx="160020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828800" y="2666880"/>
            <a:ext cx="5943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定理的证明，培养学生逻辑推理的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培养学生观察能力和分析能力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1003320" y="2124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517920" y="2200320"/>
            <a:ext cx="297180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拉格朗日中值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003320" y="3114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538440" y="3191040"/>
            <a:ext cx="48769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罗尔中值定理与拉格朗日中值定理的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4"/>
          <p:cNvSpPr/>
          <p:nvPr/>
        </p:nvSpPr>
        <p:spPr>
          <a:xfrm>
            <a:off x="1057320" y="1119240"/>
            <a:ext cx="682452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一、罗尔（    ）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若函数      满足下列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在闭区间      上连续；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在开区间上      可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            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在     内至少存在一点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5"/>
          <p:cNvGraphicFramePr/>
          <p:nvPr/>
        </p:nvGraphicFramePr>
        <p:xfrm>
          <a:off x="2657520" y="1195560"/>
          <a:ext cx="685800" cy="3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7520" y="1195560"/>
                    <a:ext cx="6858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47" descr=""/>
          <p:cNvPicPr/>
          <p:nvPr/>
        </p:nvPicPr>
        <p:blipFill>
          <a:blip r:embed="rId3"/>
          <a:stretch/>
        </p:blipFill>
        <p:spPr>
          <a:xfrm>
            <a:off x="2084400" y="1908000"/>
            <a:ext cx="941400" cy="38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8" descr=""/>
          <p:cNvPicPr/>
          <p:nvPr/>
        </p:nvPicPr>
        <p:blipFill>
          <a:blip r:embed="rId4"/>
          <a:stretch/>
        </p:blipFill>
        <p:spPr>
          <a:xfrm>
            <a:off x="3191040" y="2643120"/>
            <a:ext cx="838080" cy="338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" descr=""/>
          <p:cNvPicPr/>
          <p:nvPr/>
        </p:nvPicPr>
        <p:blipFill>
          <a:blip r:embed="rId5"/>
          <a:stretch/>
        </p:blipFill>
        <p:spPr>
          <a:xfrm>
            <a:off x="3495600" y="3405240"/>
            <a:ext cx="838440" cy="34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1" descr=""/>
          <p:cNvPicPr/>
          <p:nvPr/>
        </p:nvPicPr>
        <p:blipFill>
          <a:blip r:embed="rId6"/>
          <a:stretch/>
        </p:blipFill>
        <p:spPr>
          <a:xfrm>
            <a:off x="1971720" y="4091040"/>
            <a:ext cx="2286000" cy="390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7"/>
          <a:stretch/>
        </p:blipFill>
        <p:spPr>
          <a:xfrm>
            <a:off x="1743120" y="4853160"/>
            <a:ext cx="822240" cy="328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3"/>
              <p:cNvSpPr txBox="1"/>
              <p:nvPr/>
            </p:nvSpPr>
            <p:spPr>
              <a:xfrm>
                <a:off x="4714920" y="4776840"/>
                <a:ext cx="282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" name="Picture 55" descr=""/>
          <p:cNvPicPr/>
          <p:nvPr/>
        </p:nvPicPr>
        <p:blipFill>
          <a:blip r:embed="rId8"/>
          <a:stretch/>
        </p:blipFill>
        <p:spPr>
          <a:xfrm>
            <a:off x="5934240" y="4853160"/>
            <a:ext cx="1682640" cy="404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4"/>
          <p:cNvGrpSpPr/>
          <p:nvPr/>
        </p:nvGrpSpPr>
        <p:grpSpPr>
          <a:xfrm>
            <a:off x="1859040" y="1011240"/>
            <a:ext cx="4800600" cy="4646520"/>
            <a:chOff x="1859040" y="1011240"/>
            <a:chExt cx="4800600" cy="4646520"/>
          </a:xfrm>
        </p:grpSpPr>
        <p:sp>
          <p:nvSpPr>
            <p:cNvPr id="95" name="AutoShape 5"/>
            <p:cNvSpPr/>
            <p:nvPr/>
          </p:nvSpPr>
          <p:spPr>
            <a:xfrm>
              <a:off x="1859040" y="1011240"/>
              <a:ext cx="4800600" cy="46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>
              <a:off x="1859040" y="37011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 flipV="1">
              <a:off x="2706120" y="1255680"/>
              <a:ext cx="0" cy="342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3058920" y="1994040"/>
              <a:ext cx="2753280" cy="1170720"/>
            </a:xfrm>
            <a:custGeom>
              <a:avLst/>
              <a:gdLst>
                <a:gd name="textAreaLeft" fmla="*/ 0 w 2753280"/>
                <a:gd name="textAreaRight" fmla="*/ 2753640 w 2753280"/>
                <a:gd name="textAreaTop" fmla="*/ 0 h 1170720"/>
                <a:gd name="textAreaBottom" fmla="*/ 1171080 h 1170720"/>
              </a:gdLst>
              <a:ahLst/>
              <a:rect l="textAreaLeft" t="textAreaTop" r="textAreaRight" b="textAreaBottom"/>
              <a:pathLst>
                <a:path w="1755" h="747">
                  <a:moveTo>
                    <a:pt x="0" y="315"/>
                  </a:moveTo>
                  <a:cubicBezTo>
                    <a:pt x="45" y="275"/>
                    <a:pt x="160" y="135"/>
                    <a:pt x="255" y="90"/>
                  </a:cubicBezTo>
                  <a:cubicBezTo>
                    <a:pt x="350" y="45"/>
                    <a:pt x="465" y="0"/>
                    <a:pt x="570" y="45"/>
                  </a:cubicBezTo>
                  <a:cubicBezTo>
                    <a:pt x="675" y="90"/>
                    <a:pt x="773" y="248"/>
                    <a:pt x="885" y="360"/>
                  </a:cubicBezTo>
                  <a:cubicBezTo>
                    <a:pt x="997" y="472"/>
                    <a:pt x="1128" y="693"/>
                    <a:pt x="1245" y="720"/>
                  </a:cubicBezTo>
                  <a:cubicBezTo>
                    <a:pt x="1362" y="747"/>
                    <a:pt x="1505" y="595"/>
                    <a:pt x="1590" y="525"/>
                  </a:cubicBezTo>
                  <a:cubicBezTo>
                    <a:pt x="1675" y="455"/>
                    <a:pt x="1721" y="347"/>
                    <a:pt x="1755" y="3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3105720" y="2464200"/>
              <a:ext cx="2706120" cy="15480"/>
            </a:xfrm>
            <a:custGeom>
              <a:avLst/>
              <a:gdLst>
                <a:gd name="textAreaLeft" fmla="*/ 0 w 2706120"/>
                <a:gd name="textAreaRight" fmla="*/ 2706480 w 2706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25" h="10">
                  <a:moveTo>
                    <a:pt x="0" y="0"/>
                  </a:moveTo>
                  <a:lnTo>
                    <a:pt x="1725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>
              <a:off x="3270600" y="2011320"/>
              <a:ext cx="112932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>
              <a:off x="4400280" y="3141360"/>
              <a:ext cx="112644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>
              <a:off x="3105720" y="2478600"/>
              <a:ext cx="1440" cy="122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5812200" y="2478600"/>
              <a:ext cx="1440" cy="122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3788640" y="1989360"/>
              <a:ext cx="1080" cy="171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3553200" y="4679280"/>
              <a:ext cx="16945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6" descr=""/>
            <p:cNvPicPr/>
            <p:nvPr/>
          </p:nvPicPr>
          <p:blipFill>
            <a:blip r:embed="rId1"/>
            <a:stretch/>
          </p:blipFill>
          <p:spPr>
            <a:xfrm>
              <a:off x="2305800" y="3724560"/>
              <a:ext cx="376560" cy="43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7" descr=""/>
            <p:cNvPicPr/>
            <p:nvPr/>
          </p:nvPicPr>
          <p:blipFill>
            <a:blip r:embed="rId2"/>
            <a:stretch/>
          </p:blipFill>
          <p:spPr>
            <a:xfrm>
              <a:off x="6094800" y="3724560"/>
              <a:ext cx="43740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8" descr=""/>
            <p:cNvPicPr/>
            <p:nvPr/>
          </p:nvPicPr>
          <p:blipFill>
            <a:blip r:embed="rId3"/>
            <a:stretch/>
          </p:blipFill>
          <p:spPr>
            <a:xfrm>
              <a:off x="2376360" y="1476720"/>
              <a:ext cx="344880" cy="4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9" descr=""/>
            <p:cNvPicPr/>
            <p:nvPr/>
          </p:nvPicPr>
          <p:blipFill>
            <a:blip r:embed="rId4"/>
            <a:stretch/>
          </p:blipFill>
          <p:spPr>
            <a:xfrm>
              <a:off x="3623760" y="1594440"/>
              <a:ext cx="376200" cy="4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0" descr=""/>
            <p:cNvPicPr/>
            <p:nvPr/>
          </p:nvPicPr>
          <p:blipFill>
            <a:blip r:embed="rId5"/>
            <a:stretch/>
          </p:blipFill>
          <p:spPr>
            <a:xfrm>
              <a:off x="5718240" y="2012760"/>
              <a:ext cx="37620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1" descr=""/>
            <p:cNvPicPr/>
            <p:nvPr/>
          </p:nvPicPr>
          <p:blipFill>
            <a:blip r:embed="rId6"/>
            <a:stretch/>
          </p:blipFill>
          <p:spPr>
            <a:xfrm>
              <a:off x="2752920" y="2130480"/>
              <a:ext cx="376560" cy="4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2" descr=""/>
            <p:cNvPicPr/>
            <p:nvPr/>
          </p:nvPicPr>
          <p:blipFill>
            <a:blip r:embed="rId7"/>
            <a:stretch/>
          </p:blipFill>
          <p:spPr>
            <a:xfrm>
              <a:off x="2941200" y="3724560"/>
              <a:ext cx="31356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3" descr=""/>
            <p:cNvPicPr/>
            <p:nvPr/>
          </p:nvPicPr>
          <p:blipFill>
            <a:blip r:embed="rId8"/>
            <a:stretch/>
          </p:blipFill>
          <p:spPr>
            <a:xfrm>
              <a:off x="5694480" y="3701160"/>
              <a:ext cx="313560" cy="43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4" descr=""/>
            <p:cNvPicPr/>
            <p:nvPr/>
          </p:nvPicPr>
          <p:blipFill>
            <a:blip r:embed="rId9"/>
            <a:stretch/>
          </p:blipFill>
          <p:spPr>
            <a:xfrm>
              <a:off x="3647520" y="3701160"/>
              <a:ext cx="31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25"/>
          <p:cNvSpPr/>
          <p:nvPr/>
        </p:nvSpPr>
        <p:spPr>
          <a:xfrm>
            <a:off x="2114640" y="4897440"/>
            <a:ext cx="434340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实际上，切线和弦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4-09T15:07:3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