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5.wmf" ContentType="image/x-wmf"/>
  <Override PartName="/ppt/media/image10.wmf" ContentType="image/x-wmf"/>
  <Override PartName="/ppt/media/image25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EBE-F816-406C-BFB5-FC1DCCB4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74C-4DDF-44D8-AA2E-3CCB500A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18D-6251-452B-864C-A0EEE96C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CBD-8D54-47CB-B834-0B024807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07F-51B5-49E8-8AF9-F1492023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5CB-929E-421D-A18A-30436F3E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C53-C62C-4BC5-A585-193B9E28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899-ADCE-4637-BC6F-036E80CD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AE9-6AA3-4749-835D-546588E3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39B-5480-4321-A21B-B7419747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9D6-A25E-4A58-9CEC-707FE585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FE7-59DC-4CAC-96B5-3D0A67E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6443-CA92-4BCE-B287-B56ECA013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1181160" y="2343240"/>
            <a:ext cx="693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楷体"/>
                <a:ea typeface="楷体"/>
              </a:rPr>
              <a:t>1.4 </a:t>
            </a:r>
            <a:r>
              <a:rPr b="1" lang="zh-CN" sz="6600" spc="-1" strike="noStrike">
                <a:solidFill>
                  <a:srgbClr val="cc0000"/>
                </a:solidFill>
                <a:latin typeface="楷体"/>
                <a:ea typeface="楷体"/>
              </a:rPr>
              <a:t>两个重要极限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8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9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009800" y="1709640"/>
            <a:ext cx="71625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162080" y="2624040"/>
            <a:ext cx="573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2228760" y="1557360"/>
          <a:ext cx="137160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557360"/>
                    <a:ext cx="13716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8"/>
          <p:cNvGraphicFramePr/>
          <p:nvPr/>
        </p:nvGraphicFramePr>
        <p:xfrm>
          <a:off x="2228760" y="2471760"/>
          <a:ext cx="190512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8760" y="2471760"/>
                    <a:ext cx="19051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9"/>
          <p:cNvGraphicFramePr/>
          <p:nvPr/>
        </p:nvGraphicFramePr>
        <p:xfrm>
          <a:off x="4210200" y="2471760"/>
          <a:ext cx="205740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0200" y="2471760"/>
                    <a:ext cx="2057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0"/>
          <p:cNvGraphicFramePr/>
          <p:nvPr/>
        </p:nvGraphicFramePr>
        <p:xfrm>
          <a:off x="2228760" y="3614760"/>
          <a:ext cx="2286000" cy="80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28760" y="3614760"/>
                    <a:ext cx="2286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057320" y="752400"/>
            <a:ext cx="7162920" cy="1015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4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2352600" y="600120"/>
          <a:ext cx="19051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2600" y="600120"/>
                    <a:ext cx="190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8"/>
          <p:cNvGraphicFramePr/>
          <p:nvPr/>
        </p:nvGraphicFramePr>
        <p:xfrm>
          <a:off x="2200320" y="1819440"/>
          <a:ext cx="274320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0320" y="1819440"/>
                    <a:ext cx="27432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9"/>
          <p:cNvSpPr/>
          <p:nvPr/>
        </p:nvSpPr>
        <p:spPr>
          <a:xfrm>
            <a:off x="1209600" y="2048040"/>
            <a:ext cx="573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2124000" y="2886120"/>
          <a:ext cx="3276720" cy="81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2886120"/>
                    <a:ext cx="32767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2"/>
          <p:cNvGraphicFramePr/>
          <p:nvPr/>
        </p:nvGraphicFramePr>
        <p:xfrm>
          <a:off x="2124000" y="4105440"/>
          <a:ext cx="3505320" cy="71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105440"/>
                    <a:ext cx="35053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3"/>
          <p:cNvGraphicFramePr/>
          <p:nvPr/>
        </p:nvGraphicFramePr>
        <p:xfrm>
          <a:off x="2124000" y="5095800"/>
          <a:ext cx="190512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5095800"/>
                    <a:ext cx="1905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Box 8"/>
          <p:cNvSpPr/>
          <p:nvPr/>
        </p:nvSpPr>
        <p:spPr>
          <a:xfrm>
            <a:off x="8020080" y="620712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2895480" y="2057400"/>
            <a:ext cx="19814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6"/>
          <p:cNvGraphicFramePr/>
          <p:nvPr/>
        </p:nvGraphicFramePr>
        <p:xfrm>
          <a:off x="3276720" y="1838160"/>
          <a:ext cx="182880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838160"/>
                    <a:ext cx="18288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7"/>
          <p:cNvGraphicFramePr/>
          <p:nvPr/>
        </p:nvGraphicFramePr>
        <p:xfrm>
          <a:off x="3276720" y="2981160"/>
          <a:ext cx="213336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981160"/>
                    <a:ext cx="2133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Box 8"/>
          <p:cNvSpPr/>
          <p:nvPr/>
        </p:nvSpPr>
        <p:spPr>
          <a:xfrm>
            <a:off x="8020080" y="620712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1222920" y="1828800"/>
            <a:ext cx="8514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990720" y="14479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代数学家丘成桐，是美国哈佛大学讲座教授，浙江大学数学中心主任，香港中文大学数学研究所所长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年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的丘成桐证明了卡拉巴猜想，在世界引起轰动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获得最高数学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菲尔茨奖。丘成桐与其他数学家不同，他把数学推向中国，推向整个华人世界，这是他的伟大之处。他说：“我一生的最大愿望是帮中国强大起来”。江泽民主席在去信中高度称赞他“先生心念中国，胸怀报国之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1009800" y="762120"/>
            <a:ext cx="744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学大师丘成桐的数学强国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3" descr=""/>
          <p:cNvPicPr/>
          <p:nvPr/>
        </p:nvPicPr>
        <p:blipFill>
          <a:blip r:embed="rId1"/>
          <a:stretch/>
        </p:blipFill>
        <p:spPr>
          <a:xfrm>
            <a:off x="5943600" y="1851120"/>
            <a:ext cx="2971800" cy="4457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838080" y="7621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66680" y="1905120"/>
            <a:ext cx="15242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666880" y="1903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掌握两个重要极限及其应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085760" y="3038400"/>
            <a:ext cx="15242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3611880" y="2818080"/>
            <a:ext cx="2777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会用观察法推导两个重要极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学会两个重要极限的应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1123920" y="423864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2743200" y="42505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训练学生严密的逻辑推理能力，培养耐心，细致的学习习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90720" y="1905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76720" y="2057400"/>
            <a:ext cx="487656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两个重要极限及其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322800" y="3809880"/>
            <a:ext cx="460188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两个重要极限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9640" y="1295280"/>
          <a:ext cx="7543800" cy="179892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1798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导入：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极限的计算方法，到目前为止，我们学过因式分解约去非零因子，有理化分子或分母这两种方法。是不是所有的      都可以用这两种方法解决呢？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pSp>
        <p:nvGrpSpPr>
          <p:cNvPr id="65" name="Group 17"/>
          <p:cNvGrpSpPr/>
          <p:nvPr/>
        </p:nvGrpSpPr>
        <p:grpSpPr>
          <a:xfrm>
            <a:off x="1898640" y="1219320"/>
            <a:ext cx="5137200" cy="1523880"/>
            <a:chOff x="1898640" y="1219320"/>
            <a:chExt cx="5137200" cy="1523880"/>
          </a:xfrm>
        </p:grpSpPr>
        <p:graphicFrame>
          <p:nvGraphicFramePr>
            <p:cNvPr id="66" name="Object 15"/>
            <p:cNvGraphicFramePr/>
            <p:nvPr/>
          </p:nvGraphicFramePr>
          <p:xfrm>
            <a:off x="1898640" y="1219320"/>
            <a:ext cx="79380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8640" y="1219320"/>
                      <a:ext cx="7938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Object 16"/>
            <p:cNvGraphicFramePr/>
            <p:nvPr/>
          </p:nvGraphicFramePr>
          <p:xfrm>
            <a:off x="6242040" y="2133720"/>
            <a:ext cx="7938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42040" y="2133720"/>
                      <a:ext cx="7938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" name="Group 20"/>
          <p:cNvGrpSpPr/>
          <p:nvPr/>
        </p:nvGrpSpPr>
        <p:grpSpPr>
          <a:xfrm>
            <a:off x="809640" y="3581280"/>
            <a:ext cx="7543800" cy="1572120"/>
            <a:chOff x="809640" y="3581280"/>
            <a:chExt cx="7543800" cy="1572120"/>
          </a:xfrm>
        </p:grpSpPr>
        <p:sp>
          <p:nvSpPr>
            <p:cNvPr id="71" name="Text Box 18"/>
            <p:cNvSpPr/>
            <p:nvPr/>
          </p:nvSpPr>
          <p:spPr>
            <a:xfrm>
              <a:off x="809640" y="3581280"/>
              <a:ext cx="7543800" cy="1572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问题：如何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2" name="Object 19"/>
            <p:cNvGraphicFramePr/>
            <p:nvPr/>
          </p:nvGraphicFramePr>
          <p:xfrm>
            <a:off x="2790720" y="3933720"/>
            <a:ext cx="1981440" cy="86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0720" y="3933720"/>
                      <a:ext cx="1981440" cy="86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4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7"/>
          <p:cNvGrpSpPr/>
          <p:nvPr/>
        </p:nvGrpSpPr>
        <p:grpSpPr>
          <a:xfrm>
            <a:off x="533520" y="1093680"/>
            <a:ext cx="8076960" cy="3706200"/>
            <a:chOff x="533520" y="1093680"/>
            <a:chExt cx="8076960" cy="3706200"/>
          </a:xfrm>
        </p:grpSpPr>
        <p:sp>
          <p:nvSpPr>
            <p:cNvPr id="76" name="Text Box 4"/>
            <p:cNvSpPr/>
            <p:nvPr/>
          </p:nvSpPr>
          <p:spPr>
            <a:xfrm>
              <a:off x="533520" y="1093680"/>
              <a:ext cx="8076960" cy="3706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" name="Object 5"/>
            <p:cNvGraphicFramePr/>
            <p:nvPr/>
          </p:nvGraphicFramePr>
          <p:xfrm>
            <a:off x="2081160" y="1463760"/>
            <a:ext cx="3076560" cy="103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81160" y="1463760"/>
                      <a:ext cx="3076560" cy="10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Object 6"/>
            <p:cNvGraphicFramePr/>
            <p:nvPr/>
          </p:nvGraphicFramePr>
          <p:xfrm>
            <a:off x="2146320" y="2835360"/>
            <a:ext cx="3021120" cy="1033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6320" y="2835360"/>
                      <a:ext cx="3021120" cy="10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7"/>
          <p:cNvGraphicFramePr/>
          <p:nvPr/>
        </p:nvGraphicFramePr>
        <p:xfrm>
          <a:off x="2133720" y="2009880"/>
          <a:ext cx="4114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009880"/>
                    <a:ext cx="4114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8"/>
          <p:cNvSpPr/>
          <p:nvPr/>
        </p:nvSpPr>
        <p:spPr>
          <a:xfrm>
            <a:off x="1066680" y="2162160"/>
            <a:ext cx="573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9"/>
          <p:cNvGraphicFramePr/>
          <p:nvPr/>
        </p:nvGraphicFramePr>
        <p:xfrm>
          <a:off x="2286000" y="3076560"/>
          <a:ext cx="14479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076560"/>
                    <a:ext cx="14479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0"/>
          <p:cNvGraphicFramePr/>
          <p:nvPr/>
        </p:nvGraphicFramePr>
        <p:xfrm>
          <a:off x="3886200" y="3076560"/>
          <a:ext cx="2895480" cy="49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076560"/>
                    <a:ext cx="28954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1"/>
          <p:cNvGraphicFramePr/>
          <p:nvPr/>
        </p:nvGraphicFramePr>
        <p:xfrm>
          <a:off x="2286000" y="3762360"/>
          <a:ext cx="106668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762360"/>
                    <a:ext cx="10666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2"/>
          <p:cNvGraphicFramePr/>
          <p:nvPr/>
        </p:nvGraphicFramePr>
        <p:xfrm>
          <a:off x="3352680" y="3610080"/>
          <a:ext cx="304812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3610080"/>
                    <a:ext cx="3048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Group 14"/>
          <p:cNvGrpSpPr/>
          <p:nvPr/>
        </p:nvGrpSpPr>
        <p:grpSpPr>
          <a:xfrm>
            <a:off x="914400" y="1019160"/>
            <a:ext cx="7162920" cy="685800"/>
            <a:chOff x="914400" y="1019160"/>
            <a:chExt cx="7162920" cy="685800"/>
          </a:xfrm>
        </p:grpSpPr>
        <p:sp>
          <p:nvSpPr>
            <p:cNvPr id="94" name="Text Box 5"/>
            <p:cNvSpPr/>
            <p:nvPr/>
          </p:nvSpPr>
          <p:spPr>
            <a:xfrm>
              <a:off x="914400" y="1171440"/>
              <a:ext cx="7162920" cy="459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例</a:t>
              </a:r>
              <a:r>
                <a:rPr b="1" lang="en-US" sz="24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Object 13"/>
            <p:cNvGraphicFramePr/>
            <p:nvPr/>
          </p:nvGraphicFramePr>
          <p:xfrm>
            <a:off x="2057400" y="1019160"/>
            <a:ext cx="977760" cy="68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6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1019160"/>
                      <a:ext cx="9777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7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914400" y="1085760"/>
            <a:ext cx="7162920" cy="1015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2133720" y="1162080"/>
          <a:ext cx="17524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162080"/>
                    <a:ext cx="1752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6"/>
          <p:cNvSpPr/>
          <p:nvPr/>
        </p:nvSpPr>
        <p:spPr>
          <a:xfrm>
            <a:off x="990720" y="2381400"/>
            <a:ext cx="573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7"/>
          <p:cNvGraphicFramePr/>
          <p:nvPr/>
        </p:nvGraphicFramePr>
        <p:xfrm>
          <a:off x="2286000" y="2305080"/>
          <a:ext cx="16002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05080"/>
                    <a:ext cx="1600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8"/>
          <p:cNvGraphicFramePr/>
          <p:nvPr/>
        </p:nvGraphicFramePr>
        <p:xfrm>
          <a:off x="3962520" y="2000160"/>
          <a:ext cx="2133360" cy="14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000160"/>
                    <a:ext cx="21333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9"/>
          <p:cNvGraphicFramePr/>
          <p:nvPr/>
        </p:nvGraphicFramePr>
        <p:xfrm>
          <a:off x="2286000" y="3448080"/>
          <a:ext cx="1905120" cy="13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448080"/>
                    <a:ext cx="19051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0"/>
          <p:cNvGraphicFramePr/>
          <p:nvPr/>
        </p:nvGraphicFramePr>
        <p:xfrm>
          <a:off x="4267080" y="3448080"/>
          <a:ext cx="1905120" cy="13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448080"/>
                    <a:ext cx="19051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2724120" y="1762200"/>
            <a:ext cx="32479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3124080" y="1523880"/>
          <a:ext cx="137160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523880"/>
                    <a:ext cx="13716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7"/>
          <p:cNvGraphicFramePr/>
          <p:nvPr/>
        </p:nvGraphicFramePr>
        <p:xfrm>
          <a:off x="3152880" y="2698920"/>
          <a:ext cx="167616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2880" y="2698920"/>
                    <a:ext cx="167616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8"/>
          <p:cNvGraphicFramePr/>
          <p:nvPr/>
        </p:nvGraphicFramePr>
        <p:xfrm>
          <a:off x="3152880" y="3689280"/>
          <a:ext cx="167616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2880" y="3689280"/>
                    <a:ext cx="16761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1222920" y="1828800"/>
            <a:ext cx="8514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8-04-09T14:09:16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