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CF7-4570-46D4-8C4C-F2088AF6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DE6-5E0F-40B2-9694-234F3730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E1C-2860-49BD-86B8-0C8436F9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61D-7441-44B3-91EB-48E3617A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892-15FC-4F08-BDDD-04A2CA5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1DB-366A-463F-A868-03168D9F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740-BBFC-4E88-B723-E4334DD0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BC7-726D-4C18-B3C3-7FA4AA1D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7C7-1EB0-4FA6-A859-5CF249A7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3D7-18CF-463B-95BB-47779C8A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28F-8447-4B8B-A0DF-D93579A0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624-C84A-4517-90D5-F797687A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DE01-FFC7-438A-BEFE-4F4A961C15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71520"/>
            <a:ext cx="75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楷体"/>
                <a:ea typeface="楷体"/>
              </a:rPr>
              <a:t>3.4 </a:t>
            </a:r>
            <a:r>
              <a:rPr b="1" lang="zh-CN" sz="6600" spc="-1" strike="noStrike">
                <a:solidFill>
                  <a:srgbClr val="c00000"/>
                </a:solidFill>
                <a:latin typeface="楷体"/>
                <a:ea typeface="楷体"/>
              </a:rPr>
              <a:t>第二类换元</a:t>
            </a:r>
            <a:br>
              <a:rPr sz="6600"/>
            </a:br>
            <a:r>
              <a:rPr b="1" lang="zh-CN" sz="6600" spc="-1" strike="noStrike">
                <a:solidFill>
                  <a:srgbClr val="c00000"/>
                </a:solidFill>
                <a:latin typeface="楷体"/>
                <a:ea typeface="楷体"/>
              </a:rPr>
              <a:t>积分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9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10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892080" y="1281240"/>
                <a:ext cx="4889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被积函数含有根式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905040" y="2000160"/>
                <a:ext cx="2971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求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752400" y="3152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1554120" y="3224160"/>
                <a:ext cx="1625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令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3432240" y="3222720"/>
                <a:ext cx="2717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6391440" y="3292560"/>
                <a:ext cx="1981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u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8"/>
              <p:cNvSpPr txBox="1"/>
              <p:nvPr/>
            </p:nvSpPr>
            <p:spPr>
              <a:xfrm>
                <a:off x="1488960" y="3728880"/>
                <a:ext cx="17528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9"/>
              <p:cNvSpPr txBox="1"/>
              <p:nvPr/>
            </p:nvSpPr>
            <p:spPr>
              <a:xfrm>
                <a:off x="3191040" y="3749760"/>
                <a:ext cx="1676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0"/>
              <p:cNvSpPr txBox="1"/>
              <p:nvPr/>
            </p:nvSpPr>
            <p:spPr>
              <a:xfrm>
                <a:off x="4867200" y="3749760"/>
                <a:ext cx="2590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1476360" y="4676760"/>
                <a:ext cx="2781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4334040" y="4905360"/>
                <a:ext cx="2971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</m:e>
                    </m: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3"/>
              <p:cNvSpPr txBox="1"/>
              <p:nvPr/>
            </p:nvSpPr>
            <p:spPr>
              <a:xfrm>
                <a:off x="2340000" y="5680080"/>
                <a:ext cx="3200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e>
                    </m: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Group 14"/>
          <p:cNvGrpSpPr/>
          <p:nvPr/>
        </p:nvGrpSpPr>
        <p:grpSpPr>
          <a:xfrm>
            <a:off x="1488960" y="5565600"/>
            <a:ext cx="762120" cy="457200"/>
            <a:chOff x="1488960" y="5565600"/>
            <a:chExt cx="762120" cy="457200"/>
          </a:xfrm>
        </p:grpSpPr>
        <p:sp>
          <p:nvSpPr>
            <p:cNvPr id="117" name="Text Box 15"/>
            <p:cNvSpPr/>
            <p:nvPr/>
          </p:nvSpPr>
          <p:spPr>
            <a:xfrm>
              <a:off x="1488960" y="5565600"/>
              <a:ext cx="762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回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>
              <a:off x="1546200" y="5946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1546200" y="6022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8"/>
          <p:cNvSpPr/>
          <p:nvPr/>
        </p:nvSpPr>
        <p:spPr>
          <a:xfrm>
            <a:off x="476280" y="5587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第二类换元法的关键是合理地选择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变量代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800360" y="709560"/>
            <a:ext cx="44481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"/>
              <p:cNvSpPr txBox="1"/>
              <p:nvPr/>
            </p:nvSpPr>
            <p:spPr>
              <a:xfrm>
                <a:off x="3476520" y="542880"/>
                <a:ext cx="2210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4"/>
          <p:cNvSpPr/>
          <p:nvPr/>
        </p:nvSpPr>
        <p:spPr>
          <a:xfrm>
            <a:off x="1355760" y="200484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013120" y="1960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2714760" y="2048040"/>
                <a:ext cx="9903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3772080" y="1996920"/>
                <a:ext cx="22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057320" y="2552760"/>
                <a:ext cx="21463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3433680" y="2552760"/>
                <a:ext cx="1663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5234040" y="2770200"/>
                <a:ext cx="1143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1"/>
              <p:cNvSpPr txBox="1"/>
              <p:nvPr/>
            </p:nvSpPr>
            <p:spPr>
              <a:xfrm>
                <a:off x="6529320" y="2552760"/>
                <a:ext cx="17906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1273320" y="3705120"/>
                <a:ext cx="24634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3"/>
              <p:cNvSpPr txBox="1"/>
              <p:nvPr/>
            </p:nvSpPr>
            <p:spPr>
              <a:xfrm>
                <a:off x="4010040" y="3778200"/>
                <a:ext cx="3263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u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4"/>
              <p:cNvSpPr txBox="1"/>
              <p:nvPr/>
            </p:nvSpPr>
            <p:spPr>
              <a:xfrm>
                <a:off x="1273320" y="4641840"/>
                <a:ext cx="4292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|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1992240" y="5794200"/>
                <a:ext cx="447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" name="Group 16"/>
          <p:cNvGrpSpPr/>
          <p:nvPr/>
        </p:nvGrpSpPr>
        <p:grpSpPr>
          <a:xfrm>
            <a:off x="1057320" y="5578560"/>
            <a:ext cx="762120" cy="457200"/>
            <a:chOff x="1057320" y="5578560"/>
            <a:chExt cx="762120" cy="457200"/>
          </a:xfrm>
        </p:grpSpPr>
        <p:sp>
          <p:nvSpPr>
            <p:cNvPr id="137" name="Text Box 17"/>
            <p:cNvSpPr/>
            <p:nvPr/>
          </p:nvSpPr>
          <p:spPr>
            <a:xfrm>
              <a:off x="1057320" y="5578560"/>
              <a:ext cx="762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回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1114560" y="59594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1114560" y="60357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1981080" y="1371600"/>
            <a:ext cx="1676520" cy="533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500280" y="4114800"/>
            <a:ext cx="1528920" cy="1023840"/>
            <a:chOff x="3500280" y="4114800"/>
            <a:chExt cx="1528920" cy="1023840"/>
          </a:xfrm>
        </p:grpSpPr>
        <p:sp>
          <p:nvSpPr>
            <p:cNvPr id="143" name="AutoShape 4"/>
            <p:cNvSpPr/>
            <p:nvPr/>
          </p:nvSpPr>
          <p:spPr>
            <a:xfrm>
              <a:off x="3500280" y="4757760"/>
              <a:ext cx="685800" cy="380880"/>
            </a:xfrm>
            <a:prstGeom prst="wedgeEllipseCallout">
              <a:avLst>
                <a:gd name="adj1" fmla="val 43981"/>
                <a:gd name="adj2" fmla="val -78333"/>
              </a:avLst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5"/>
                <p:cNvSpPr txBox="1"/>
                <p:nvPr/>
              </p:nvSpPr>
              <p:spPr>
                <a:xfrm>
                  <a:off x="3962160" y="4114800"/>
                  <a:ext cx="106704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Group 6"/>
          <p:cNvGrpSpPr/>
          <p:nvPr/>
        </p:nvGrpSpPr>
        <p:grpSpPr>
          <a:xfrm>
            <a:off x="2809800" y="4038480"/>
            <a:ext cx="1000080" cy="1066680"/>
            <a:chOff x="2809800" y="4038480"/>
            <a:chExt cx="1000080" cy="1066680"/>
          </a:xfrm>
        </p:grpSpPr>
        <p:sp>
          <p:nvSpPr>
            <p:cNvPr id="146" name="AutoShape 7"/>
            <p:cNvSpPr/>
            <p:nvPr/>
          </p:nvSpPr>
          <p:spPr>
            <a:xfrm>
              <a:off x="2809800" y="4724280"/>
              <a:ext cx="685800" cy="380880"/>
            </a:xfrm>
            <a:prstGeom prst="wedgeEllipseCallout">
              <a:avLst>
                <a:gd name="adj1" fmla="val 43981"/>
                <a:gd name="adj2" fmla="val -78333"/>
              </a:avLst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Object 8"/>
                <p:cNvSpPr txBox="1"/>
                <p:nvPr/>
              </p:nvSpPr>
              <p:spPr>
                <a:xfrm>
                  <a:off x="3500280" y="4038480"/>
                  <a:ext cx="309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Text Box 9"/>
          <p:cNvSpPr/>
          <p:nvPr/>
        </p:nvSpPr>
        <p:spPr>
          <a:xfrm>
            <a:off x="914400" y="719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3f04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981080" y="654120"/>
                <a:ext cx="3364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t xml:space="preserve">d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Text Box 11"/>
          <p:cNvSpPr/>
          <p:nvPr/>
        </p:nvSpPr>
        <p:spPr>
          <a:xfrm>
            <a:off x="914400" y="1371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1447920" y="1371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1905120" y="1371600"/>
                <a:ext cx="17524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3641760" y="1371600"/>
                <a:ext cx="2782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5"/>
              <p:cNvSpPr txBox="1"/>
              <p:nvPr/>
            </p:nvSpPr>
            <p:spPr>
              <a:xfrm>
                <a:off x="6751800" y="1066680"/>
                <a:ext cx="20113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1357200" y="2057400"/>
                <a:ext cx="2043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1447920" y="2895480"/>
                <a:ext cx="2133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348000" y="2057400"/>
                <a:ext cx="2824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rad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9"/>
              <p:cNvSpPr txBox="1"/>
              <p:nvPr/>
            </p:nvSpPr>
            <p:spPr>
              <a:xfrm>
                <a:off x="3575160" y="2743200"/>
                <a:ext cx="2673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1447920" y="3505320"/>
                <a:ext cx="3244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Group 21"/>
          <p:cNvGrpSpPr/>
          <p:nvPr/>
        </p:nvGrpSpPr>
        <p:grpSpPr>
          <a:xfrm>
            <a:off x="6857640" y="3886200"/>
            <a:ext cx="1066680" cy="1752480"/>
            <a:chOff x="6857640" y="3886200"/>
            <a:chExt cx="1066680" cy="1752480"/>
          </a:xfrm>
        </p:grpSpPr>
        <p:sp>
          <p:nvSpPr>
            <p:cNvPr id="161" name="AutoShape 22"/>
            <p:cNvSpPr/>
            <p:nvPr/>
          </p:nvSpPr>
          <p:spPr>
            <a:xfrm flipH="1">
              <a:off x="6857280" y="3886200"/>
              <a:ext cx="1066680" cy="1752480"/>
            </a:xfrm>
            <a:prstGeom prst="rtTriangl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23"/>
            <p:cNvGrpSpPr/>
            <p:nvPr/>
          </p:nvGrpSpPr>
          <p:grpSpPr>
            <a:xfrm>
              <a:off x="7010280" y="5284800"/>
              <a:ext cx="284040" cy="353880"/>
              <a:chOff x="7010280" y="5284800"/>
              <a:chExt cx="284040" cy="353880"/>
            </a:xfrm>
          </p:grpSpPr>
          <mc:AlternateContent>
            <mc:Choice xmlns:a14="http://schemas.microsoft.com/office/drawing/2010/main" Requires="a14">
              <p:sp>
                <p:nvSpPr>
                  <p:cNvPr id="163" name="Object 24"/>
                  <p:cNvSpPr txBox="1"/>
                  <p:nvPr/>
                </p:nvSpPr>
                <p:spPr>
                  <a:xfrm>
                    <a:off x="7130880" y="5284800"/>
                    <a:ext cx="163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Arc 25"/>
              <p:cNvSpPr/>
              <p:nvPr/>
            </p:nvSpPr>
            <p:spPr>
              <a:xfrm>
                <a:off x="7010280" y="5410080"/>
                <a:ext cx="76320" cy="228600"/>
              </a:xfrm>
              <a:custGeom>
                <a:avLst/>
                <a:gdLst>
                  <a:gd name="textAreaLeft" fmla="*/ 0 w 76320"/>
                  <a:gd name="textAreaRight" fmla="*/ 76320 w 7632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65" name="Object 26"/>
              <p:cNvSpPr txBox="1"/>
              <p:nvPr/>
            </p:nvSpPr>
            <p:spPr>
              <a:xfrm>
                <a:off x="6999120" y="4700520"/>
                <a:ext cx="2397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7"/>
              <p:cNvSpPr txBox="1"/>
              <p:nvPr/>
            </p:nvSpPr>
            <p:spPr>
              <a:xfrm>
                <a:off x="8001000" y="4724280"/>
                <a:ext cx="2649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8"/>
              <p:cNvSpPr txBox="1"/>
              <p:nvPr/>
            </p:nvSpPr>
            <p:spPr>
              <a:xfrm>
                <a:off x="6705720" y="5715000"/>
                <a:ext cx="13716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68" name="Group 29"/>
          <p:cNvGrpSpPr/>
          <p:nvPr/>
        </p:nvGrpSpPr>
        <p:grpSpPr>
          <a:xfrm>
            <a:off x="2351160" y="4114800"/>
            <a:ext cx="1611360" cy="979560"/>
            <a:chOff x="2351160" y="4114800"/>
            <a:chExt cx="1611360" cy="979560"/>
          </a:xfrm>
        </p:grpSpPr>
        <p:sp>
          <p:nvSpPr>
            <p:cNvPr id="169" name="AutoShape 30"/>
            <p:cNvSpPr/>
            <p:nvPr/>
          </p:nvSpPr>
          <p:spPr>
            <a:xfrm>
              <a:off x="2351160" y="4713120"/>
              <a:ext cx="228600" cy="381240"/>
            </a:xfrm>
            <a:prstGeom prst="wedgeEllipseCallout">
              <a:avLst>
                <a:gd name="adj1" fmla="val 179861"/>
                <a:gd name="adj2" fmla="val -101250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2884680" y="4114800"/>
                  <a:ext cx="107784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1" name="Object 32"/>
              <p:cNvSpPr txBox="1"/>
              <p:nvPr/>
            </p:nvSpPr>
            <p:spPr>
              <a:xfrm>
                <a:off x="6070680" y="2189160"/>
                <a:ext cx="1412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3"/>
              <p:cNvSpPr txBox="1"/>
              <p:nvPr/>
            </p:nvSpPr>
            <p:spPr>
              <a:xfrm>
                <a:off x="1447920" y="5410080"/>
                <a:ext cx="229068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4"/>
              <p:cNvSpPr txBox="1"/>
              <p:nvPr/>
            </p:nvSpPr>
            <p:spPr>
              <a:xfrm>
                <a:off x="1447920" y="4417920"/>
                <a:ext cx="3484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5"/>
              <p:cNvSpPr txBox="1"/>
              <p:nvPr/>
            </p:nvSpPr>
            <p:spPr>
              <a:xfrm>
                <a:off x="3733920" y="5410080"/>
                <a:ext cx="22622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36"/>
          <p:cNvSpPr/>
          <p:nvPr/>
        </p:nvSpPr>
        <p:spPr>
          <a:xfrm>
            <a:off x="338040" y="4419720"/>
            <a:ext cx="1033560" cy="106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回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7"/>
              <p:cNvSpPr txBox="1"/>
              <p:nvPr/>
            </p:nvSpPr>
            <p:spPr>
              <a:xfrm>
                <a:off x="609480" y="0"/>
                <a:ext cx="7696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被积函数含有根式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或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±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7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62120" y="8096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说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914480" y="880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上三个例子所使用的均为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三角代换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959120" y="1473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角代换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目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化掉根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906480" y="224964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规律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1122480" y="3257640"/>
                <a:ext cx="2197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83" name="Group 7"/>
          <p:cNvGrpSpPr/>
          <p:nvPr/>
        </p:nvGrpSpPr>
        <p:grpSpPr>
          <a:xfrm>
            <a:off x="3637080" y="3213000"/>
            <a:ext cx="2533680" cy="520560"/>
            <a:chOff x="3637080" y="3213000"/>
            <a:chExt cx="2533680" cy="520560"/>
          </a:xfrm>
        </p:grpSpPr>
        <p:sp>
          <p:nvSpPr>
            <p:cNvPr id="184" name="Text Box 8"/>
            <p:cNvSpPr/>
            <p:nvPr/>
          </p:nvSpPr>
          <p:spPr>
            <a:xfrm>
              <a:off x="3637080" y="3213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Object 9"/>
                <p:cNvSpPr txBox="1"/>
                <p:nvPr/>
              </p:nvSpPr>
              <p:spPr>
                <a:xfrm>
                  <a:off x="4481640" y="3303360"/>
                  <a:ext cx="168912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1122480" y="4172040"/>
                <a:ext cx="2235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7" name="Text Box 11"/>
          <p:cNvSpPr/>
          <p:nvPr/>
        </p:nvSpPr>
        <p:spPr>
          <a:xfrm>
            <a:off x="3637080" y="41720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4519440" y="4280040"/>
                <a:ext cx="1778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3"/>
              <p:cNvSpPr txBox="1"/>
              <p:nvPr/>
            </p:nvSpPr>
            <p:spPr>
              <a:xfrm>
                <a:off x="1122480" y="5111640"/>
                <a:ext cx="22352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90" name="Group 14"/>
          <p:cNvGrpSpPr/>
          <p:nvPr/>
        </p:nvGrpSpPr>
        <p:grpSpPr>
          <a:xfrm>
            <a:off x="3637080" y="5067360"/>
            <a:ext cx="2609280" cy="520560"/>
            <a:chOff x="3637080" y="5067360"/>
            <a:chExt cx="2609280" cy="520560"/>
          </a:xfrm>
        </p:grpSpPr>
        <p:sp>
          <p:nvSpPr>
            <p:cNvPr id="191" name="Text Box 15"/>
            <p:cNvSpPr/>
            <p:nvPr/>
          </p:nvSpPr>
          <p:spPr>
            <a:xfrm>
              <a:off x="3637080" y="5067360"/>
              <a:ext cx="159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Object 16"/>
                <p:cNvSpPr txBox="1"/>
                <p:nvPr/>
              </p:nvSpPr>
              <p:spPr>
                <a:xfrm>
                  <a:off x="4544640" y="5195880"/>
                  <a:ext cx="170172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sec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3" name="Object 17"/>
              <p:cNvSpPr txBox="1"/>
              <p:nvPr/>
            </p:nvSpPr>
            <p:spPr>
              <a:xfrm>
                <a:off x="6380280" y="3029040"/>
                <a:ext cx="17524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6594480" y="4842000"/>
                <a:ext cx="1397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9"/>
              <p:cNvSpPr txBox="1"/>
              <p:nvPr/>
            </p:nvSpPr>
            <p:spPr>
              <a:xfrm>
                <a:off x="6421320" y="4011480"/>
                <a:ext cx="1752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20"/>
          <p:cNvSpPr/>
          <p:nvPr/>
        </p:nvSpPr>
        <p:spPr>
          <a:xfrm>
            <a:off x="3857760" y="2249640"/>
            <a:ext cx="33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被积函数中含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755640" y="1557360"/>
            <a:ext cx="4121280" cy="1674720"/>
            <a:chOff x="755640" y="1557360"/>
            <a:chExt cx="4121280" cy="1674720"/>
          </a:xfrm>
        </p:grpSpPr>
        <p:sp>
          <p:nvSpPr>
            <p:cNvPr id="199" name="Text Box 3"/>
            <p:cNvSpPr/>
            <p:nvPr/>
          </p:nvSpPr>
          <p:spPr>
            <a:xfrm>
              <a:off x="755640" y="1781280"/>
              <a:ext cx="4121280" cy="5205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例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"/>
            <p:cNvSpPr/>
            <p:nvPr/>
          </p:nvSpPr>
          <p:spPr>
            <a:xfrm>
              <a:off x="755640" y="2712960"/>
              <a:ext cx="91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5"/>
                <p:cNvSpPr txBox="1"/>
                <p:nvPr/>
              </p:nvSpPr>
              <p:spPr>
                <a:xfrm>
                  <a:off x="2273400" y="1557360"/>
                  <a:ext cx="209556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2" name="Group 6"/>
          <p:cNvGrpSpPr/>
          <p:nvPr/>
        </p:nvGrpSpPr>
        <p:grpSpPr>
          <a:xfrm>
            <a:off x="1676520" y="2666880"/>
            <a:ext cx="1371600" cy="888840"/>
            <a:chOff x="1676520" y="2666880"/>
            <a:chExt cx="1371600" cy="888840"/>
          </a:xfrm>
        </p:grpSpPr>
        <p:sp>
          <p:nvSpPr>
            <p:cNvPr id="203" name="Text Box 7"/>
            <p:cNvSpPr/>
            <p:nvPr/>
          </p:nvSpPr>
          <p:spPr>
            <a:xfrm>
              <a:off x="1676520" y="28335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Object 8"/>
                <p:cNvSpPr txBox="1"/>
                <p:nvPr/>
              </p:nvSpPr>
              <p:spPr>
                <a:xfrm>
                  <a:off x="2210040" y="2666880"/>
                  <a:ext cx="83808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3124080" y="2666880"/>
                <a:ext cx="23241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914400" y="3657600"/>
                <a:ext cx="2095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3048120" y="3657600"/>
                <a:ext cx="33782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2"/>
              <p:cNvSpPr txBox="1"/>
              <p:nvPr/>
            </p:nvSpPr>
            <p:spPr>
              <a:xfrm>
                <a:off x="6426360" y="3657600"/>
                <a:ext cx="21841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3"/>
              <p:cNvSpPr txBox="1"/>
              <p:nvPr/>
            </p:nvSpPr>
            <p:spPr>
              <a:xfrm>
                <a:off x="825480" y="5054760"/>
                <a:ext cx="32893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4"/>
              <p:cNvSpPr txBox="1"/>
              <p:nvPr/>
            </p:nvSpPr>
            <p:spPr>
              <a:xfrm>
                <a:off x="4070520" y="5073480"/>
                <a:ext cx="48258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15"/>
          <p:cNvSpPr/>
          <p:nvPr/>
        </p:nvSpPr>
        <p:spPr>
          <a:xfrm>
            <a:off x="922680" y="2833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914400" y="6858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分母阶数较高时，可采用倒代换，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17"/>
          <p:cNvGraphicFramePr/>
          <p:nvPr/>
        </p:nvGraphicFramePr>
        <p:xfrm>
          <a:off x="7391520" y="533520"/>
          <a:ext cx="7855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33520"/>
                    <a:ext cx="785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Box 8"/>
          <p:cNvSpPr/>
          <p:nvPr/>
        </p:nvSpPr>
        <p:spPr>
          <a:xfrm>
            <a:off x="803916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87520" y="914400"/>
            <a:ext cx="58449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李大潜院士谈学数学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587520" y="2063880"/>
            <a:ext cx="820404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学教育本质上是一种素质教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学生不仅知道许多重要的数学概念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法和结论，而且领会到数学的精神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质和思想方法，这应该是数学教育努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追求的目标，也是衡量数学教学的成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优劣的最根本的依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5919840" y="2173320"/>
            <a:ext cx="2894040" cy="39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"/>
          <p:cNvSpPr/>
          <p:nvPr/>
        </p:nvSpPr>
        <p:spPr>
          <a:xfrm>
            <a:off x="380880" y="849240"/>
            <a:ext cx="815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李大潜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5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毕业于复旦大学数学系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6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复旦大学数学系研究生毕业。历任复旦大学副教授、教授。专于偏微分方程、最优控制理论及有限元法理论。解决了法国科学院院士里翁斯的一个猜测。与谷超豪等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研究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非线性双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型方程组和多元混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型偏微分方程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获国家自然科学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二等奖。主编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限元素法在电法测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的应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合著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拟线性双曲型方程组的边值问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4103640" y="2743200"/>
            <a:ext cx="44308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38080" y="914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90720" y="19051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76520" y="2514600"/>
            <a:ext cx="6553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掌握第二类换元积分法的基本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熟悉第二类换元积分法的基本类型：根式代换、三角代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066680" y="4200480"/>
            <a:ext cx="1524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743200" y="4267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会用第二类换元积分法解决一些特定积分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1295280" y="1752480"/>
            <a:ext cx="1524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1523880" y="269064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通过实例引入，由于不能用直接积分法和第一类换元积分法，引导学生探索新的积分方法——第二类换元积分法。帮学生树立解决问题的信心，培养严密的逻辑思维能力，培养学生严谨的学习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90720" y="1371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257640" y="3790800"/>
            <a:ext cx="48956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熟练掌握第二类换元积分法的换元技巧——根式代换、三角代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00400" y="1523880"/>
            <a:ext cx="4572000" cy="752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二类换元积分法的基本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第二类换元积分法的换元技巧——根式代换、三角代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022760" y="155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535120" y="1392120"/>
                <a:ext cx="1638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" name="Rectangle 4"/>
          <p:cNvSpPr/>
          <p:nvPr/>
        </p:nvSpPr>
        <p:spPr>
          <a:xfrm>
            <a:off x="539640" y="2581200"/>
            <a:ext cx="8353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该不定积分不能直接积分，也不属于常见的凑微分法的类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该积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矛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被积函数含有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为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去掉根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我们可以做变量代换，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3635280" y="5229360"/>
                <a:ext cx="10033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838080" y="609480"/>
            <a:ext cx="3353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类换元积分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853920" y="18320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  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2149560" y="1917720"/>
                <a:ext cx="1003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Rectangle 4"/>
          <p:cNvSpPr/>
          <p:nvPr/>
        </p:nvSpPr>
        <p:spPr>
          <a:xfrm>
            <a:off x="3373560" y="18320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184640" y="1903320"/>
                <a:ext cx="876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5840280" y="2000160"/>
                <a:ext cx="1359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7"/>
          <p:cNvSpPr/>
          <p:nvPr/>
        </p:nvSpPr>
        <p:spPr>
          <a:xfrm>
            <a:off x="1573200" y="24084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2548080" y="2532240"/>
                <a:ext cx="1638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4456080" y="2577960"/>
                <a:ext cx="1511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"/>
              <p:cNvSpPr txBox="1"/>
              <p:nvPr/>
            </p:nvSpPr>
            <p:spPr>
              <a:xfrm>
                <a:off x="6254640" y="2577960"/>
                <a:ext cx="2413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2311560" y="3538440"/>
                <a:ext cx="2387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2"/>
              <p:cNvSpPr txBox="1"/>
              <p:nvPr/>
            </p:nvSpPr>
            <p:spPr>
              <a:xfrm>
                <a:off x="4815000" y="3763800"/>
                <a:ext cx="2793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Rectangle 13"/>
          <p:cNvSpPr/>
          <p:nvPr/>
        </p:nvSpPr>
        <p:spPr>
          <a:xfrm>
            <a:off x="641520" y="46238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述用的变量代换求积分的方法就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变量置换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1071720" y="828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5"/>
              <p:cNvSpPr txBox="1"/>
              <p:nvPr/>
            </p:nvSpPr>
            <p:spPr>
              <a:xfrm>
                <a:off x="2654280" y="727200"/>
                <a:ext cx="16383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" name="Rectangle 17"/>
          <p:cNvSpPr/>
          <p:nvPr/>
        </p:nvSpPr>
        <p:spPr>
          <a:xfrm>
            <a:off x="1214280" y="52840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变量置换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也称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第二换元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657360" y="1527120"/>
                <a:ext cx="1751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72000" y="2422440"/>
                <a:ext cx="2970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" name="Object 4"/>
          <p:cNvGraphicFramePr/>
          <p:nvPr/>
        </p:nvGraphicFramePr>
        <p:xfrm>
          <a:off x="2379600" y="1488960"/>
          <a:ext cx="13953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0" y="1488960"/>
                    <a:ext cx="13953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Group 5"/>
          <p:cNvGrpSpPr/>
          <p:nvPr/>
        </p:nvGrpSpPr>
        <p:grpSpPr>
          <a:xfrm>
            <a:off x="2522520" y="1879560"/>
            <a:ext cx="1230480" cy="63360"/>
            <a:chOff x="2522520" y="1879560"/>
            <a:chExt cx="1230480" cy="63360"/>
          </a:xfrm>
        </p:grpSpPr>
        <p:sp>
          <p:nvSpPr>
            <p:cNvPr id="95" name="Line 6"/>
            <p:cNvSpPr/>
            <p:nvPr/>
          </p:nvSpPr>
          <p:spPr>
            <a:xfrm>
              <a:off x="2522520" y="187956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2533680" y="194292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2590920" y="2514600"/>
                <a:ext cx="1979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Line 9"/>
          <p:cNvSpPr/>
          <p:nvPr/>
        </p:nvSpPr>
        <p:spPr>
          <a:xfrm>
            <a:off x="5451480" y="3032280"/>
            <a:ext cx="107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3963960" y="1517760"/>
                <a:ext cx="2970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Text Box 12"/>
          <p:cNvSpPr/>
          <p:nvPr/>
        </p:nvSpPr>
        <p:spPr>
          <a:xfrm>
            <a:off x="4267080" y="3962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回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4114800" y="2971800"/>
                <a:ext cx="134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4"/>
              <p:cNvSpPr txBox="1"/>
              <p:nvPr/>
            </p:nvSpPr>
            <p:spPr>
              <a:xfrm>
                <a:off x="5035680" y="2550960"/>
                <a:ext cx="1141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1:06:17Z</dcterms:created>
  <dc:creator/>
  <dc:description/>
  <cp:keywords/>
  <dc:language>en-US</dc:language>
  <cp:lastModifiedBy>Windows User</cp:lastModifiedBy>
  <dcterms:modified xsi:type="dcterms:W3CDTF">2018-04-03T09:58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  <property fmtid="{D5CDD505-2E9C-101B-9397-08002B2CF9AE}" pid="3" name="Version">
    <vt:r8>1</vt:r8>
  </property>
</Properties>
</file>