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7.wmf" ContentType="image/x-wmf"/>
  <Override PartName="/ppt/media/image26.wmf" ContentType="image/x-wmf"/>
  <Override PartName="/ppt/media/image6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81C-DE14-499A-8DF7-C0FAD4B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F9E-B405-4BC7-9BF5-71B9F9F5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4D9-B812-4C9B-8E1A-805D3590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0A1-77CF-4575-B9E4-7D5180E5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8B3-CF28-48F9-A380-D440A7A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5EF-FFC0-473B-80F8-2504A51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6EF-3F5C-4F71-AA0F-EB3F9B6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6A6-624C-4017-8F40-76F7D118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157-A892-49B9-A321-220A2B5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DAF-90F9-4F09-8BD7-933BE266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C83-6A6E-4EDE-8876-EEC4DEA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990-4D7B-4205-838E-F384828C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AA97-65D3-4C27-9B92-022518C0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486080" y="190512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3.2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积分的基本公式和法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4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0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762120" y="762120"/>
            <a:ext cx="7467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积分的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5"/>
          <p:cNvGraphicFramePr/>
          <p:nvPr/>
        </p:nvGraphicFramePr>
        <p:xfrm>
          <a:off x="1066680" y="1828800"/>
          <a:ext cx="51818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5181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62120" y="762120"/>
            <a:ext cx="7467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积分的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990720" y="1752480"/>
          <a:ext cx="525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525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2362320" y="54864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066680" y="990720"/>
            <a:ext cx="7162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2666880" y="838080"/>
            <a:ext cx="4343400" cy="762120"/>
            <a:chOff x="2666880" y="838080"/>
            <a:chExt cx="4343400" cy="762120"/>
          </a:xfrm>
        </p:grpSpPr>
        <p:graphicFrame>
          <p:nvGraphicFramePr>
            <p:cNvPr id="91" name="Object 6"/>
            <p:cNvGraphicFramePr/>
            <p:nvPr/>
          </p:nvGraphicFramePr>
          <p:xfrm>
            <a:off x="2666880" y="838080"/>
            <a:ext cx="838440" cy="7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838080"/>
                      <a:ext cx="8384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7"/>
            <p:cNvGraphicFramePr/>
            <p:nvPr/>
          </p:nvGraphicFramePr>
          <p:xfrm>
            <a:off x="5715000" y="990720"/>
            <a:ext cx="1295280" cy="5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990720"/>
                      <a:ext cx="129528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Text Box 9"/>
          <p:cNvSpPr/>
          <p:nvPr/>
        </p:nvSpPr>
        <p:spPr>
          <a:xfrm>
            <a:off x="1143000" y="19810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143000" y="182880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133720" y="198108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4"/>
          <p:cNvGraphicFramePr/>
          <p:nvPr/>
        </p:nvGraphicFramePr>
        <p:xfrm>
          <a:off x="3048120" y="1752480"/>
          <a:ext cx="51814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752480"/>
                    <a:ext cx="5181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5"/>
          <p:cNvGraphicFramePr/>
          <p:nvPr/>
        </p:nvGraphicFramePr>
        <p:xfrm>
          <a:off x="3048120" y="2743200"/>
          <a:ext cx="480672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2743200"/>
                    <a:ext cx="4806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62120" y="762120"/>
            <a:ext cx="7467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积分的基本运算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2120" y="1905120"/>
            <a:ext cx="746748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法则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法则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057400" y="1905120"/>
            <a:ext cx="5867280" cy="1523880"/>
            <a:chOff x="2057400" y="1905120"/>
            <a:chExt cx="5867280" cy="1523880"/>
          </a:xfrm>
        </p:grpSpPr>
        <p:graphicFrame>
          <p:nvGraphicFramePr>
            <p:cNvPr id="106" name="Object 6"/>
            <p:cNvGraphicFramePr/>
            <p:nvPr/>
          </p:nvGraphicFramePr>
          <p:xfrm>
            <a:off x="2057400" y="1905120"/>
            <a:ext cx="586728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86728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7"/>
            <p:cNvGraphicFramePr/>
            <p:nvPr/>
          </p:nvGraphicFramePr>
          <p:xfrm>
            <a:off x="2057400" y="2819520"/>
            <a:ext cx="35812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2819520"/>
                      <a:ext cx="3581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838080" y="990720"/>
            <a:ext cx="7162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1905120" y="914400"/>
          <a:ext cx="2438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14400"/>
                    <a:ext cx="2438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0"/>
          <p:cNvSpPr/>
          <p:nvPr/>
        </p:nvSpPr>
        <p:spPr>
          <a:xfrm>
            <a:off x="1066680" y="182880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9810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根据积分法则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981080" y="26668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3"/>
          <p:cNvGraphicFramePr/>
          <p:nvPr/>
        </p:nvGraphicFramePr>
        <p:xfrm>
          <a:off x="1981080" y="2500200"/>
          <a:ext cx="289584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00200"/>
                    <a:ext cx="28958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4"/>
          <p:cNvGraphicFramePr/>
          <p:nvPr/>
        </p:nvGraphicFramePr>
        <p:xfrm>
          <a:off x="4995720" y="2514600"/>
          <a:ext cx="2579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5720" y="2514600"/>
                    <a:ext cx="2579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5"/>
          <p:cNvGraphicFramePr/>
          <p:nvPr/>
        </p:nvGraphicFramePr>
        <p:xfrm>
          <a:off x="4572000" y="3429000"/>
          <a:ext cx="2633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429000"/>
                    <a:ext cx="2633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"/>
          <p:cNvGrpSpPr/>
          <p:nvPr/>
        </p:nvGrpSpPr>
        <p:grpSpPr>
          <a:xfrm>
            <a:off x="838080" y="838080"/>
            <a:ext cx="7162920" cy="838440"/>
            <a:chOff x="838080" y="838080"/>
            <a:chExt cx="7162920" cy="838440"/>
          </a:xfrm>
        </p:grpSpPr>
        <p:sp>
          <p:nvSpPr>
            <p:cNvPr id="125" name="Text Box 4"/>
            <p:cNvSpPr/>
            <p:nvPr/>
          </p:nvSpPr>
          <p:spPr>
            <a:xfrm>
              <a:off x="838080" y="990720"/>
              <a:ext cx="7162920" cy="459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例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"/>
                  <a:ea typeface="楷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Object 5"/>
            <p:cNvGraphicFramePr/>
            <p:nvPr/>
          </p:nvGraphicFramePr>
          <p:xfrm>
            <a:off x="1981080" y="838080"/>
            <a:ext cx="198144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838080"/>
                      <a:ext cx="198144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8" name="Text Box 8"/>
          <p:cNvSpPr/>
          <p:nvPr/>
        </p:nvSpPr>
        <p:spPr>
          <a:xfrm>
            <a:off x="1066680" y="1828800"/>
            <a:ext cx="573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2057400" y="1676520"/>
          <a:ext cx="23623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676520"/>
                    <a:ext cx="2362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0"/>
          <p:cNvGraphicFramePr/>
          <p:nvPr/>
        </p:nvGraphicFramePr>
        <p:xfrm>
          <a:off x="4635360" y="1638360"/>
          <a:ext cx="200664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5360" y="1638360"/>
                    <a:ext cx="2006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1"/>
          <p:cNvGraphicFramePr/>
          <p:nvPr/>
        </p:nvGraphicFramePr>
        <p:xfrm>
          <a:off x="4152960" y="2600280"/>
          <a:ext cx="277956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2960" y="2600280"/>
                    <a:ext cx="2779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838080" y="533520"/>
            <a:ext cx="40068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微积分符号史漫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3" descr=""/>
          <p:cNvPicPr/>
          <p:nvPr/>
        </p:nvPicPr>
        <p:blipFill>
          <a:blip r:embed="rId1"/>
          <a:stretch/>
        </p:blipFill>
        <p:spPr>
          <a:xfrm>
            <a:off x="743040" y="1371600"/>
            <a:ext cx="7638840" cy="490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3" descr=""/>
          <p:cNvPicPr/>
          <p:nvPr/>
        </p:nvPicPr>
        <p:blipFill>
          <a:blip r:embed="rId1"/>
          <a:stretch/>
        </p:blipFill>
        <p:spPr>
          <a:xfrm>
            <a:off x="871560" y="689040"/>
            <a:ext cx="7736040" cy="23353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" descr=""/>
          <p:cNvPicPr/>
          <p:nvPr/>
        </p:nvPicPr>
        <p:blipFill>
          <a:blip r:embed="rId2"/>
          <a:stretch/>
        </p:blipFill>
        <p:spPr>
          <a:xfrm>
            <a:off x="774720" y="2908440"/>
            <a:ext cx="783900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矩形 3" descr=""/>
          <p:cNvPicPr/>
          <p:nvPr/>
        </p:nvPicPr>
        <p:blipFill>
          <a:blip r:embed="rId1"/>
          <a:stretch/>
        </p:blipFill>
        <p:spPr>
          <a:xfrm>
            <a:off x="743040" y="585720"/>
            <a:ext cx="7516800" cy="3187800"/>
          </a:xfrm>
          <a:prstGeom prst="rect">
            <a:avLst/>
          </a:prstGeom>
          <a:ln w="0">
            <a:noFill/>
          </a:ln>
        </p:spPr>
      </p:pic>
      <p:pic>
        <p:nvPicPr>
          <p:cNvPr id="56" name="矩形 1" descr=""/>
          <p:cNvPicPr/>
          <p:nvPr/>
        </p:nvPicPr>
        <p:blipFill>
          <a:blip r:embed="rId2"/>
          <a:stretch/>
        </p:blipFill>
        <p:spPr>
          <a:xfrm>
            <a:off x="743040" y="3681360"/>
            <a:ext cx="827244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矩形 3" descr=""/>
          <p:cNvPicPr/>
          <p:nvPr/>
        </p:nvPicPr>
        <p:blipFill>
          <a:blip r:embed="rId1"/>
          <a:stretch/>
        </p:blipFill>
        <p:spPr>
          <a:xfrm>
            <a:off x="822240" y="993600"/>
            <a:ext cx="7248600" cy="455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14400" y="762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590920" y="197964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不定积分的基本公式及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914400" y="3048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430800" y="3085200"/>
            <a:ext cx="277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学会推导不定积分的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914400" y="42670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2590920" y="43362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训练学生严密的逻辑推理能力，培养耐心，细致的学习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76720" y="2057400"/>
            <a:ext cx="48765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不定积分的基本公式及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322800" y="3809880"/>
            <a:ext cx="292572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积分公式的推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38080" y="1981080"/>
          <a:ext cx="7543800" cy="137160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导入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求导数有基本的求导公式，而不定积分作为求导运算的逆运算，是否也有相应的基本积分公式呢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62120" y="762120"/>
            <a:ext cx="7467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"/>
              </a:rPr>
              <a:t>积分的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219320" y="1600200"/>
          <a:ext cx="4267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4267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1219320" y="4343400"/>
          <a:ext cx="3200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3200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8-04-05T02:40:25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